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C17-F711-4D33-8C94-81FA77C9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6DB-CEB5-429C-A0A4-F1F59F90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13F-7807-41F5-9015-8EA08FA1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6AE-88B4-4DB3-8A31-32472341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80F-AECA-48FC-B5EB-F3678EBA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E93-E1E1-465A-BDB9-5E4673B6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D65-43BB-405F-8E69-4FE50D66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7FA-5EDE-46D4-A28C-F1A4BD06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0EE-98D3-4161-B22B-5D3C6670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60E-D776-40E0-9776-51398D2E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DCA-F717-4EDF-BF0F-E273F3BC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E20-EF15-4ABA-94FC-98C19014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04A4-5271-448F-8E06-74B81D601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08000" y="0"/>
            <a:ext cx="7056720" cy="6496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979640" y="2421000"/>
            <a:ext cx="6842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Times New Roman"/>
              </a:rPr>
              <a:t>АКТУАЛЬНІ ПИТАННЯ ПІДГОТОВКИ ТА ПРОВЕДЕННЯ ЗНО-20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4" name="Picture 4" descr="logo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</a:t>
            </a: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00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04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Заголовок 1"/>
          <p:cNvSpPr/>
          <p:nvPr/>
        </p:nvSpPr>
        <p:spPr>
          <a:xfrm>
            <a:off x="1727280" y="333360"/>
            <a:ext cx="741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ТОДИЧНА ПІДТРИМКА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uk-UA" sz="2000" spc="-1" strike="noStrike">
                <a:solidFill>
                  <a:srgbClr val="ff3300"/>
                </a:solidFill>
                <a:latin typeface="Times New Roman"/>
              </a:rPr>
              <a:t>АНКЕТУВАННЯ УЧАСНИКІВ ПРОБНОГО ЗНО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8"/>
          <p:cNvGraphicFramePr/>
          <p:nvPr/>
        </p:nvGraphicFramePr>
        <p:xfrm>
          <a:off x="2124000" y="1844640"/>
          <a:ext cx="6480360" cy="464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844640"/>
                    <a:ext cx="648036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9"/>
          <p:cNvSpPr/>
          <p:nvPr/>
        </p:nvSpPr>
        <p:spPr>
          <a:xfrm>
            <a:off x="2484360" y="148428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рми пі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79640" y="148392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ведення науково-практичних семінарі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НО у контексті підвищення якості осві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знайомлення із предметними програмами та характеристиками (специфікаціями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ведення тренувального тестув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знайомлення із офіційним виданням УЦОЯ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14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:</a:t>
            </a:r>
            <a:br>
              <a:rPr sz="32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участь у науково-практичних семінарах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19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7"/>
          <p:cNvSpPr/>
          <p:nvPr/>
        </p:nvSpPr>
        <p:spPr>
          <a:xfrm>
            <a:off x="1692360" y="1700280"/>
            <a:ext cx="74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айони, які не були присутні на семінарах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еографі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Коломацький, Чугуївсь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сторія Украї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ївс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ноземна м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 м. Лоз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мінтернівс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сійська мов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 Барвінківський, Богодухівський, Краснокутський, Сахновщинський, Комінтернівсь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:</a:t>
            </a:r>
            <a:br>
              <a:rPr sz="32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тренувальне тестування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25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3"/>
          <p:cNvSpPr/>
          <p:nvPr/>
        </p:nvSpPr>
        <p:spPr>
          <a:xfrm>
            <a:off x="1979640" y="1484280"/>
            <a:ext cx="7021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бірка завдань з кожного предмета укладена з урахуванням технічних характеристик тестів 2012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 тестування нараховується одразу після завершення виконання завд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 тестування нараховується у «сирих» тестових балах без переведення у шкалу [100-2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001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ренувальне тестування буде проводитися безкоштов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30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3276720" y="1197000"/>
            <a:ext cx="4206600" cy="5489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1332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:</a:t>
            </a:r>
            <a:br>
              <a:rPr sz="32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офіційне видання УЦОЯО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07640" y="1916280"/>
            <a:ext cx="702180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доведення до кожного випускника змістовної інформації з використанням матеріалів семінарів, програм та характеристик тестів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розділ “Методичний порадник” сайт ХРЦОЯ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4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надання доступу до Інтернет з метою участі у тренувальному тестуванні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розділ “Тренувальне тестування” сайт ХРЦОЯ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4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38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8"/>
          <p:cNvSpPr/>
          <p:nvPr/>
        </p:nvSpPr>
        <p:spPr>
          <a:xfrm>
            <a:off x="395280" y="321300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ПІДТРИМКА</a:t>
            </a: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44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48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Заголовок 1"/>
          <p:cNvSpPr/>
          <p:nvPr/>
        </p:nvSpPr>
        <p:spPr>
          <a:xfrm>
            <a:off x="1727280" y="333360"/>
            <a:ext cx="741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ІНФОРМАЦІЙНА КАМПАНІЯ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uk-UA" sz="2000" spc="-1" strike="noStrike">
                <a:solidFill>
                  <a:srgbClr val="ff3300"/>
                </a:solidFill>
                <a:latin typeface="Times New Roman"/>
              </a:rPr>
              <a:t>АНКЕТУВАННЯ УЧАСНИКІВ ПРОБНОГО ЗНО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0"/>
          <p:cNvGraphicFramePr/>
          <p:nvPr/>
        </p:nvGraphicFramePr>
        <p:xfrm>
          <a:off x="2195640" y="1989000"/>
          <a:ext cx="6319800" cy="4530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1989000"/>
                    <a:ext cx="631980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11"/>
          <p:cNvSpPr/>
          <p:nvPr/>
        </p:nvSpPr>
        <p:spPr>
          <a:xfrm>
            <a:off x="2484360" y="148428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жерела інфор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КАМПАН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уроків інформатики щодо ознайомлення з інтернет-ресурсами щодо З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інформаційних куточків «ЗНО-2012» у кожному ЗН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 уніфікованою інформац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спільних з випускниками батьківських зборів з використання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іфікованої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езент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дання поліграфічної продукції щодо особливостей ЗНО-2012 кожному випуск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58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НОРМАТИВНА Б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8000" y="980640"/>
            <a:ext cx="70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6640" indent="-296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ОНМСУ від 14.0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 №791 “Про затвердження програм ЗНО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-296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ОНМСУ від 09.0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 №946 “Про ЗНО навчальних досягнень осіб, які виявили бажання вступати до ВНЗ України в 2012 роц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-296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ОНМСУ від 12.1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 №1179 “Про затвердження Умов прийому до ВНЗ України в 2012 роц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-296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ОНМСУ від 14.1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 №1192 “Про внесення змін до наказу МОНМСУ від 09.08.11 №946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-296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ОНМСУ від 23.1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 №1346 “Про затвердження календарного плану підготовки та проведення ЗНО навчальних досягнень осіб, які виявили бажання вступати до ВНЗ України в 2012 роц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-2966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ОНМСУ ві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1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 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25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“Про затвердження нормативно-правових актів щодо проведення ЗНО навчальних досягнень випускників навчальних закладів системи загальної середньої освіти в 2012 році”</a:t>
            </a:r>
            <a:r>
              <a:rPr b="0" lang="uk-UA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50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КАМПАНІЯ:</a:t>
            </a:r>
            <a:br>
              <a:rPr sz="2800"/>
            </a:br>
            <a:r>
              <a:rPr b="1" lang="uk-UA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ведення уроків і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6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7"/>
          <p:cNvSpPr/>
          <p:nvPr/>
        </p:nvSpPr>
        <p:spPr>
          <a:xfrm>
            <a:off x="0" y="3504960"/>
            <a:ext cx="1692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ього проведено урок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ЗНЗ Харківської області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93%)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. Харків –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74 (94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Харківська область –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452 (93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79640" y="944640"/>
          <a:ext cx="7164360" cy="5943600"/>
        </p:xfrm>
        <a:graphic>
          <a:graphicData uri="http://schemas.openxmlformats.org/drawingml/2006/table">
            <a:tbl>
              <a:tblPr/>
              <a:tblGrid>
                <a:gridCol w="2047680"/>
                <a:gridCol w="2046600"/>
                <a:gridCol w="2257200"/>
                <a:gridCol w="8128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то/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ЗНЗ,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ють випускникі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ЗНЗ,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овели урок інформа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ів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ків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урлуць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пилів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чів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мац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град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кут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зів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водолаз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новщин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гуїв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вченків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Ізю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Куп'янсь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Чугу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зержинсь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ївсь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360" y="274320"/>
            <a:ext cx="395928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оліграфічна продукція ХРЦОЯ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5815080" y="0"/>
            <a:ext cx="32148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71" name="Picture 6" descr="logo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КАМПАН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79640" y="148392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я інформаційних куточків «ЗНО-2012» у кожному ЗН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 уніфікованою інформацією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розділ “ЗНО” сайт відділу осві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до 21.12.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я спільних з випускниками батьківських зборів з використання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іфікованої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езентації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розділ “Адміністрування” сайт ХРЦОЯ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до 20.01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я передачі поліграфічної продукції щодо особливостей ЗНО-2012 кожному випускн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до 21.12.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дання доступу до Інтернет з метою ознайомлення з інформацією на сайті ХРЦОЯ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77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8"/>
          <p:cNvSpPr/>
          <p:nvPr/>
        </p:nvSpPr>
        <p:spPr>
          <a:xfrm>
            <a:off x="395280" y="321300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8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 (01.01-20.02.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88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20"/>
          <p:cNvSpPr/>
          <p:nvPr/>
        </p:nvSpPr>
        <p:spPr>
          <a:xfrm>
            <a:off x="1908000" y="83664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ідготува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пі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спор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свідоцтва про народже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від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із навчального закладу за визначеною формо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опію атестат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і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токар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озміром 3х4 с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 копіях написати Із оригіналом згідно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без лапок),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поставити підпи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значити прізвище, ініціали та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3"/>
          <p:cNvSpPr/>
          <p:nvPr/>
        </p:nvSpPr>
        <p:spPr>
          <a:xfrm>
            <a:off x="1979640" y="2924280"/>
            <a:ext cx="6967440" cy="20080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* Скачати із сайт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ХРЦОЯО програму для реєстр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* Попрацювати із програмо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поля у програм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друкувати Заяву-реєстраційну карт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внити верхню частину Зая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клеї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і фотокарт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друкувати Контрольно-інформаційний 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берігаєть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* Самостійно або у пункті реєстраці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1979640" y="5084640"/>
            <a:ext cx="6985080" cy="576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діслати поштою комплект документ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 адресу ХРЦОЯ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1979640" y="5805360"/>
            <a:ext cx="6985080" cy="648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Отримати поштою </a:t>
            </a:r>
            <a:r>
              <a:rPr b="1" lang="uk-UA" sz="1800" spc="-1" strike="noStrike">
                <a:solidFill>
                  <a:srgbClr val="ff3300"/>
                </a:solidFill>
                <a:latin typeface="Tahoma"/>
              </a:rPr>
              <a:t>Сертифі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96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2"/>
          <p:cNvSpPr/>
          <p:nvPr/>
        </p:nvSpPr>
        <p:spPr>
          <a:xfrm>
            <a:off x="1405080" y="260280"/>
            <a:ext cx="77389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ОРМА ДОВІ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2"/>
          <a:stretch/>
        </p:blipFill>
        <p:spPr>
          <a:xfrm>
            <a:off x="3348000" y="1052640"/>
            <a:ext cx="403560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ОВТОРНА РЕЄСТРАЦІЯ             (до 05.03.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0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AutoShape 20"/>
          <p:cNvSpPr/>
          <p:nvPr/>
        </p:nvSpPr>
        <p:spPr>
          <a:xfrm>
            <a:off x="1908000" y="400536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 разі відмови в реєстрації (за рішенням регламентної комісії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дання не всіх документів або неналежне оформлення комплек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окументів тощ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та надіслати компл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окументів, усунувши причини, що стали підставою для відмо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1908000" y="170028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разі внесення змін до реєстраційних да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та надіслати крім комплек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окументів Сертифікат, отриманий рані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41400" y="5432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979640" y="806400"/>
            <a:ext cx="6873840" cy="47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Rectangle 5"/>
          <p:cNvSpPr/>
          <p:nvPr/>
        </p:nvSpPr>
        <p:spPr>
          <a:xfrm>
            <a:off x="2184480" y="907920"/>
            <a:ext cx="1235160" cy="154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2827440" y="2092320"/>
            <a:ext cx="1106280" cy="615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5630760" y="1523880"/>
            <a:ext cx="893880" cy="295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7924680" y="1512720"/>
            <a:ext cx="878040" cy="31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1547640" y="0"/>
            <a:ext cx="7417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СЕРТИФІКАТ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1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16" name="Picture 12" descr="logo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417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(ПЕРСОНАЛЬНА, ЕЛЕКТРОННА) СТОРІ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0"/>
          <p:cNvSpPr/>
          <p:nvPr/>
        </p:nvSpPr>
        <p:spPr>
          <a:xfrm>
            <a:off x="1835280" y="1577880"/>
            <a:ext cx="6984720" cy="1994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юється на сайті Українського центру оцінювання якості осві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оступ здійснюється за номером Сертифіката та pin-код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казаним у ньому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1846440" y="3943440"/>
            <a:ext cx="6933960" cy="21081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міщується інформація щодо реєстраційних да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міщується Запрошення-перепуску із зазначенням місц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ташування пункту тестування та часу початку ЗНО, яку мож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друкувати самостій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міщується Інформаційну картку із результатами З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ку необхідно роздрукувати самостій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7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23" name="Picture 8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0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41672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ПУНКТИ РЕЄСТРАЦІЇ (проек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9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136000" cy="54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СОБЛИВОСТІ ЗНО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4920" y="1267920"/>
            <a:ext cx="701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ня до переліку тестів всесвітньої істо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ання можливості складання тестів не більше як із 4-х предме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ідвищення мінімальної кількості балів з профільних предметів до 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ня тестувань з української мови та літератури, математики та історії України у 2 сес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чення терміну реєст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56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79640" y="148392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27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дання доступу до Інтернет та оргтехніки з метою реєстрації випускників та доступу до їх інформаційних сторі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Arial"/>
              </a:rPr>
              <a:t>з 11.01.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31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8"/>
          <p:cNvSpPr/>
          <p:nvPr/>
        </p:nvSpPr>
        <p:spPr>
          <a:xfrm>
            <a:off x="395280" y="321300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ОРГАНІЗАЦІЙНА РО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37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41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8"/>
          <p:cNvSpPr/>
          <p:nvPr/>
        </p:nvSpPr>
        <p:spPr>
          <a:xfrm>
            <a:off x="1908000" y="76500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6-56,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ГРАМА ДЛЯ РЕЄСТРАЦ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47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51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223524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56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Picture 7" descr=""/>
          <p:cNvPicPr/>
          <p:nvPr/>
        </p:nvPicPr>
        <p:blipFill>
          <a:blip r:embed="rId2"/>
          <a:stretch/>
        </p:blipFill>
        <p:spPr>
          <a:xfrm>
            <a:off x="2195640" y="0"/>
            <a:ext cx="541944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КАЛЕНДАР ПРОВЕДЕНН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34920" y="1196640"/>
            <a:ext cx="701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дання реєстраційних документів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1.01. - 20.02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пробного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.03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1.03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З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хім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5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сійська мов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7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еограф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9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атематик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1.05, 22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сесвітня істор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оземні мов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6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країнська мова і літератур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8.05, 29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сторія Україн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1.05, 01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ізик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5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іологія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7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голошення результатів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0.05 – 01.07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додаткової сесії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8.06 - 23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2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ЛАН СПІЛЬНИХ ДІЙ                ХРЦОЯО та ГУОН ХОД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34920" y="1699920"/>
            <a:ext cx="701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робне З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тодична підтри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нформаційна підтри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Організаційна ро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8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-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7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Заголовок 1"/>
          <p:cNvSpPr/>
          <p:nvPr/>
        </p:nvSpPr>
        <p:spPr>
          <a:xfrm>
            <a:off x="1727280" y="333360"/>
            <a:ext cx="741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 ЗНО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uk-UA" sz="2000" spc="-1" strike="noStrike">
                <a:solidFill>
                  <a:srgbClr val="ff3300"/>
                </a:solidFill>
                <a:latin typeface="Times New Roman"/>
              </a:rPr>
              <a:t>АНКЕТУВАННЯ УЧАСНИКІВ ПРОБНОГО ЗНО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8"/>
          <p:cNvGraphicFramePr/>
          <p:nvPr/>
        </p:nvGraphicFramePr>
        <p:xfrm>
          <a:off x="1835280" y="2133720"/>
          <a:ext cx="7127640" cy="438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133720"/>
                    <a:ext cx="712764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9"/>
          <p:cNvSpPr/>
          <p:nvPr/>
        </p:nvSpPr>
        <p:spPr>
          <a:xfrm>
            <a:off x="2484360" y="148428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а участі у пробному 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: с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татистика реєстрації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86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" name=""/>
          <p:cNvGraphicFramePr/>
          <p:nvPr/>
        </p:nvGraphicFramePr>
        <p:xfrm>
          <a:off x="1692360" y="907920"/>
          <a:ext cx="7200720" cy="2449800"/>
        </p:xfrm>
        <a:graphic>
          <a:graphicData uri="http://schemas.openxmlformats.org/drawingml/2006/table">
            <a:tbl>
              <a:tblPr/>
              <a:tblGrid>
                <a:gridCol w="1500120"/>
                <a:gridCol w="1563840"/>
                <a:gridCol w="968040"/>
                <a:gridCol w="1224000"/>
                <a:gridCol w="194472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ипускни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но заяв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ч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зареєстрован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тавсь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сь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ківсь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39"/>
          <p:cNvSpPr/>
          <p:nvPr/>
        </p:nvSpPr>
        <p:spPr>
          <a:xfrm>
            <a:off x="1692360" y="3357720"/>
            <a:ext cx="730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ергачівський райо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28,3%зареєстрованих (141 уч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йбільш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Дворічанський район (57%) Кегичівський район  (56 %), Лозівський район (54%) Шевченківський район (53%);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йменше 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Ізюм (16%), м. К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нськ (18%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йбільш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Слатинський НВК (70%), Дергачівський НВК (43,6%), Черкаськолозівська ЗШ (50%),Козачолопанський НВК (45,2%), Солоницівська ЗШ №2 (43,4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йменше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Ветеринарна ЗШ (0%), Дергачівська вечірня (змінна) школа (2,3%), Великопроходівська ЗШ (10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9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7"/>
          <p:cNvSpPr/>
          <p:nvPr/>
        </p:nvSpPr>
        <p:spPr>
          <a:xfrm>
            <a:off x="395280" y="321300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050920" y="1557360"/>
            <a:ext cx="6626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2001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ання доступу до Інтернет та оргтехніки з метою ознайомл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2001"/>
              </a:spcBef>
              <a:buClr>
                <a:srgbClr val="ff505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з Запрошенн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2001"/>
              </a:spcBef>
              <a:buClr>
                <a:srgbClr val="ff505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з схемами доїзду до пунктів пробного тес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з 01.02.201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Zver</cp:lastModifiedBy>
  <dcterms:modified xsi:type="dcterms:W3CDTF">2011-12-16T11:55:48Z</dcterms:modified>
  <cp:revision>128</cp:revision>
  <dc:subject/>
  <dc:title>Слайд 1</dc:title>
</cp:coreProperties>
</file>