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6.wmf" ContentType="image/x-wmf"/>
  <Override PartName="/ppt/media/image9.png" ContentType="image/png"/>
  <Override PartName="/ppt/media/image13.png" ContentType="image/png"/>
  <Override PartName="/ppt/media/image8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7.png" ContentType="image/png"/>
  <Override PartName="/ppt/media/image12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7675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4C52-5E0F-40CE-B30E-02959B36D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07F0-619B-4F4A-A229-3856E304F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CF96-86FD-46E5-9264-08DBB2778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022F-402B-4C7F-8747-C95646A41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0F08-17C0-4C8C-946A-834EE2D4A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DEFB-DDDF-41EE-9D9B-C2D05F28B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8416-42F1-4C77-9B93-5F265C9B3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F6C5-8AAA-4034-B31F-4D2123733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F8B7-1C05-482F-8C12-56F3E35D2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EB05-0E91-47AB-942C-2FB050372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19A6-D851-4DE8-BBF1-6EF12D2A7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03AE-BF22-448C-B88C-DC4CC24A4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39FBB-9F19-4425-AF17-FB9712E3B8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908000" y="0"/>
            <a:ext cx="7056720" cy="64962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3"/>
          <p:cNvSpPr/>
          <p:nvPr/>
        </p:nvSpPr>
        <p:spPr>
          <a:xfrm>
            <a:off x="1979640" y="2421000"/>
            <a:ext cx="684216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3300"/>
                </a:solidFill>
                <a:latin typeface="Times New Roman"/>
              </a:rPr>
              <a:t>АКТУАЛЬНІ ПИТАННЯ ПІДГОТОВКИ ТА ПРОВЕДЕННЯ ЗНО-201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Group 3"/>
          <p:cNvGrpSpPr/>
          <p:nvPr/>
        </p:nvGrpSpPr>
        <p:grpSpPr>
          <a:xfrm>
            <a:off x="108000" y="189000"/>
            <a:ext cx="1728720" cy="6408720"/>
            <a:chOff x="108000" y="189000"/>
            <a:chExt cx="1728720" cy="6408720"/>
          </a:xfrm>
        </p:grpSpPr>
        <p:pic>
          <p:nvPicPr>
            <p:cNvPr id="44" name="Picture 4" descr="logo"/>
            <p:cNvPicPr/>
            <p:nvPr/>
          </p:nvPicPr>
          <p:blipFill>
            <a:blip r:embed="rId2"/>
            <a:stretch/>
          </p:blipFill>
          <p:spPr>
            <a:xfrm>
              <a:off x="179280" y="476280"/>
              <a:ext cx="125748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Rectangle 2"/>
            <p:cNvSpPr/>
            <p:nvPr/>
          </p:nvSpPr>
          <p:spPr>
            <a:xfrm>
              <a:off x="108000" y="1773360"/>
              <a:ext cx="1728720" cy="9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З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ОВНІШНЄ</a:t>
              </a: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Н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ЕЗАЛЕЖНЕ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О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ЦІНЮВАН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Line 6"/>
            <p:cNvSpPr/>
            <p:nvPr/>
          </p:nvSpPr>
          <p:spPr>
            <a:xfrm>
              <a:off x="1692360" y="189000"/>
              <a:ext cx="0" cy="6408720"/>
            </a:xfrm>
            <a:prstGeom prst="line">
              <a:avLst/>
            </a:prstGeom>
            <a:ln w="381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uk-UA" sz="4000" spc="-1" strike="noStrike">
                <a:solidFill>
                  <a:srgbClr val="ff3300"/>
                </a:solidFill>
                <a:latin typeface="Arial"/>
                <a:ea typeface="Times New Roman"/>
              </a:rPr>
              <a:t>МЕТОДИЧНА ПІДТРИМКА</a:t>
            </a:r>
            <a:br>
              <a:rPr sz="3200"/>
            </a:br>
            <a:br>
              <a:rPr sz="32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3"/>
          <p:cNvGrpSpPr/>
          <p:nvPr/>
        </p:nvGrpSpPr>
        <p:grpSpPr>
          <a:xfrm>
            <a:off x="108000" y="189000"/>
            <a:ext cx="1728720" cy="6408720"/>
            <a:chOff x="108000" y="189000"/>
            <a:chExt cx="1728720" cy="6408720"/>
          </a:xfrm>
        </p:grpSpPr>
        <p:pic>
          <p:nvPicPr>
            <p:cNvPr id="100" name="Picture 4" descr="logo"/>
            <p:cNvPicPr/>
            <p:nvPr/>
          </p:nvPicPr>
          <p:blipFill>
            <a:blip r:embed="rId1"/>
            <a:stretch/>
          </p:blipFill>
          <p:spPr>
            <a:xfrm>
              <a:off x="179280" y="476280"/>
              <a:ext cx="125748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Rectangle 2"/>
            <p:cNvSpPr/>
            <p:nvPr/>
          </p:nvSpPr>
          <p:spPr>
            <a:xfrm>
              <a:off x="108000" y="1773360"/>
              <a:ext cx="1728720" cy="9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З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ОВНІШНЄ</a:t>
              </a: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Н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ЕЗАЛЕЖНЕ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О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ЦІНЮВАН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6"/>
            <p:cNvSpPr/>
            <p:nvPr/>
          </p:nvSpPr>
          <p:spPr>
            <a:xfrm>
              <a:off x="1692360" y="189000"/>
              <a:ext cx="0" cy="6408720"/>
            </a:xfrm>
            <a:prstGeom prst="line">
              <a:avLst/>
            </a:prstGeom>
            <a:ln w="381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Group 2"/>
          <p:cNvGrpSpPr/>
          <p:nvPr/>
        </p:nvGrpSpPr>
        <p:grpSpPr>
          <a:xfrm>
            <a:off x="108000" y="189000"/>
            <a:ext cx="1728720" cy="6408720"/>
            <a:chOff x="108000" y="189000"/>
            <a:chExt cx="1728720" cy="6408720"/>
          </a:xfrm>
        </p:grpSpPr>
        <p:pic>
          <p:nvPicPr>
            <p:cNvPr id="104" name="Picture 3" descr="logo"/>
            <p:cNvPicPr/>
            <p:nvPr/>
          </p:nvPicPr>
          <p:blipFill>
            <a:blip r:embed="rId1"/>
            <a:stretch/>
          </p:blipFill>
          <p:spPr>
            <a:xfrm>
              <a:off x="179280" y="476280"/>
              <a:ext cx="125748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Rectangle 2"/>
            <p:cNvSpPr/>
            <p:nvPr/>
          </p:nvSpPr>
          <p:spPr>
            <a:xfrm>
              <a:off x="108000" y="1773360"/>
              <a:ext cx="1728720" cy="9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З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ОВНІШНЄ</a:t>
              </a: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Н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ЕЗАЛЕЖНЕ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О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ЦІНЮВАН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5"/>
            <p:cNvSpPr/>
            <p:nvPr/>
          </p:nvSpPr>
          <p:spPr>
            <a:xfrm>
              <a:off x="1692360" y="189000"/>
              <a:ext cx="0" cy="6408720"/>
            </a:xfrm>
            <a:prstGeom prst="line">
              <a:avLst/>
            </a:prstGeom>
            <a:ln w="381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Заголовок 1"/>
          <p:cNvSpPr/>
          <p:nvPr/>
        </p:nvSpPr>
        <p:spPr>
          <a:xfrm>
            <a:off x="1727280" y="333360"/>
            <a:ext cx="74167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uk-UA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uk-UA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МЕТОДИЧНА ПІДТРИМКА</a:t>
            </a:r>
            <a:r>
              <a:rPr b="1" lang="uk-UA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br>
              <a:rPr sz="3200"/>
            </a:br>
            <a:r>
              <a:rPr b="1" lang="uk-UA" sz="2000" spc="-1" strike="noStrike">
                <a:solidFill>
                  <a:srgbClr val="ff3300"/>
                </a:solidFill>
                <a:latin typeface="Times New Roman"/>
              </a:rPr>
              <a:t>АНКЕТУВАННЯ УЧАСНИКІВ ПРОБНОГО ЗНО-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Object 8"/>
          <p:cNvGraphicFramePr/>
          <p:nvPr/>
        </p:nvGraphicFramePr>
        <p:xfrm>
          <a:off x="2124000" y="1844640"/>
          <a:ext cx="6480360" cy="46450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9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24000" y="1844640"/>
                    <a:ext cx="6480360" cy="464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Text Box 9"/>
          <p:cNvSpPr/>
          <p:nvPr/>
        </p:nvSpPr>
        <p:spPr>
          <a:xfrm>
            <a:off x="2484360" y="1484280"/>
            <a:ext cx="57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Форми підготов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3300"/>
                </a:solidFill>
                <a:latin typeface="Arial"/>
                <a:ea typeface="Times New Roman"/>
              </a:rPr>
              <a:t>МЕТОДИЧНА ПІДТРИМ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979640" y="1483920"/>
            <a:ext cx="70214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80000"/>
              </a:lnSpc>
              <a:spcBef>
                <a:spcPts val="1749"/>
              </a:spcBef>
              <a:buClr>
                <a:srgbClr val="ff5050"/>
              </a:buClr>
              <a:buFont typeface="Wingdings" charset="2"/>
              <a:buChar char="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роведення науково-практичних семінарів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ЗНО у контексті підвищення якості освіт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1749"/>
              </a:spcBef>
              <a:buClr>
                <a:srgbClr val="ff5050"/>
              </a:buClr>
              <a:buFont typeface="Wingdings" charset="2"/>
              <a:buChar char="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Ознайомлення із предметними програмами та характеристиками (специфікаціями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1749"/>
              </a:spcBef>
              <a:buClr>
                <a:srgbClr val="ff5050"/>
              </a:buClr>
              <a:buFont typeface="Wingdings" charset="2"/>
              <a:buChar char="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роведення тренувального тестуванн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1749"/>
              </a:spcBef>
              <a:buClr>
                <a:srgbClr val="ff5050"/>
              </a:buClr>
              <a:buFont typeface="Wingdings" charset="2"/>
              <a:buChar char="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Ознайомлення із офіційним виданням УЦОЯ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Group 4"/>
          <p:cNvGrpSpPr/>
          <p:nvPr/>
        </p:nvGrpSpPr>
        <p:grpSpPr>
          <a:xfrm>
            <a:off x="108000" y="189000"/>
            <a:ext cx="1728720" cy="6408720"/>
            <a:chOff x="108000" y="189000"/>
            <a:chExt cx="1728720" cy="6408720"/>
          </a:xfrm>
        </p:grpSpPr>
        <p:pic>
          <p:nvPicPr>
            <p:cNvPr id="114" name="Picture 5" descr="logo"/>
            <p:cNvPicPr/>
            <p:nvPr/>
          </p:nvPicPr>
          <p:blipFill>
            <a:blip r:embed="rId1"/>
            <a:stretch/>
          </p:blipFill>
          <p:spPr>
            <a:xfrm>
              <a:off x="179280" y="476280"/>
              <a:ext cx="125748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Rectangle 2"/>
            <p:cNvSpPr/>
            <p:nvPr/>
          </p:nvSpPr>
          <p:spPr>
            <a:xfrm>
              <a:off x="108000" y="1773360"/>
              <a:ext cx="1728720" cy="9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З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ОВНІШНЄ</a:t>
              </a: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Н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ЕЗАЛЕЖНЕ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О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ЦІНЮВАН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7"/>
            <p:cNvSpPr/>
            <p:nvPr/>
          </p:nvSpPr>
          <p:spPr>
            <a:xfrm>
              <a:off x="1692360" y="189000"/>
              <a:ext cx="0" cy="6408720"/>
            </a:xfrm>
            <a:prstGeom prst="line">
              <a:avLst/>
            </a:prstGeom>
            <a:ln w="381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32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3300"/>
                </a:solidFill>
                <a:latin typeface="Arial"/>
                <a:ea typeface="Times New Roman"/>
              </a:rPr>
              <a:t>МЕТОДИЧНА ПІДТРИМКА:</a:t>
            </a:r>
            <a:br>
              <a:rPr sz="3200"/>
            </a:br>
            <a:r>
              <a:rPr b="1" lang="uk-UA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участь у науково-практичних семінарах</a:t>
            </a:r>
            <a:r>
              <a:rPr b="1" lang="uk-UA" sz="3200" spc="-1" strike="noStrike">
                <a:solidFill>
                  <a:srgbClr val="ff33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Group 4"/>
          <p:cNvGrpSpPr/>
          <p:nvPr/>
        </p:nvGrpSpPr>
        <p:grpSpPr>
          <a:xfrm>
            <a:off x="108000" y="189000"/>
            <a:ext cx="1728720" cy="6408720"/>
            <a:chOff x="108000" y="189000"/>
            <a:chExt cx="1728720" cy="6408720"/>
          </a:xfrm>
        </p:grpSpPr>
        <p:pic>
          <p:nvPicPr>
            <p:cNvPr id="119" name="Picture 5" descr="logo"/>
            <p:cNvPicPr/>
            <p:nvPr/>
          </p:nvPicPr>
          <p:blipFill>
            <a:blip r:embed="rId1"/>
            <a:stretch/>
          </p:blipFill>
          <p:spPr>
            <a:xfrm>
              <a:off x="179280" y="476280"/>
              <a:ext cx="125748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Rectangle 2"/>
            <p:cNvSpPr/>
            <p:nvPr/>
          </p:nvSpPr>
          <p:spPr>
            <a:xfrm>
              <a:off x="108000" y="1773360"/>
              <a:ext cx="1728720" cy="9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З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ОВНІШНЄ</a:t>
              </a: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Н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ЕЗАЛЕЖНЕ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О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ЦІНЮВАН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7"/>
            <p:cNvSpPr/>
            <p:nvPr/>
          </p:nvSpPr>
          <p:spPr>
            <a:xfrm>
              <a:off x="1692360" y="189000"/>
              <a:ext cx="0" cy="6408720"/>
            </a:xfrm>
            <a:prstGeom prst="line">
              <a:avLst/>
            </a:prstGeom>
            <a:ln w="381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Rectangle 7"/>
          <p:cNvSpPr/>
          <p:nvPr/>
        </p:nvSpPr>
        <p:spPr>
          <a:xfrm>
            <a:off x="1692360" y="1700280"/>
            <a:ext cx="7451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Райони, які не були присутні на семінарах: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Географі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– Коломацький, Чугуївськи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Історія Україн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-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Зміївсь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Іноземна мов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 м. Лоз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Математи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Комінтернівсь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Російська мова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–  Барвінківський, Богодухівський, Краснокутський, Сахновщинський, Комінтернівськи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32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3300"/>
                </a:solidFill>
                <a:latin typeface="Arial"/>
                <a:ea typeface="Times New Roman"/>
              </a:rPr>
              <a:t>МЕТОДИЧНА ПІДТРИМКА:</a:t>
            </a:r>
            <a:br>
              <a:rPr sz="3200"/>
            </a:br>
            <a:r>
              <a:rPr b="1" lang="uk-UA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тренувальне тестування</a:t>
            </a:r>
            <a:r>
              <a:rPr b="1" lang="uk-UA" sz="3200" spc="-1" strike="noStrike">
                <a:solidFill>
                  <a:srgbClr val="ff33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Group 4"/>
          <p:cNvGrpSpPr/>
          <p:nvPr/>
        </p:nvGrpSpPr>
        <p:grpSpPr>
          <a:xfrm>
            <a:off x="108000" y="189000"/>
            <a:ext cx="1728720" cy="6408720"/>
            <a:chOff x="108000" y="189000"/>
            <a:chExt cx="1728720" cy="6408720"/>
          </a:xfrm>
        </p:grpSpPr>
        <p:pic>
          <p:nvPicPr>
            <p:cNvPr id="125" name="Picture 5" descr="logo"/>
            <p:cNvPicPr/>
            <p:nvPr/>
          </p:nvPicPr>
          <p:blipFill>
            <a:blip r:embed="rId1"/>
            <a:stretch/>
          </p:blipFill>
          <p:spPr>
            <a:xfrm>
              <a:off x="179280" y="476280"/>
              <a:ext cx="125748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Rectangle 2"/>
            <p:cNvSpPr/>
            <p:nvPr/>
          </p:nvSpPr>
          <p:spPr>
            <a:xfrm>
              <a:off x="108000" y="1773360"/>
              <a:ext cx="1728720" cy="9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З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ОВНІШНЄ</a:t>
              </a: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Н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ЕЗАЛЕЖНЕ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О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ЦІНЮВАН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7"/>
            <p:cNvSpPr/>
            <p:nvPr/>
          </p:nvSpPr>
          <p:spPr>
            <a:xfrm>
              <a:off x="1692360" y="189000"/>
              <a:ext cx="0" cy="6408720"/>
            </a:xfrm>
            <a:prstGeom prst="line">
              <a:avLst/>
            </a:prstGeom>
            <a:ln w="381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Rectangle 3"/>
          <p:cNvSpPr/>
          <p:nvPr/>
        </p:nvSpPr>
        <p:spPr>
          <a:xfrm>
            <a:off x="1979640" y="1484280"/>
            <a:ext cx="702144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1500"/>
              </a:spcBef>
              <a:buClr>
                <a:srgbClr val="ff5050"/>
              </a:buClr>
              <a:buFont typeface="Wingdings" charset="2"/>
              <a:buChar char="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Добірка завдань з кожного предмета укладена з урахуванням технічних характеристик тестів 2012 ро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1500"/>
              </a:spcBef>
              <a:buClr>
                <a:srgbClr val="ff5050"/>
              </a:buClr>
              <a:buFont typeface="Wingdings" charset="2"/>
              <a:buChar char="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Результат тестування нараховується одразу після завершення виконання завда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1500"/>
              </a:spcBef>
              <a:buClr>
                <a:srgbClr val="ff5050"/>
              </a:buClr>
              <a:buFont typeface="Wingdings" charset="2"/>
              <a:buChar char="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Результат тестування нараховується у «сирих» тестових балах без переведення у шкалу [100-20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2001"/>
              </a:spcBef>
              <a:buClr>
                <a:srgbClr val="ff5050"/>
              </a:buClr>
              <a:buFont typeface="Wingdings" charset="2"/>
              <a:buChar char="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Тренувальне тестування буде проводитися безкоштовн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Group 4"/>
          <p:cNvGrpSpPr/>
          <p:nvPr/>
        </p:nvGrpSpPr>
        <p:grpSpPr>
          <a:xfrm>
            <a:off x="108000" y="189000"/>
            <a:ext cx="1728720" cy="6408720"/>
            <a:chOff x="108000" y="189000"/>
            <a:chExt cx="1728720" cy="6408720"/>
          </a:xfrm>
        </p:grpSpPr>
        <p:pic>
          <p:nvPicPr>
            <p:cNvPr id="130" name="Picture 5" descr="logo"/>
            <p:cNvPicPr/>
            <p:nvPr/>
          </p:nvPicPr>
          <p:blipFill>
            <a:blip r:embed="rId1"/>
            <a:stretch/>
          </p:blipFill>
          <p:spPr>
            <a:xfrm>
              <a:off x="179280" y="476280"/>
              <a:ext cx="125748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Rectangle 2"/>
            <p:cNvSpPr/>
            <p:nvPr/>
          </p:nvSpPr>
          <p:spPr>
            <a:xfrm>
              <a:off x="108000" y="1773360"/>
              <a:ext cx="1728720" cy="9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З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ОВНІШНЄ</a:t>
              </a: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Н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ЕЗАЛЕЖНЕ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О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ЦІНЮВАН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7"/>
            <p:cNvSpPr/>
            <p:nvPr/>
          </p:nvSpPr>
          <p:spPr>
            <a:xfrm>
              <a:off x="1692360" y="189000"/>
              <a:ext cx="0" cy="6408720"/>
            </a:xfrm>
            <a:prstGeom prst="line">
              <a:avLst/>
            </a:prstGeom>
            <a:ln w="381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3" name="Picture 8" descr=""/>
          <p:cNvPicPr/>
          <p:nvPr/>
        </p:nvPicPr>
        <p:blipFill>
          <a:blip r:embed="rId2"/>
          <a:stretch/>
        </p:blipFill>
        <p:spPr>
          <a:xfrm>
            <a:off x="3276720" y="1197000"/>
            <a:ext cx="4206600" cy="548964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2"/>
          <p:cNvSpPr/>
          <p:nvPr/>
        </p:nvSpPr>
        <p:spPr>
          <a:xfrm>
            <a:off x="13320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3300"/>
                </a:solidFill>
                <a:latin typeface="Arial"/>
                <a:ea typeface="Times New Roman"/>
              </a:rPr>
              <a:t>МЕТОДИЧНА ПІДТРИМКА:</a:t>
            </a:r>
            <a:br>
              <a:rPr sz="3200"/>
            </a:br>
            <a:r>
              <a:rPr b="1" lang="uk-UA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офіційне видання УЦОЯО</a:t>
            </a:r>
            <a:r>
              <a:rPr b="1" lang="uk-UA" sz="3200" spc="-1" strike="noStrike">
                <a:solidFill>
                  <a:srgbClr val="ff33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3300"/>
                </a:solidFill>
                <a:latin typeface="Arial"/>
                <a:ea typeface="Times New Roman"/>
              </a:rPr>
              <a:t> </a:t>
            </a:r>
            <a:r>
              <a:rPr b="1" lang="uk-UA" sz="3200" spc="-1" strike="noStrike">
                <a:solidFill>
                  <a:srgbClr val="ff3300"/>
                </a:solidFill>
                <a:latin typeface="Arial"/>
                <a:ea typeface="Times New Roman"/>
              </a:rPr>
              <a:t>МЕТОДИЧНА ПІДТРИМ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907640" y="1916280"/>
            <a:ext cx="7021800" cy="43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150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організація доведення до кожного випускника змістовної інформації з використанням матеріалів семінарів, програм та характеристик тестів </a:t>
            </a: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(розділ “Методичний порадник” сайт ХРЦОЯ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uk-UA" sz="2400" spc="-1" strike="noStrike">
                <a:solidFill>
                  <a:srgbClr val="ff3300"/>
                </a:solidFill>
                <a:latin typeface="Arial"/>
              </a:rPr>
              <a:t>протягом навчального ро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150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організація надання доступу до Інтернет з метою участі у тренувальному тестуванні </a:t>
            </a: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(розділ “Тренувальне тестування” сайт ХРЦОЯО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uk-UA" sz="2400" spc="-1" strike="noStrike">
                <a:solidFill>
                  <a:srgbClr val="ff3300"/>
                </a:solidFill>
                <a:latin typeface="Arial"/>
              </a:rPr>
              <a:t>протягом навчального ро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Group 4"/>
          <p:cNvGrpSpPr/>
          <p:nvPr/>
        </p:nvGrpSpPr>
        <p:grpSpPr>
          <a:xfrm>
            <a:off x="108000" y="189000"/>
            <a:ext cx="1728720" cy="6408720"/>
            <a:chOff x="108000" y="189000"/>
            <a:chExt cx="1728720" cy="6408720"/>
          </a:xfrm>
        </p:grpSpPr>
        <p:pic>
          <p:nvPicPr>
            <p:cNvPr id="138" name="Picture 5" descr="logo"/>
            <p:cNvPicPr/>
            <p:nvPr/>
          </p:nvPicPr>
          <p:blipFill>
            <a:blip r:embed="rId1"/>
            <a:stretch/>
          </p:blipFill>
          <p:spPr>
            <a:xfrm>
              <a:off x="179280" y="476280"/>
              <a:ext cx="125748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Rectangle 2"/>
            <p:cNvSpPr/>
            <p:nvPr/>
          </p:nvSpPr>
          <p:spPr>
            <a:xfrm>
              <a:off x="108000" y="1773360"/>
              <a:ext cx="1728720" cy="9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З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ОВНІШНЄ</a:t>
              </a: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Н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ЕЗАЛЕЖНЕ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О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ЦІНЮВАН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7"/>
            <p:cNvSpPr/>
            <p:nvPr/>
          </p:nvSpPr>
          <p:spPr>
            <a:xfrm>
              <a:off x="1692360" y="189000"/>
              <a:ext cx="0" cy="6408720"/>
            </a:xfrm>
            <a:prstGeom prst="line">
              <a:avLst/>
            </a:prstGeom>
            <a:ln w="381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Text Box 8"/>
          <p:cNvSpPr/>
          <p:nvPr/>
        </p:nvSpPr>
        <p:spPr>
          <a:xfrm>
            <a:off x="395280" y="3213000"/>
            <a:ext cx="863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0" spc="-1" strike="noStrike">
                <a:solidFill>
                  <a:srgbClr val="ff3300"/>
                </a:solidFill>
                <a:latin typeface="Arial"/>
              </a:rPr>
              <a:t>!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3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uk-UA" sz="4000" spc="-1" strike="noStrike">
                <a:solidFill>
                  <a:srgbClr val="ff3300"/>
                </a:solidFill>
                <a:latin typeface="Arial"/>
                <a:ea typeface="Times New Roman"/>
              </a:rPr>
              <a:t>ІНФОРМАЦІЙНА ПІДТРИМКА</a:t>
            </a:r>
            <a:br>
              <a:rPr sz="3200"/>
            </a:br>
            <a:br>
              <a:rPr sz="32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Group 3"/>
          <p:cNvGrpSpPr/>
          <p:nvPr/>
        </p:nvGrpSpPr>
        <p:grpSpPr>
          <a:xfrm>
            <a:off x="108000" y="189000"/>
            <a:ext cx="1728720" cy="6408720"/>
            <a:chOff x="108000" y="189000"/>
            <a:chExt cx="1728720" cy="6408720"/>
          </a:xfrm>
        </p:grpSpPr>
        <p:pic>
          <p:nvPicPr>
            <p:cNvPr id="144" name="Picture 4" descr="logo"/>
            <p:cNvPicPr/>
            <p:nvPr/>
          </p:nvPicPr>
          <p:blipFill>
            <a:blip r:embed="rId1"/>
            <a:stretch/>
          </p:blipFill>
          <p:spPr>
            <a:xfrm>
              <a:off x="179280" y="476280"/>
              <a:ext cx="125748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Rectangle 2"/>
            <p:cNvSpPr/>
            <p:nvPr/>
          </p:nvSpPr>
          <p:spPr>
            <a:xfrm>
              <a:off x="108000" y="1773360"/>
              <a:ext cx="1728720" cy="9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З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ОВНІШНЄ</a:t>
              </a: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Н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ЕЗАЛЕЖНЕ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О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ЦІНЮВАН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6"/>
            <p:cNvSpPr/>
            <p:nvPr/>
          </p:nvSpPr>
          <p:spPr>
            <a:xfrm>
              <a:off x="1692360" y="189000"/>
              <a:ext cx="0" cy="6408720"/>
            </a:xfrm>
            <a:prstGeom prst="line">
              <a:avLst/>
            </a:prstGeom>
            <a:ln w="381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Group 2"/>
          <p:cNvGrpSpPr/>
          <p:nvPr/>
        </p:nvGrpSpPr>
        <p:grpSpPr>
          <a:xfrm>
            <a:off x="108000" y="189000"/>
            <a:ext cx="1728720" cy="6408720"/>
            <a:chOff x="108000" y="189000"/>
            <a:chExt cx="1728720" cy="6408720"/>
          </a:xfrm>
        </p:grpSpPr>
        <p:pic>
          <p:nvPicPr>
            <p:cNvPr id="148" name="Picture 3" descr="logo"/>
            <p:cNvPicPr/>
            <p:nvPr/>
          </p:nvPicPr>
          <p:blipFill>
            <a:blip r:embed="rId1"/>
            <a:stretch/>
          </p:blipFill>
          <p:spPr>
            <a:xfrm>
              <a:off x="179280" y="476280"/>
              <a:ext cx="125748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Rectangle 2"/>
            <p:cNvSpPr/>
            <p:nvPr/>
          </p:nvSpPr>
          <p:spPr>
            <a:xfrm>
              <a:off x="108000" y="1773360"/>
              <a:ext cx="1728720" cy="9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З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ОВНІШНЄ</a:t>
              </a: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Н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ЕЗАЛЕЖНЕ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О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ЦІНЮВАН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5"/>
            <p:cNvSpPr/>
            <p:nvPr/>
          </p:nvSpPr>
          <p:spPr>
            <a:xfrm>
              <a:off x="1692360" y="189000"/>
              <a:ext cx="0" cy="6408720"/>
            </a:xfrm>
            <a:prstGeom prst="line">
              <a:avLst/>
            </a:prstGeom>
            <a:ln w="381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Заголовок 1"/>
          <p:cNvSpPr/>
          <p:nvPr/>
        </p:nvSpPr>
        <p:spPr>
          <a:xfrm>
            <a:off x="1727280" y="333360"/>
            <a:ext cx="74167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uk-UA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uk-UA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ІНФОРМАЦІЙНА КАМПАНІЯ</a:t>
            </a:r>
            <a:r>
              <a:rPr b="1" lang="uk-UA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br>
              <a:rPr sz="3200"/>
            </a:br>
            <a:r>
              <a:rPr b="1" lang="uk-UA" sz="2000" spc="-1" strike="noStrike">
                <a:solidFill>
                  <a:srgbClr val="ff3300"/>
                </a:solidFill>
                <a:latin typeface="Times New Roman"/>
              </a:rPr>
              <a:t>АНКЕТУВАННЯ УЧАСНИКІВ ПРОБНОГО ЗНО-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Object 10"/>
          <p:cNvGraphicFramePr/>
          <p:nvPr/>
        </p:nvGraphicFramePr>
        <p:xfrm>
          <a:off x="2195640" y="1989000"/>
          <a:ext cx="6319800" cy="45309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53" name="Object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95640" y="1989000"/>
                    <a:ext cx="6319800" cy="453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Text Box 11"/>
          <p:cNvSpPr/>
          <p:nvPr/>
        </p:nvSpPr>
        <p:spPr>
          <a:xfrm>
            <a:off x="2484360" y="1484280"/>
            <a:ext cx="57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жерела інформува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3300"/>
                </a:solidFill>
                <a:latin typeface="Arial"/>
                <a:ea typeface="Times New Roman"/>
              </a:rPr>
              <a:t> </a:t>
            </a:r>
            <a:r>
              <a:rPr b="1" lang="uk-UA" sz="3200" spc="-1" strike="noStrike">
                <a:solidFill>
                  <a:srgbClr val="ff3300"/>
                </a:solidFill>
                <a:latin typeface="Arial"/>
                <a:ea typeface="Times New Roman"/>
              </a:rPr>
              <a:t>ІНФОРМАЦІЙНА КАМПАНІ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979640" y="1773000"/>
            <a:ext cx="70214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80000"/>
              </a:lnSpc>
              <a:spcBef>
                <a:spcPts val="1500"/>
              </a:spcBef>
              <a:buClr>
                <a:srgbClr val="ff5050"/>
              </a:buClr>
              <a:buFont typeface="Wingdings" charset="2"/>
              <a:buChar char="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Організація уроків інформатики щодо ознайомлення з інтернет-ресурсами щодо ЗН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1500"/>
              </a:spcBef>
              <a:buClr>
                <a:srgbClr val="ff5050"/>
              </a:buClr>
              <a:buFont typeface="Wingdings" charset="2"/>
              <a:buChar char="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Організація інформаційних куточків «ЗНО-2012» у кожному ЗНЗ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з уніфікованою інформаціє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1500"/>
              </a:spcBef>
              <a:buClr>
                <a:srgbClr val="ff5050"/>
              </a:buClr>
              <a:buFont typeface="Wingdings" charset="2"/>
              <a:buChar char="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Організація спільних з випускниками батьківських зборів з використанням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ніфікованої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резентаці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1500"/>
              </a:spcBef>
              <a:buClr>
                <a:srgbClr val="ff5050"/>
              </a:buClr>
              <a:buFont typeface="Wingdings" charset="2"/>
              <a:buChar char="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Надання поліграфічної продукції щодо особливостей ЗНО-2012 кожному випускни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Group 4"/>
          <p:cNvGrpSpPr/>
          <p:nvPr/>
        </p:nvGrpSpPr>
        <p:grpSpPr>
          <a:xfrm>
            <a:off x="108000" y="189000"/>
            <a:ext cx="1728720" cy="6408720"/>
            <a:chOff x="108000" y="189000"/>
            <a:chExt cx="1728720" cy="6408720"/>
          </a:xfrm>
        </p:grpSpPr>
        <p:pic>
          <p:nvPicPr>
            <p:cNvPr id="158" name="Picture 5" descr="logo"/>
            <p:cNvPicPr/>
            <p:nvPr/>
          </p:nvPicPr>
          <p:blipFill>
            <a:blip r:embed="rId1"/>
            <a:stretch/>
          </p:blipFill>
          <p:spPr>
            <a:xfrm>
              <a:off x="179280" y="476280"/>
              <a:ext cx="125748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Rectangle 2"/>
            <p:cNvSpPr/>
            <p:nvPr/>
          </p:nvSpPr>
          <p:spPr>
            <a:xfrm>
              <a:off x="108000" y="1773360"/>
              <a:ext cx="1728720" cy="9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З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ОВНІШНЄ</a:t>
              </a: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Н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ЕЗАЛЕЖНЕ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О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ЦІНЮВАН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7"/>
            <p:cNvSpPr/>
            <p:nvPr/>
          </p:nvSpPr>
          <p:spPr>
            <a:xfrm>
              <a:off x="1692360" y="189000"/>
              <a:ext cx="0" cy="6408720"/>
            </a:xfrm>
            <a:prstGeom prst="line">
              <a:avLst/>
            </a:prstGeom>
            <a:ln w="381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3300"/>
                </a:solidFill>
                <a:latin typeface="Arial"/>
                <a:ea typeface="Times New Roman"/>
              </a:rPr>
              <a:t>НОРМАТИВНА БА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908000" y="980640"/>
            <a:ext cx="70200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6640" indent="-29664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наказ МОНМСУ від 14.07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20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11 №791 “Про затвердження програм ЗНО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6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6640" indent="-29664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наказ МОНМСУ від 09.08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20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11 №946 “Про ЗНО навчальних досягнень осіб, які виявили бажання вступати до ВНЗ України в 2012 році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6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6640" indent="-29664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наказ МОНМСУ від 12.10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20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11 №1179 “Про затвердження Умов прийому до ВНЗ України в 2012 році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6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6640" indent="-29664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наказ МОНМСУ від 14.10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20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11 №1192 “Про внесення змін до наказу МОНМСУ від 09.08.11 №946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6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6640" indent="-29664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наказ МОНМСУ від 23.11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20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11 №1346 “Про затвердження календарного плану підготовки та проведення ЗНО навчальних досягнень осіб, які виявили бажання вступати до ВНЗ України в 2012 році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6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6640" indent="-29664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наказ МОНМСУ від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03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11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20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11 №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1254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“Про затвердження нормативно-правових актів щодо проведення ЗНО навчальних досягнень випускників навчальних закладів системи загальної середньої освіти в 2012 році”</a:t>
            </a:r>
            <a:r>
              <a:rPr b="0" lang="uk-UA" sz="2800" spc="-1" strike="noStrike">
                <a:solidFill>
                  <a:srgbClr val="009999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4"/>
          <p:cNvGrpSpPr/>
          <p:nvPr/>
        </p:nvGrpSpPr>
        <p:grpSpPr>
          <a:xfrm>
            <a:off x="108000" y="189000"/>
            <a:ext cx="1728720" cy="6408720"/>
            <a:chOff x="108000" y="189000"/>
            <a:chExt cx="1728720" cy="6408720"/>
          </a:xfrm>
        </p:grpSpPr>
        <p:pic>
          <p:nvPicPr>
            <p:cNvPr id="50" name="Picture 5" descr="logo"/>
            <p:cNvPicPr/>
            <p:nvPr/>
          </p:nvPicPr>
          <p:blipFill>
            <a:blip r:embed="rId1"/>
            <a:stretch/>
          </p:blipFill>
          <p:spPr>
            <a:xfrm>
              <a:off x="179280" y="476280"/>
              <a:ext cx="125748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Rectangle 2"/>
            <p:cNvSpPr/>
            <p:nvPr/>
          </p:nvSpPr>
          <p:spPr>
            <a:xfrm>
              <a:off x="108000" y="1773360"/>
              <a:ext cx="1728720" cy="9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З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ОВНІШНЄ</a:t>
              </a: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Н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ЕЗАЛЕЖНЕ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О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ЦІНЮВАН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Line 7"/>
            <p:cNvSpPr/>
            <p:nvPr/>
          </p:nvSpPr>
          <p:spPr>
            <a:xfrm>
              <a:off x="1692360" y="189000"/>
              <a:ext cx="0" cy="6408720"/>
            </a:xfrm>
            <a:prstGeom prst="line">
              <a:avLst/>
            </a:prstGeom>
            <a:ln w="381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ІНФОРМАЦІЙНА КАМПАНІЯ:</a:t>
            </a:r>
            <a:br>
              <a:rPr sz="2800"/>
            </a:br>
            <a:r>
              <a:rPr b="1" lang="uk-UA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проведення уроків інформа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Group 3"/>
          <p:cNvGrpSpPr/>
          <p:nvPr/>
        </p:nvGrpSpPr>
        <p:grpSpPr>
          <a:xfrm>
            <a:off x="108000" y="189000"/>
            <a:ext cx="1728720" cy="6408720"/>
            <a:chOff x="108000" y="189000"/>
            <a:chExt cx="1728720" cy="6408720"/>
          </a:xfrm>
        </p:grpSpPr>
        <p:pic>
          <p:nvPicPr>
            <p:cNvPr id="163" name="Picture 4" descr="logo"/>
            <p:cNvPicPr/>
            <p:nvPr/>
          </p:nvPicPr>
          <p:blipFill>
            <a:blip r:embed="rId1"/>
            <a:stretch/>
          </p:blipFill>
          <p:spPr>
            <a:xfrm>
              <a:off x="179280" y="476280"/>
              <a:ext cx="125748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Rectangle 2"/>
            <p:cNvSpPr/>
            <p:nvPr/>
          </p:nvSpPr>
          <p:spPr>
            <a:xfrm>
              <a:off x="108000" y="1773360"/>
              <a:ext cx="1728720" cy="9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З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ОВНІШНЄ</a:t>
              </a: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Н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ЕЗАЛЕЖНЕ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О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ЦІНЮВАН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6"/>
            <p:cNvSpPr/>
            <p:nvPr/>
          </p:nvSpPr>
          <p:spPr>
            <a:xfrm>
              <a:off x="1692360" y="189000"/>
              <a:ext cx="0" cy="6408720"/>
            </a:xfrm>
            <a:prstGeom prst="line">
              <a:avLst/>
            </a:prstGeom>
            <a:ln w="381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Rectangle 7"/>
          <p:cNvSpPr/>
          <p:nvPr/>
        </p:nvSpPr>
        <p:spPr>
          <a:xfrm>
            <a:off x="0" y="3504960"/>
            <a:ext cx="1692360" cy="28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сього проведено урок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у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62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ЗНЗ Харківської області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(93%)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м. Харків – 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174 (94%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Харківська область – 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452 (93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1979640" y="944640"/>
          <a:ext cx="7164360" cy="5943600"/>
        </p:xfrm>
        <a:graphic>
          <a:graphicData uri="http://schemas.openxmlformats.org/drawingml/2006/table">
            <a:tbl>
              <a:tblPr/>
              <a:tblGrid>
                <a:gridCol w="2047680"/>
                <a:gridCol w="2046600"/>
                <a:gridCol w="2257200"/>
                <a:gridCol w="812880"/>
              </a:tblGrid>
              <a:tr h="459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істо/райо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ількість ЗНЗ, </a:t>
                      </a: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к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мають випускникі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ількість ЗНЗ, </a:t>
                      </a: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к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провели урок інформати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рівський райо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лківський райо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ликобурлуцьк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чепилівський райо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олочівський райо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омацький райо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оградський райо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окутський райо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озівський райо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оводолазький райо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хновщинський райо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угуївський райо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евченківський райо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.Ізю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.Куп'янсь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.Чугуї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зержинськ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ївськ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92360" y="274320"/>
            <a:ext cx="3959280" cy="32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3300"/>
                </a:solidFill>
                <a:latin typeface="Arial"/>
                <a:ea typeface="Times New Roman"/>
              </a:rPr>
              <a:t>Поліграфічна продукція ХРЦОЯ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5815080" y="0"/>
            <a:ext cx="32148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70" name="Group 5"/>
          <p:cNvGrpSpPr/>
          <p:nvPr/>
        </p:nvGrpSpPr>
        <p:grpSpPr>
          <a:xfrm>
            <a:off x="108000" y="189000"/>
            <a:ext cx="1728720" cy="6408720"/>
            <a:chOff x="108000" y="189000"/>
            <a:chExt cx="1728720" cy="6408720"/>
          </a:xfrm>
        </p:grpSpPr>
        <p:pic>
          <p:nvPicPr>
            <p:cNvPr id="171" name="Picture 6" descr="logo"/>
            <p:cNvPicPr/>
            <p:nvPr/>
          </p:nvPicPr>
          <p:blipFill>
            <a:blip r:embed="rId2"/>
            <a:stretch/>
          </p:blipFill>
          <p:spPr>
            <a:xfrm>
              <a:off x="179280" y="476280"/>
              <a:ext cx="125748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Rectangle 2"/>
            <p:cNvSpPr/>
            <p:nvPr/>
          </p:nvSpPr>
          <p:spPr>
            <a:xfrm>
              <a:off x="108000" y="1773360"/>
              <a:ext cx="1728720" cy="9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З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ОВНІШНЄ</a:t>
              </a: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Н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ЕЗАЛЕЖНЕ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О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ЦІНЮВАН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8"/>
            <p:cNvSpPr/>
            <p:nvPr/>
          </p:nvSpPr>
          <p:spPr>
            <a:xfrm>
              <a:off x="1692360" y="189000"/>
              <a:ext cx="0" cy="6408720"/>
            </a:xfrm>
            <a:prstGeom prst="line">
              <a:avLst/>
            </a:prstGeom>
            <a:ln w="381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3300"/>
                </a:solidFill>
                <a:latin typeface="Arial"/>
                <a:ea typeface="Times New Roman"/>
              </a:rPr>
              <a:t> </a:t>
            </a:r>
            <a:r>
              <a:rPr b="1" lang="uk-UA" sz="3200" spc="-1" strike="noStrike">
                <a:solidFill>
                  <a:srgbClr val="ff3300"/>
                </a:solidFill>
                <a:latin typeface="Arial"/>
                <a:ea typeface="Times New Roman"/>
              </a:rPr>
              <a:t>ІНФОРМАЦІЙНА КАМПАНІ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979640" y="1483920"/>
            <a:ext cx="70214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7160" indent="-317160">
              <a:lnSpc>
                <a:spcPct val="80000"/>
              </a:lnSpc>
              <a:spcBef>
                <a:spcPts val="1250"/>
              </a:spcBef>
              <a:buClr>
                <a:srgbClr val="ff5050"/>
              </a:buClr>
              <a:buFont typeface="Wingdings" charset="2"/>
              <a:buChar char="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організація інформаційних куточків «ЗНО-2012» у кожному ЗНЗ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з уніфікованою інформацією 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(розділ “ЗНО” сайт відділу освіт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7160" indent="0" algn="r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uk-UA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i="1" lang="uk-UA" sz="2000" spc="-1" strike="noStrike">
                <a:solidFill>
                  <a:srgbClr val="ff3300"/>
                </a:solidFill>
                <a:latin typeface="Arial"/>
              </a:rPr>
              <a:t>до 21.12.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7160" indent="-317160">
              <a:lnSpc>
                <a:spcPct val="80000"/>
              </a:lnSpc>
              <a:spcBef>
                <a:spcPts val="1250"/>
              </a:spcBef>
              <a:buClr>
                <a:srgbClr val="ff5050"/>
              </a:buClr>
              <a:buFont typeface="Wingdings" charset="2"/>
              <a:buChar char="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організація спільних з випускниками батьківських зборів з використанням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ніфікованої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презентації 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(розділ “Адміністрування” сайт ХРЦОЯО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7160" indent="0" algn="r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uk-UA" sz="2000" spc="-1" strike="noStrike">
                <a:solidFill>
                  <a:srgbClr val="ff3300"/>
                </a:solidFill>
                <a:latin typeface="Arial"/>
              </a:rPr>
              <a:t>до 20.01.2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7160" indent="-317160">
              <a:lnSpc>
                <a:spcPct val="80000"/>
              </a:lnSpc>
              <a:spcBef>
                <a:spcPts val="1250"/>
              </a:spcBef>
              <a:buClr>
                <a:srgbClr val="ff5050"/>
              </a:buClr>
              <a:buFont typeface="Wingdings" charset="2"/>
              <a:buChar char="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організація передачі поліграфічної продукції щодо особливостей ЗНО-2012 кожному випускни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7160" indent="0" algn="r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uk-UA" sz="2000" spc="-1" strike="noStrike">
                <a:solidFill>
                  <a:srgbClr val="ff3300"/>
                </a:solidFill>
                <a:latin typeface="Arial"/>
              </a:rPr>
              <a:t>до 21.12.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7160" indent="-317160">
              <a:lnSpc>
                <a:spcPct val="80000"/>
              </a:lnSpc>
              <a:spcBef>
                <a:spcPts val="1250"/>
              </a:spcBef>
              <a:buClr>
                <a:srgbClr val="ff5050"/>
              </a:buClr>
              <a:buFont typeface="Wingdings" charset="2"/>
              <a:buChar char="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надання доступу до Інтернет з метою ознайомлення з інформацією на сайті ХРЦОЯ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7160" indent="0" algn="r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uk-UA" sz="2000" spc="-1" strike="noStrike">
                <a:solidFill>
                  <a:srgbClr val="ff3300"/>
                </a:solidFill>
                <a:latin typeface="Arial"/>
              </a:rPr>
              <a:t>протягом навчального ро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4"/>
          <p:cNvGrpSpPr/>
          <p:nvPr/>
        </p:nvGrpSpPr>
        <p:grpSpPr>
          <a:xfrm>
            <a:off x="108000" y="189000"/>
            <a:ext cx="1728720" cy="6408720"/>
            <a:chOff x="108000" y="189000"/>
            <a:chExt cx="1728720" cy="6408720"/>
          </a:xfrm>
        </p:grpSpPr>
        <p:pic>
          <p:nvPicPr>
            <p:cNvPr id="177" name="Picture 5" descr="logo"/>
            <p:cNvPicPr/>
            <p:nvPr/>
          </p:nvPicPr>
          <p:blipFill>
            <a:blip r:embed="rId1"/>
            <a:stretch/>
          </p:blipFill>
          <p:spPr>
            <a:xfrm>
              <a:off x="179280" y="476280"/>
              <a:ext cx="125748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Rectangle 2"/>
            <p:cNvSpPr/>
            <p:nvPr/>
          </p:nvSpPr>
          <p:spPr>
            <a:xfrm>
              <a:off x="108000" y="1773360"/>
              <a:ext cx="1728720" cy="9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З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ОВНІШНЄ</a:t>
              </a: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Н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ЕЗАЛЕЖНЕ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О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ЦІНЮВАН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7"/>
            <p:cNvSpPr/>
            <p:nvPr/>
          </p:nvSpPr>
          <p:spPr>
            <a:xfrm>
              <a:off x="1692360" y="189000"/>
              <a:ext cx="0" cy="6408720"/>
            </a:xfrm>
            <a:prstGeom prst="line">
              <a:avLst/>
            </a:prstGeom>
            <a:ln w="381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Text Box 8"/>
          <p:cNvSpPr/>
          <p:nvPr/>
        </p:nvSpPr>
        <p:spPr>
          <a:xfrm>
            <a:off x="395280" y="3213000"/>
            <a:ext cx="863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0" spc="-1" strike="noStrike">
                <a:solidFill>
                  <a:srgbClr val="ff3300"/>
                </a:solidFill>
                <a:latin typeface="Arial"/>
              </a:rPr>
              <a:t>!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3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3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3300"/>
                </a:solidFill>
                <a:latin typeface="Arial"/>
                <a:ea typeface="Times New Roman"/>
              </a:rPr>
              <a:t>РЕЄСТРАЦІ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Group 3"/>
          <p:cNvGrpSpPr/>
          <p:nvPr/>
        </p:nvGrpSpPr>
        <p:grpSpPr>
          <a:xfrm>
            <a:off x="108000" y="189000"/>
            <a:ext cx="1728720" cy="6408720"/>
            <a:chOff x="108000" y="189000"/>
            <a:chExt cx="1728720" cy="6408720"/>
          </a:xfrm>
        </p:grpSpPr>
        <p:pic>
          <p:nvPicPr>
            <p:cNvPr id="183" name="Picture 4" descr="logo"/>
            <p:cNvPicPr/>
            <p:nvPr/>
          </p:nvPicPr>
          <p:blipFill>
            <a:blip r:embed="rId1"/>
            <a:stretch/>
          </p:blipFill>
          <p:spPr>
            <a:xfrm>
              <a:off x="179280" y="476280"/>
              <a:ext cx="125748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Rectangle 2"/>
            <p:cNvSpPr/>
            <p:nvPr/>
          </p:nvSpPr>
          <p:spPr>
            <a:xfrm>
              <a:off x="108000" y="1773360"/>
              <a:ext cx="1728720" cy="9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З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ОВНІШНЄ</a:t>
              </a: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Н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ЕЗАЛЕЖНЕ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О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ЦІНЮВАН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6"/>
            <p:cNvSpPr/>
            <p:nvPr/>
          </p:nvSpPr>
          <p:spPr>
            <a:xfrm>
              <a:off x="1692360" y="189000"/>
              <a:ext cx="0" cy="6408720"/>
            </a:xfrm>
            <a:prstGeom prst="line">
              <a:avLst/>
            </a:prstGeom>
            <a:ln w="381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3300"/>
                </a:solidFill>
                <a:latin typeface="Arial"/>
                <a:ea typeface="Times New Roman"/>
              </a:rPr>
              <a:t> </a:t>
            </a:r>
            <a:r>
              <a:rPr b="1" lang="uk-UA" sz="3200" spc="-1" strike="noStrike">
                <a:solidFill>
                  <a:srgbClr val="ff3300"/>
                </a:solidFill>
                <a:latin typeface="Arial"/>
                <a:ea typeface="Times New Roman"/>
              </a:rPr>
              <a:t>РЕЄСТРАЦІЯ (01.01-20.02.201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Group 4"/>
          <p:cNvGrpSpPr/>
          <p:nvPr/>
        </p:nvGrpSpPr>
        <p:grpSpPr>
          <a:xfrm>
            <a:off x="108000" y="189000"/>
            <a:ext cx="1728720" cy="6408720"/>
            <a:chOff x="108000" y="189000"/>
            <a:chExt cx="1728720" cy="6408720"/>
          </a:xfrm>
        </p:grpSpPr>
        <p:pic>
          <p:nvPicPr>
            <p:cNvPr id="188" name="Picture 5" descr="logo"/>
            <p:cNvPicPr/>
            <p:nvPr/>
          </p:nvPicPr>
          <p:blipFill>
            <a:blip r:embed="rId1"/>
            <a:stretch/>
          </p:blipFill>
          <p:spPr>
            <a:xfrm>
              <a:off x="179280" y="476280"/>
              <a:ext cx="125748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Rectangle 2"/>
            <p:cNvSpPr/>
            <p:nvPr/>
          </p:nvSpPr>
          <p:spPr>
            <a:xfrm>
              <a:off x="108000" y="1773360"/>
              <a:ext cx="1728720" cy="9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З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ОВНІШНЄ</a:t>
              </a: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Н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ЕЗАЛЕЖНЕ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О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ЦІНЮВАН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7"/>
            <p:cNvSpPr/>
            <p:nvPr/>
          </p:nvSpPr>
          <p:spPr>
            <a:xfrm>
              <a:off x="1692360" y="189000"/>
              <a:ext cx="0" cy="6408720"/>
            </a:xfrm>
            <a:prstGeom prst="line">
              <a:avLst/>
            </a:prstGeom>
            <a:ln w="381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AutoShape 20"/>
          <p:cNvSpPr/>
          <p:nvPr/>
        </p:nvSpPr>
        <p:spPr>
          <a:xfrm>
            <a:off x="1908000" y="836640"/>
            <a:ext cx="6985080" cy="187164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Підготуват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пію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аспорт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(свідоцтва про народження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овідку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із навчального закладу за визначеною формою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копію атестата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ві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фотокартк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розміром 3х4 с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На копіях написати Із оригіналом згідно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uk-UA" sz="1600" spc="-1" strike="noStrike">
                <a:solidFill>
                  <a:srgbClr val="000000"/>
                </a:solidFill>
                <a:latin typeface="Arial"/>
              </a:rPr>
              <a:t>без лапок),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поставити підпис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зазначити прізвище, ініціали та дат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23"/>
          <p:cNvSpPr/>
          <p:nvPr/>
        </p:nvSpPr>
        <p:spPr>
          <a:xfrm>
            <a:off x="1979640" y="2924280"/>
            <a:ext cx="6967440" cy="200808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ahoma"/>
              </a:rPr>
              <a:t>* Скачати із сайту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uk-UA" sz="1800" spc="-1" strike="noStrike">
                <a:solidFill>
                  <a:srgbClr val="000000"/>
                </a:solidFill>
                <a:latin typeface="Tahoma"/>
              </a:rPr>
              <a:t>ХРЦОЯО програму для реєстрації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ahoma"/>
              </a:rPr>
              <a:t>* Попрацювати із програмою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заповнити поля у програм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оздрукувати Заяву-реєстраційну картк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повнити верхню частину Заяв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наклеїти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ві фотокартк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оздрукувати Контрольно-інформаційний лист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зберігається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* Самостійно або у пункті реєстрації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19"/>
          <p:cNvSpPr/>
          <p:nvPr/>
        </p:nvSpPr>
        <p:spPr>
          <a:xfrm>
            <a:off x="1979640" y="5084640"/>
            <a:ext cx="6985080" cy="57636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ahoma"/>
              </a:rPr>
              <a:t>Надіслати поштою комплект документі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ahoma"/>
              </a:rPr>
              <a:t>на адресу ХРЦОЯ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19"/>
          <p:cNvSpPr/>
          <p:nvPr/>
        </p:nvSpPr>
        <p:spPr>
          <a:xfrm>
            <a:off x="1979640" y="5805360"/>
            <a:ext cx="6985080" cy="648000"/>
          </a:xfrm>
          <a:prstGeom prst="roundRect">
            <a:avLst>
              <a:gd name="adj" fmla="val 16667"/>
            </a:avLst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ahoma"/>
              </a:rPr>
              <a:t>Отримати поштою </a:t>
            </a:r>
            <a:r>
              <a:rPr b="1" lang="uk-UA" sz="1800" spc="-1" strike="noStrike">
                <a:solidFill>
                  <a:srgbClr val="ff3300"/>
                </a:solidFill>
                <a:latin typeface="Tahoma"/>
              </a:rPr>
              <a:t>Сертифік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Group 3"/>
          <p:cNvGrpSpPr/>
          <p:nvPr/>
        </p:nvGrpSpPr>
        <p:grpSpPr>
          <a:xfrm>
            <a:off x="108000" y="189000"/>
            <a:ext cx="1728720" cy="6408720"/>
            <a:chOff x="108000" y="189000"/>
            <a:chExt cx="1728720" cy="6408720"/>
          </a:xfrm>
        </p:grpSpPr>
        <p:pic>
          <p:nvPicPr>
            <p:cNvPr id="196" name="Picture 4" descr="logo"/>
            <p:cNvPicPr/>
            <p:nvPr/>
          </p:nvPicPr>
          <p:blipFill>
            <a:blip r:embed="rId1"/>
            <a:stretch/>
          </p:blipFill>
          <p:spPr>
            <a:xfrm>
              <a:off x="179280" y="476280"/>
              <a:ext cx="125748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Rectangle 2"/>
            <p:cNvSpPr/>
            <p:nvPr/>
          </p:nvSpPr>
          <p:spPr>
            <a:xfrm>
              <a:off x="108000" y="1773360"/>
              <a:ext cx="1728720" cy="9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З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ОВНІШНЄ</a:t>
              </a: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Н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ЕЗАЛЕЖНЕ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О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ЦІНЮВАН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Line 6"/>
            <p:cNvSpPr/>
            <p:nvPr/>
          </p:nvSpPr>
          <p:spPr>
            <a:xfrm>
              <a:off x="1692360" y="189000"/>
              <a:ext cx="0" cy="6408720"/>
            </a:xfrm>
            <a:prstGeom prst="line">
              <a:avLst/>
            </a:prstGeom>
            <a:ln w="381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Rectangle 2"/>
          <p:cNvSpPr/>
          <p:nvPr/>
        </p:nvSpPr>
        <p:spPr>
          <a:xfrm>
            <a:off x="1405080" y="260280"/>
            <a:ext cx="773892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7800" rIns="127800" tIns="64080" bIns="64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3300"/>
                </a:solidFill>
                <a:latin typeface="Arial"/>
                <a:ea typeface="Times New Roman"/>
              </a:rPr>
              <a:t> </a:t>
            </a:r>
            <a:r>
              <a:rPr b="1" lang="uk-UA" sz="3200" spc="-1" strike="noStrike">
                <a:solidFill>
                  <a:srgbClr val="ff3300"/>
                </a:solidFill>
                <a:latin typeface="Arial"/>
                <a:ea typeface="Times New Roman"/>
              </a:rPr>
              <a:t>ФОРМА ДОВІД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8" descr=""/>
          <p:cNvPicPr/>
          <p:nvPr/>
        </p:nvPicPr>
        <p:blipFill>
          <a:blip r:embed="rId2"/>
          <a:stretch/>
        </p:blipFill>
        <p:spPr>
          <a:xfrm>
            <a:off x="3348000" y="1052640"/>
            <a:ext cx="4035600" cy="5545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3300"/>
                </a:solidFill>
                <a:latin typeface="Arial"/>
                <a:ea typeface="Times New Roman"/>
              </a:rPr>
              <a:t> </a:t>
            </a:r>
            <a:r>
              <a:rPr b="1" lang="uk-UA" sz="3200" spc="-1" strike="noStrike">
                <a:solidFill>
                  <a:srgbClr val="ff3300"/>
                </a:solidFill>
                <a:latin typeface="Arial"/>
                <a:ea typeface="Times New Roman"/>
              </a:rPr>
              <a:t>ПОВТОРНА РЕЄСТРАЦІЯ             (до 05.03.201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Group 3"/>
          <p:cNvGrpSpPr/>
          <p:nvPr/>
        </p:nvGrpSpPr>
        <p:grpSpPr>
          <a:xfrm>
            <a:off x="108000" y="189000"/>
            <a:ext cx="1728720" cy="6408720"/>
            <a:chOff x="108000" y="189000"/>
            <a:chExt cx="1728720" cy="6408720"/>
          </a:xfrm>
        </p:grpSpPr>
        <p:pic>
          <p:nvPicPr>
            <p:cNvPr id="203" name="Picture 4" descr="logo"/>
            <p:cNvPicPr/>
            <p:nvPr/>
          </p:nvPicPr>
          <p:blipFill>
            <a:blip r:embed="rId1"/>
            <a:stretch/>
          </p:blipFill>
          <p:spPr>
            <a:xfrm>
              <a:off x="179280" y="476280"/>
              <a:ext cx="125748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Rectangle 2"/>
            <p:cNvSpPr/>
            <p:nvPr/>
          </p:nvSpPr>
          <p:spPr>
            <a:xfrm>
              <a:off x="108000" y="1773360"/>
              <a:ext cx="1728720" cy="9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З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ОВНІШНЄ</a:t>
              </a: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Н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ЕЗАЛЕЖНЕ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О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ЦІНЮВАН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6"/>
            <p:cNvSpPr/>
            <p:nvPr/>
          </p:nvSpPr>
          <p:spPr>
            <a:xfrm>
              <a:off x="1692360" y="189000"/>
              <a:ext cx="0" cy="6408720"/>
            </a:xfrm>
            <a:prstGeom prst="line">
              <a:avLst/>
            </a:prstGeom>
            <a:ln w="381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AutoShape 20"/>
          <p:cNvSpPr/>
          <p:nvPr/>
        </p:nvSpPr>
        <p:spPr>
          <a:xfrm>
            <a:off x="1908000" y="4005360"/>
            <a:ext cx="6985080" cy="187164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marL="343080" indent="-343080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у разі відмови в реєстрації (за рішенням регламентної комісії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подання не всіх документів або неналежне оформлення комплект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документів тощо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необхідно повторно пройти реєстрацію та надіслати комплек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документів, усунувши причини, що стали підставою для відмов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20"/>
          <p:cNvSpPr/>
          <p:nvPr/>
        </p:nvSpPr>
        <p:spPr>
          <a:xfrm>
            <a:off x="1908000" y="1700280"/>
            <a:ext cx="6985080" cy="187164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marL="343080" indent="-343080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 разі внесення змін до реєстраційних дани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необхідно повторно пройти реєстрацію та надіслати крім комплект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документів Сертифікат, отриманий раніш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2"/>
          <p:cNvSpPr/>
          <p:nvPr/>
        </p:nvSpPr>
        <p:spPr>
          <a:xfrm>
            <a:off x="4541400" y="543240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4" descr=""/>
          <p:cNvPicPr/>
          <p:nvPr/>
        </p:nvPicPr>
        <p:blipFill>
          <a:blip r:embed="rId1"/>
          <a:stretch/>
        </p:blipFill>
        <p:spPr>
          <a:xfrm>
            <a:off x="1979640" y="806400"/>
            <a:ext cx="6873840" cy="4789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10" name="Rectangle 5"/>
          <p:cNvSpPr/>
          <p:nvPr/>
        </p:nvSpPr>
        <p:spPr>
          <a:xfrm>
            <a:off x="2184480" y="907920"/>
            <a:ext cx="1235160" cy="15433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6"/>
          <p:cNvSpPr/>
          <p:nvPr/>
        </p:nvSpPr>
        <p:spPr>
          <a:xfrm>
            <a:off x="2827440" y="2092320"/>
            <a:ext cx="1106280" cy="6159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7"/>
          <p:cNvSpPr/>
          <p:nvPr/>
        </p:nvSpPr>
        <p:spPr>
          <a:xfrm>
            <a:off x="5630760" y="1523880"/>
            <a:ext cx="893880" cy="2955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8"/>
          <p:cNvSpPr/>
          <p:nvPr/>
        </p:nvSpPr>
        <p:spPr>
          <a:xfrm>
            <a:off x="7924680" y="1512720"/>
            <a:ext cx="878040" cy="314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2"/>
          <p:cNvSpPr/>
          <p:nvPr/>
        </p:nvSpPr>
        <p:spPr>
          <a:xfrm>
            <a:off x="1547640" y="0"/>
            <a:ext cx="741708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3300"/>
                </a:solidFill>
                <a:latin typeface="Arial"/>
                <a:ea typeface="Times New Roman"/>
              </a:rPr>
              <a:t> </a:t>
            </a:r>
            <a:r>
              <a:rPr b="1" lang="uk-UA" sz="3200" spc="-1" strike="noStrike">
                <a:solidFill>
                  <a:srgbClr val="ff3300"/>
                </a:solidFill>
                <a:latin typeface="Arial"/>
                <a:ea typeface="Times New Roman"/>
              </a:rPr>
              <a:t>СЕРТИФІКАТ З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1"/>
          <p:cNvGrpSpPr/>
          <p:nvPr/>
        </p:nvGrpSpPr>
        <p:grpSpPr>
          <a:xfrm>
            <a:off x="108000" y="189000"/>
            <a:ext cx="1728720" cy="6408720"/>
            <a:chOff x="108000" y="189000"/>
            <a:chExt cx="1728720" cy="6408720"/>
          </a:xfrm>
        </p:grpSpPr>
        <p:pic>
          <p:nvPicPr>
            <p:cNvPr id="216" name="Picture 12" descr="logo"/>
            <p:cNvPicPr/>
            <p:nvPr/>
          </p:nvPicPr>
          <p:blipFill>
            <a:blip r:embed="rId2"/>
            <a:stretch/>
          </p:blipFill>
          <p:spPr>
            <a:xfrm>
              <a:off x="179280" y="476280"/>
              <a:ext cx="125748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Rectangle 2"/>
            <p:cNvSpPr/>
            <p:nvPr/>
          </p:nvSpPr>
          <p:spPr>
            <a:xfrm>
              <a:off x="108000" y="1773360"/>
              <a:ext cx="1728720" cy="9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З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ОВНІШНЄ</a:t>
              </a: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Н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ЕЗАЛЕЖНЕ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О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ЦІНЮВАН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Line 14"/>
            <p:cNvSpPr/>
            <p:nvPr/>
          </p:nvSpPr>
          <p:spPr>
            <a:xfrm>
              <a:off x="1692360" y="189000"/>
              <a:ext cx="0" cy="6408720"/>
            </a:xfrm>
            <a:prstGeom prst="line">
              <a:avLst/>
            </a:prstGeom>
            <a:ln w="381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4000"/>
                            </p:stCondLst>
                            <p:childTnLst>
                              <p:par>
                                <p:cTn id="3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6000"/>
                            </p:stCondLst>
                            <p:childTnLst>
                              <p:par>
                                <p:cTn id="4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547280" y="-360"/>
            <a:ext cx="741708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3300"/>
                </a:solidFill>
                <a:latin typeface="Arial"/>
                <a:ea typeface="Times New Roman"/>
              </a:rPr>
              <a:t> </a:t>
            </a:r>
            <a:r>
              <a:rPr b="1" lang="uk-UA" sz="3200" spc="-1" strike="noStrike">
                <a:solidFill>
                  <a:srgbClr val="ff3300"/>
                </a:solidFill>
                <a:latin typeface="Arial"/>
                <a:ea typeface="Times New Roman"/>
              </a:rPr>
              <a:t>ІНФОРМАЦІЙНА (ПЕРСОНАЛЬНА, ЕЛЕКТРОННА) СТОРІ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20"/>
          <p:cNvSpPr/>
          <p:nvPr/>
        </p:nvSpPr>
        <p:spPr>
          <a:xfrm>
            <a:off x="1835280" y="1577880"/>
            <a:ext cx="6984720" cy="19940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marL="343080" indent="-343080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створюється на сайті Українського центру оцінювання якості осві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доступ здійснюється за номером Сертифіката та pin-кодом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указаним у ньому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20"/>
          <p:cNvSpPr/>
          <p:nvPr/>
        </p:nvSpPr>
        <p:spPr>
          <a:xfrm>
            <a:off x="1846440" y="3943440"/>
            <a:ext cx="6933960" cy="210816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marL="343080" indent="-343080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розміщується інформація щодо реєстраційних дани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розміщується Запрошення-перепуску із зазначенням місц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розташування пункту тестування та часу початку ЗНО, яку можн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роздрукувати самостійн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розміщується Інформаційну картку із результатами ЗНО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яку необхідно роздрукувати самостійно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Group 7"/>
          <p:cNvGrpSpPr/>
          <p:nvPr/>
        </p:nvGrpSpPr>
        <p:grpSpPr>
          <a:xfrm>
            <a:off x="108000" y="189000"/>
            <a:ext cx="1728720" cy="6408720"/>
            <a:chOff x="108000" y="189000"/>
            <a:chExt cx="1728720" cy="6408720"/>
          </a:xfrm>
        </p:grpSpPr>
        <p:pic>
          <p:nvPicPr>
            <p:cNvPr id="223" name="Picture 8" descr="logo"/>
            <p:cNvPicPr/>
            <p:nvPr/>
          </p:nvPicPr>
          <p:blipFill>
            <a:blip r:embed="rId3"/>
            <a:stretch/>
          </p:blipFill>
          <p:spPr>
            <a:xfrm>
              <a:off x="179280" y="476280"/>
              <a:ext cx="125748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Rectangle 2"/>
            <p:cNvSpPr/>
            <p:nvPr/>
          </p:nvSpPr>
          <p:spPr>
            <a:xfrm>
              <a:off x="108000" y="1773360"/>
              <a:ext cx="1728720" cy="9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З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ОВНІШНЄ</a:t>
              </a: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Н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ЕЗАЛЕЖНЕ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О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ЦІНЮВАН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10"/>
            <p:cNvSpPr/>
            <p:nvPr/>
          </p:nvSpPr>
          <p:spPr>
            <a:xfrm>
              <a:off x="1692360" y="189000"/>
              <a:ext cx="0" cy="6408720"/>
            </a:xfrm>
            <a:prstGeom prst="line">
              <a:avLst/>
            </a:prstGeom>
            <a:ln w="381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16000" y="-360"/>
            <a:ext cx="741672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3300"/>
                </a:solidFill>
                <a:latin typeface="Arial"/>
                <a:ea typeface="Times New Roman"/>
              </a:rPr>
              <a:t> </a:t>
            </a:r>
            <a:r>
              <a:rPr b="1" lang="uk-UA" sz="3600" spc="-1" strike="noStrike">
                <a:solidFill>
                  <a:srgbClr val="ff3300"/>
                </a:solidFill>
                <a:latin typeface="Arial"/>
                <a:ea typeface="Times New Roman"/>
              </a:rPr>
              <a:t>ПУНКТИ РЕЄСТРАЦІЇ (проект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594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8136000" cy="545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3300"/>
                </a:solidFill>
                <a:latin typeface="Arial"/>
                <a:ea typeface="Times New Roman"/>
              </a:rPr>
              <a:t>ОСОБЛИВОСТІ ЗНО-20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834920" y="1267920"/>
            <a:ext cx="70196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7680" indent="-3376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ведення до переліку тестів всесвітньої історі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7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адання можливості складання тестів не більше як із 4-х предметі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7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ідвищення мінімальної кількості балів з профільних предметів до 1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7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ведення тестувань з української мови та літератури, математики та історії України у 2 сесі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7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корочення терміну реєстраці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4"/>
          <p:cNvGrpSpPr/>
          <p:nvPr/>
        </p:nvGrpSpPr>
        <p:grpSpPr>
          <a:xfrm>
            <a:off x="108000" y="189000"/>
            <a:ext cx="1728720" cy="6408720"/>
            <a:chOff x="108000" y="189000"/>
            <a:chExt cx="1728720" cy="6408720"/>
          </a:xfrm>
        </p:grpSpPr>
        <p:pic>
          <p:nvPicPr>
            <p:cNvPr id="56" name="Picture 5" descr="logo"/>
            <p:cNvPicPr/>
            <p:nvPr/>
          </p:nvPicPr>
          <p:blipFill>
            <a:blip r:embed="rId1"/>
            <a:stretch/>
          </p:blipFill>
          <p:spPr>
            <a:xfrm>
              <a:off x="179280" y="476280"/>
              <a:ext cx="125748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Rectangle 2"/>
            <p:cNvSpPr/>
            <p:nvPr/>
          </p:nvSpPr>
          <p:spPr>
            <a:xfrm>
              <a:off x="108000" y="1773360"/>
              <a:ext cx="1728720" cy="9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З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ОВНІШНЄ</a:t>
              </a: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Н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ЕЗАЛЕЖНЕ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О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ЦІНЮВАН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7"/>
            <p:cNvSpPr/>
            <p:nvPr/>
          </p:nvSpPr>
          <p:spPr>
            <a:xfrm>
              <a:off x="1692360" y="189000"/>
              <a:ext cx="0" cy="6408720"/>
            </a:xfrm>
            <a:prstGeom prst="line">
              <a:avLst/>
            </a:prstGeom>
            <a:ln w="381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3300"/>
                </a:solidFill>
                <a:latin typeface="Arial"/>
                <a:ea typeface="Times New Roman"/>
              </a:rPr>
              <a:t> </a:t>
            </a:r>
            <a:r>
              <a:rPr b="1" lang="uk-UA" sz="3600" spc="-1" strike="noStrike">
                <a:solidFill>
                  <a:srgbClr val="ff3300"/>
                </a:solidFill>
                <a:latin typeface="Arial"/>
                <a:ea typeface="Times New Roman"/>
              </a:rPr>
              <a:t>РЕЄСТРАЦІ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979640" y="1483920"/>
            <a:ext cx="70214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80000"/>
              </a:lnSpc>
              <a:spcBef>
                <a:spcPts val="2750"/>
              </a:spcBef>
              <a:buClr>
                <a:srgbClr val="ff5050"/>
              </a:buClr>
              <a:buFont typeface="Wingdings" charset="2"/>
              <a:buChar char="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надання доступу до Інтернет та оргтехніки з метою реєстрації випускників та доступу до їх інформаційних сторін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r">
              <a:lnSpc>
                <a:spcPct val="80000"/>
              </a:lnSpc>
              <a:spcBef>
                <a:spcPts val="27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uk-UA" sz="4400" spc="-1" strike="noStrike">
                <a:solidFill>
                  <a:srgbClr val="ff3300"/>
                </a:solidFill>
                <a:latin typeface="Arial"/>
              </a:rPr>
              <a:t>з 11.01.20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Group 4"/>
          <p:cNvGrpSpPr/>
          <p:nvPr/>
        </p:nvGrpSpPr>
        <p:grpSpPr>
          <a:xfrm>
            <a:off x="108000" y="189000"/>
            <a:ext cx="1728720" cy="6408720"/>
            <a:chOff x="108000" y="189000"/>
            <a:chExt cx="1728720" cy="6408720"/>
          </a:xfrm>
        </p:grpSpPr>
        <p:pic>
          <p:nvPicPr>
            <p:cNvPr id="231" name="Picture 5" descr="logo"/>
            <p:cNvPicPr/>
            <p:nvPr/>
          </p:nvPicPr>
          <p:blipFill>
            <a:blip r:embed="rId1"/>
            <a:stretch/>
          </p:blipFill>
          <p:spPr>
            <a:xfrm>
              <a:off x="179280" y="476280"/>
              <a:ext cx="125748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Rectangle 2"/>
            <p:cNvSpPr/>
            <p:nvPr/>
          </p:nvSpPr>
          <p:spPr>
            <a:xfrm>
              <a:off x="108000" y="1773360"/>
              <a:ext cx="1728720" cy="9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З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ОВНІШНЄ</a:t>
              </a: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Н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ЕЗАЛЕЖНЕ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О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ЦІНЮВАН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7"/>
            <p:cNvSpPr/>
            <p:nvPr/>
          </p:nvSpPr>
          <p:spPr>
            <a:xfrm>
              <a:off x="1692360" y="189000"/>
              <a:ext cx="0" cy="6408720"/>
            </a:xfrm>
            <a:prstGeom prst="line">
              <a:avLst/>
            </a:prstGeom>
            <a:ln w="381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Text Box 8"/>
          <p:cNvSpPr/>
          <p:nvPr/>
        </p:nvSpPr>
        <p:spPr>
          <a:xfrm>
            <a:off x="395280" y="3213000"/>
            <a:ext cx="863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0" spc="-1" strike="noStrike">
                <a:solidFill>
                  <a:srgbClr val="ff3300"/>
                </a:solidFill>
                <a:latin typeface="Arial"/>
              </a:rPr>
              <a:t>!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3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3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3300"/>
                </a:solidFill>
                <a:latin typeface="Arial"/>
                <a:ea typeface="Times New Roman"/>
              </a:rPr>
              <a:t>ОРГАНІЗАЦІЙНА РОБО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Group 3"/>
          <p:cNvGrpSpPr/>
          <p:nvPr/>
        </p:nvGrpSpPr>
        <p:grpSpPr>
          <a:xfrm>
            <a:off x="108000" y="189000"/>
            <a:ext cx="1728720" cy="6408720"/>
            <a:chOff x="108000" y="189000"/>
            <a:chExt cx="1728720" cy="6408720"/>
          </a:xfrm>
        </p:grpSpPr>
        <p:pic>
          <p:nvPicPr>
            <p:cNvPr id="237" name="Picture 4" descr="logo"/>
            <p:cNvPicPr/>
            <p:nvPr/>
          </p:nvPicPr>
          <p:blipFill>
            <a:blip r:embed="rId1"/>
            <a:stretch/>
          </p:blipFill>
          <p:spPr>
            <a:xfrm>
              <a:off x="179280" y="476280"/>
              <a:ext cx="125748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Rectangle 2"/>
            <p:cNvSpPr/>
            <p:nvPr/>
          </p:nvSpPr>
          <p:spPr>
            <a:xfrm>
              <a:off x="108000" y="1773360"/>
              <a:ext cx="1728720" cy="9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З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ОВНІШНЄ</a:t>
              </a: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Н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ЕЗАЛЕЖНЕ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О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ЦІНЮВАН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6"/>
            <p:cNvSpPr/>
            <p:nvPr/>
          </p:nvSpPr>
          <p:spPr>
            <a:xfrm>
              <a:off x="1692360" y="189000"/>
              <a:ext cx="0" cy="6408720"/>
            </a:xfrm>
            <a:prstGeom prst="line">
              <a:avLst/>
            </a:prstGeom>
            <a:ln w="381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Group 3"/>
          <p:cNvGrpSpPr/>
          <p:nvPr/>
        </p:nvGrpSpPr>
        <p:grpSpPr>
          <a:xfrm>
            <a:off x="108000" y="189000"/>
            <a:ext cx="1728720" cy="6408720"/>
            <a:chOff x="108000" y="189000"/>
            <a:chExt cx="1728720" cy="6408720"/>
          </a:xfrm>
        </p:grpSpPr>
        <p:pic>
          <p:nvPicPr>
            <p:cNvPr id="241" name="Picture 4" descr="logo"/>
            <p:cNvPicPr/>
            <p:nvPr/>
          </p:nvPicPr>
          <p:blipFill>
            <a:blip r:embed="rId1"/>
            <a:stretch/>
          </p:blipFill>
          <p:spPr>
            <a:xfrm>
              <a:off x="179280" y="476280"/>
              <a:ext cx="125748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Rectangle 2"/>
            <p:cNvSpPr/>
            <p:nvPr/>
          </p:nvSpPr>
          <p:spPr>
            <a:xfrm>
              <a:off x="108000" y="1773360"/>
              <a:ext cx="1728720" cy="9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З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ОВНІШНЄ</a:t>
              </a: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Н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ЕЗАЛЕЖНЕ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О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ЦІНЮВАН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6"/>
            <p:cNvSpPr/>
            <p:nvPr/>
          </p:nvSpPr>
          <p:spPr>
            <a:xfrm>
              <a:off x="1692360" y="189000"/>
              <a:ext cx="0" cy="6408720"/>
            </a:xfrm>
            <a:prstGeom prst="line">
              <a:avLst/>
            </a:prstGeom>
            <a:ln w="381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Text Box 8"/>
          <p:cNvSpPr/>
          <p:nvPr/>
        </p:nvSpPr>
        <p:spPr>
          <a:xfrm>
            <a:off x="1908000" y="765000"/>
            <a:ext cx="7236000" cy="54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Телефон інформаційної служб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3300"/>
                </a:solidFill>
                <a:latin typeface="Times New Roman"/>
              </a:rPr>
              <a:t>(057)705-06-56, 705-07-3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Факс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3300"/>
                </a:solidFill>
                <a:latin typeface="Times New Roman"/>
              </a:rPr>
              <a:t>(057)705-15-6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Електронна пошта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office@zno-kharkiv.org.u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Сай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форум:</a:t>
            </a:r>
            <a:r>
              <a:rPr b="1" lang="uk-UA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www.zno-kharkiv.org.u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Адрес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3300"/>
                </a:solidFill>
                <a:latin typeface="Times New Roman"/>
              </a:rPr>
              <a:t>майдан Свободи, 6, офіс 463, м. Харків, 6102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3300"/>
                </a:solidFill>
                <a:latin typeface="Arial"/>
                <a:ea typeface="Times New Roman"/>
              </a:rPr>
              <a:t>ПРОГРАМА ДЛЯ РЕЄСТРАЦІ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108000" y="189000"/>
            <a:ext cx="1728720" cy="6408720"/>
            <a:chOff x="108000" y="189000"/>
            <a:chExt cx="1728720" cy="6408720"/>
          </a:xfrm>
        </p:grpSpPr>
        <p:pic>
          <p:nvPicPr>
            <p:cNvPr id="247" name="Picture 4" descr="logo"/>
            <p:cNvPicPr/>
            <p:nvPr/>
          </p:nvPicPr>
          <p:blipFill>
            <a:blip r:embed="rId1"/>
            <a:stretch/>
          </p:blipFill>
          <p:spPr>
            <a:xfrm>
              <a:off x="179280" y="476280"/>
              <a:ext cx="125748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Rectangle 2"/>
            <p:cNvSpPr/>
            <p:nvPr/>
          </p:nvSpPr>
          <p:spPr>
            <a:xfrm>
              <a:off x="108000" y="1773360"/>
              <a:ext cx="1728720" cy="9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З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ОВНІШНЄ</a:t>
              </a: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Н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ЕЗАЛЕЖНЕ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О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ЦІНЮВАН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6"/>
            <p:cNvSpPr/>
            <p:nvPr/>
          </p:nvSpPr>
          <p:spPr>
            <a:xfrm>
              <a:off x="1692360" y="189000"/>
              <a:ext cx="0" cy="6408720"/>
            </a:xfrm>
            <a:prstGeom prst="line">
              <a:avLst/>
            </a:prstGeom>
            <a:ln w="381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0" name="Group 3"/>
          <p:cNvGrpSpPr/>
          <p:nvPr/>
        </p:nvGrpSpPr>
        <p:grpSpPr>
          <a:xfrm>
            <a:off x="108000" y="189000"/>
            <a:ext cx="1728720" cy="6408720"/>
            <a:chOff x="108000" y="189000"/>
            <a:chExt cx="1728720" cy="6408720"/>
          </a:xfrm>
        </p:grpSpPr>
        <p:pic>
          <p:nvPicPr>
            <p:cNvPr id="251" name="Picture 4" descr="logo"/>
            <p:cNvPicPr/>
            <p:nvPr/>
          </p:nvPicPr>
          <p:blipFill>
            <a:blip r:embed="rId1"/>
            <a:stretch/>
          </p:blipFill>
          <p:spPr>
            <a:xfrm>
              <a:off x="179280" y="476280"/>
              <a:ext cx="125748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Rectangle 2"/>
            <p:cNvSpPr/>
            <p:nvPr/>
          </p:nvSpPr>
          <p:spPr>
            <a:xfrm>
              <a:off x="108000" y="1773360"/>
              <a:ext cx="1728720" cy="9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З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ОВНІШНЄ</a:t>
              </a: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Н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ЕЗАЛЕЖНЕ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О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ЦІНЮВАН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Line 6"/>
            <p:cNvSpPr/>
            <p:nvPr/>
          </p:nvSpPr>
          <p:spPr>
            <a:xfrm>
              <a:off x="1692360" y="189000"/>
              <a:ext cx="0" cy="6408720"/>
            </a:xfrm>
            <a:prstGeom prst="line">
              <a:avLst/>
            </a:prstGeom>
            <a:ln w="381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4" name="Picture 7" descr=""/>
          <p:cNvPicPr/>
          <p:nvPr/>
        </p:nvPicPr>
        <p:blipFill>
          <a:blip r:embed="rId2"/>
          <a:stretch/>
        </p:blipFill>
        <p:spPr>
          <a:xfrm>
            <a:off x="2235240" y="0"/>
            <a:ext cx="6019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5" name="Group 3"/>
          <p:cNvGrpSpPr/>
          <p:nvPr/>
        </p:nvGrpSpPr>
        <p:grpSpPr>
          <a:xfrm>
            <a:off x="108000" y="189000"/>
            <a:ext cx="1728720" cy="6408720"/>
            <a:chOff x="108000" y="189000"/>
            <a:chExt cx="1728720" cy="6408720"/>
          </a:xfrm>
        </p:grpSpPr>
        <p:pic>
          <p:nvPicPr>
            <p:cNvPr id="256" name="Picture 4" descr="logo"/>
            <p:cNvPicPr/>
            <p:nvPr/>
          </p:nvPicPr>
          <p:blipFill>
            <a:blip r:embed="rId1"/>
            <a:stretch/>
          </p:blipFill>
          <p:spPr>
            <a:xfrm>
              <a:off x="179280" y="476280"/>
              <a:ext cx="125748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Rectangle 2"/>
            <p:cNvSpPr/>
            <p:nvPr/>
          </p:nvSpPr>
          <p:spPr>
            <a:xfrm>
              <a:off x="108000" y="1773360"/>
              <a:ext cx="1728720" cy="9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З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ОВНІШНЄ</a:t>
              </a: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Н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ЕЗАЛЕЖНЕ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О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ЦІНЮВАН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Line 6"/>
            <p:cNvSpPr/>
            <p:nvPr/>
          </p:nvSpPr>
          <p:spPr>
            <a:xfrm>
              <a:off x="1692360" y="189000"/>
              <a:ext cx="0" cy="6408720"/>
            </a:xfrm>
            <a:prstGeom prst="line">
              <a:avLst/>
            </a:prstGeom>
            <a:ln w="381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9" name="Picture 7" descr=""/>
          <p:cNvPicPr/>
          <p:nvPr/>
        </p:nvPicPr>
        <p:blipFill>
          <a:blip r:embed="rId2"/>
          <a:stretch/>
        </p:blipFill>
        <p:spPr>
          <a:xfrm>
            <a:off x="2195640" y="0"/>
            <a:ext cx="5419440" cy="67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3300"/>
                </a:solidFill>
                <a:latin typeface="Arial"/>
                <a:ea typeface="Times New Roman"/>
              </a:rPr>
              <a:t> </a:t>
            </a:r>
            <a:r>
              <a:rPr b="1" lang="uk-UA" sz="3200" spc="-1" strike="noStrike">
                <a:solidFill>
                  <a:srgbClr val="ff3300"/>
                </a:solidFill>
                <a:latin typeface="Arial"/>
                <a:ea typeface="Times New Roman"/>
              </a:rPr>
              <a:t>КАЛЕНДАР ПРОВЕДЕННЯ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834920" y="1196640"/>
            <a:ext cx="70196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7600" indent="-32760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Подання реєстраційних документів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01.01. - 20.02.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7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7600" indent="-32760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Проведення пробного ЗНО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24.03.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7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31.03.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7600" indent="-32760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Проведення ЗН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7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7600" indent="-32760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хімія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15.05.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7600" indent="-32760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російська мова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17.05.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7600" indent="-32760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географія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19.05.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7600" indent="-32760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математика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21.05, 22.05.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7600" indent="-32760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всесвітня історія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24.05.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7600" indent="-32760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іноземні мови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26.05.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7600" indent="-32760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українська мова і література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28.05, 29.05.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7600" indent="-32760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історія України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31.05, 01.06.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7600" indent="-32760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фізика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05.06.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7600" indent="-32760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біологія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07.06.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7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7600" indent="-32760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Оголошення результатів ЗНО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30.05 – 01.07.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7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7600" indent="-32760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Проведення додаткової сесії ЗНО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18.06 - 23.06.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Group 4"/>
          <p:cNvGrpSpPr/>
          <p:nvPr/>
        </p:nvGrpSpPr>
        <p:grpSpPr>
          <a:xfrm>
            <a:off x="108000" y="189000"/>
            <a:ext cx="1728720" cy="6408720"/>
            <a:chOff x="108000" y="189000"/>
            <a:chExt cx="1728720" cy="6408720"/>
          </a:xfrm>
        </p:grpSpPr>
        <p:pic>
          <p:nvPicPr>
            <p:cNvPr id="62" name="Picture 5" descr="logo"/>
            <p:cNvPicPr/>
            <p:nvPr/>
          </p:nvPicPr>
          <p:blipFill>
            <a:blip r:embed="rId1"/>
            <a:stretch/>
          </p:blipFill>
          <p:spPr>
            <a:xfrm>
              <a:off x="179280" y="476280"/>
              <a:ext cx="125748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Rectangle 2"/>
            <p:cNvSpPr/>
            <p:nvPr/>
          </p:nvSpPr>
          <p:spPr>
            <a:xfrm>
              <a:off x="108000" y="1773360"/>
              <a:ext cx="1728720" cy="9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З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ОВНІШНЄ</a:t>
              </a: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Н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ЕЗАЛЕЖНЕ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О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ЦІНЮВАН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Line 7"/>
            <p:cNvSpPr/>
            <p:nvPr/>
          </p:nvSpPr>
          <p:spPr>
            <a:xfrm>
              <a:off x="1692360" y="189000"/>
              <a:ext cx="0" cy="6408720"/>
            </a:xfrm>
            <a:prstGeom prst="line">
              <a:avLst/>
            </a:prstGeom>
            <a:ln w="381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3300"/>
                </a:solidFill>
                <a:latin typeface="Arial"/>
                <a:ea typeface="Times New Roman"/>
              </a:rPr>
              <a:t> </a:t>
            </a:r>
            <a:r>
              <a:rPr b="1" lang="uk-UA" sz="3200" spc="-1" strike="noStrike">
                <a:solidFill>
                  <a:srgbClr val="ff3300"/>
                </a:solidFill>
                <a:latin typeface="Arial"/>
                <a:ea typeface="Times New Roman"/>
              </a:rPr>
              <a:t>ПЛАН СПІЛЬНИХ ДІЙ                ХРЦОЯО та ГУОН ХОДА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834920" y="1699920"/>
            <a:ext cx="70196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80000"/>
              </a:lnSpc>
              <a:spcBef>
                <a:spcPts val="901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Пробне ЗН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901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Методична підтрим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901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Інформаційна підтрим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901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Організаційна робо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Group 4"/>
          <p:cNvGrpSpPr/>
          <p:nvPr/>
        </p:nvGrpSpPr>
        <p:grpSpPr>
          <a:xfrm>
            <a:off x="108000" y="189000"/>
            <a:ext cx="1728720" cy="6408720"/>
            <a:chOff x="108000" y="189000"/>
            <a:chExt cx="1728720" cy="6408720"/>
          </a:xfrm>
        </p:grpSpPr>
        <p:pic>
          <p:nvPicPr>
            <p:cNvPr id="68" name="Picture 5" descr="logo"/>
            <p:cNvPicPr/>
            <p:nvPr/>
          </p:nvPicPr>
          <p:blipFill>
            <a:blip r:embed="rId1"/>
            <a:stretch/>
          </p:blipFill>
          <p:spPr>
            <a:xfrm>
              <a:off x="179280" y="476280"/>
              <a:ext cx="125748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Rectangle 2"/>
            <p:cNvSpPr/>
            <p:nvPr/>
          </p:nvSpPr>
          <p:spPr>
            <a:xfrm>
              <a:off x="108000" y="1773360"/>
              <a:ext cx="1728720" cy="9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З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ОВНІШНЄ</a:t>
              </a: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Н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ЕЗАЛЕЖНЕ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О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ЦІНЮВАН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Line 7"/>
            <p:cNvSpPr/>
            <p:nvPr/>
          </p:nvSpPr>
          <p:spPr>
            <a:xfrm>
              <a:off x="1692360" y="189000"/>
              <a:ext cx="0" cy="6408720"/>
            </a:xfrm>
            <a:prstGeom prst="line">
              <a:avLst/>
            </a:prstGeom>
            <a:ln w="381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3300"/>
                </a:solidFill>
                <a:latin typeface="Arial"/>
                <a:ea typeface="Times New Roman"/>
              </a:rPr>
              <a:t>ПРОБНЕ ЗНО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  <a:ea typeface="Times New Roman"/>
              </a:rPr>
              <a:t>-</a:t>
            </a:r>
            <a:r>
              <a:rPr b="1" lang="uk-UA" sz="4000" spc="-1" strike="noStrike">
                <a:solidFill>
                  <a:srgbClr val="ff3300"/>
                </a:solidFill>
                <a:latin typeface="Arial"/>
                <a:ea typeface="Times New Roman"/>
              </a:rPr>
              <a:t>20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Group 3"/>
          <p:cNvGrpSpPr/>
          <p:nvPr/>
        </p:nvGrpSpPr>
        <p:grpSpPr>
          <a:xfrm>
            <a:off x="108000" y="189000"/>
            <a:ext cx="1728720" cy="6408720"/>
            <a:chOff x="108000" y="189000"/>
            <a:chExt cx="1728720" cy="6408720"/>
          </a:xfrm>
        </p:grpSpPr>
        <p:pic>
          <p:nvPicPr>
            <p:cNvPr id="73" name="Picture 4" descr="logo"/>
            <p:cNvPicPr/>
            <p:nvPr/>
          </p:nvPicPr>
          <p:blipFill>
            <a:blip r:embed="rId1"/>
            <a:stretch/>
          </p:blipFill>
          <p:spPr>
            <a:xfrm>
              <a:off x="179280" y="476280"/>
              <a:ext cx="125748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Rectangle 2"/>
            <p:cNvSpPr/>
            <p:nvPr/>
          </p:nvSpPr>
          <p:spPr>
            <a:xfrm>
              <a:off x="108000" y="1773360"/>
              <a:ext cx="1728720" cy="9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З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ОВНІШНЄ</a:t>
              </a: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Н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ЕЗАЛЕЖНЕ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О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ЦІНЮВАН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Line 6"/>
            <p:cNvSpPr/>
            <p:nvPr/>
          </p:nvSpPr>
          <p:spPr>
            <a:xfrm>
              <a:off x="1692360" y="189000"/>
              <a:ext cx="0" cy="6408720"/>
            </a:xfrm>
            <a:prstGeom prst="line">
              <a:avLst/>
            </a:prstGeom>
            <a:ln w="381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108000" y="189000"/>
            <a:ext cx="1728720" cy="6408720"/>
            <a:chOff x="108000" y="189000"/>
            <a:chExt cx="1728720" cy="6408720"/>
          </a:xfrm>
        </p:grpSpPr>
        <p:pic>
          <p:nvPicPr>
            <p:cNvPr id="77" name="Picture 3" descr="logo"/>
            <p:cNvPicPr/>
            <p:nvPr/>
          </p:nvPicPr>
          <p:blipFill>
            <a:blip r:embed="rId1"/>
            <a:stretch/>
          </p:blipFill>
          <p:spPr>
            <a:xfrm>
              <a:off x="179280" y="476280"/>
              <a:ext cx="125748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Rectangle 2"/>
            <p:cNvSpPr/>
            <p:nvPr/>
          </p:nvSpPr>
          <p:spPr>
            <a:xfrm>
              <a:off x="108000" y="1773360"/>
              <a:ext cx="1728720" cy="9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З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ОВНІШНЄ</a:t>
              </a: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Н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ЕЗАЛЕЖНЕ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О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ЦІНЮВАН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5"/>
            <p:cNvSpPr/>
            <p:nvPr/>
          </p:nvSpPr>
          <p:spPr>
            <a:xfrm>
              <a:off x="1692360" y="189000"/>
              <a:ext cx="0" cy="6408720"/>
            </a:xfrm>
            <a:prstGeom prst="line">
              <a:avLst/>
            </a:prstGeom>
            <a:ln w="381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Заголовок 1"/>
          <p:cNvSpPr/>
          <p:nvPr/>
        </p:nvSpPr>
        <p:spPr>
          <a:xfrm>
            <a:off x="1727280" y="333360"/>
            <a:ext cx="74167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uk-UA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uk-UA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ПРОБНЕ ЗНО</a:t>
            </a:r>
            <a:r>
              <a:rPr b="1" lang="uk-UA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br>
              <a:rPr sz="3200"/>
            </a:br>
            <a:r>
              <a:rPr b="1" lang="uk-UA" sz="2000" spc="-1" strike="noStrike">
                <a:solidFill>
                  <a:srgbClr val="ff3300"/>
                </a:solidFill>
                <a:latin typeface="Times New Roman"/>
              </a:rPr>
              <a:t>АНКЕТУВАННЯ УЧАСНИКІВ ПРОБНОГО ЗНО-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Object 8"/>
          <p:cNvGraphicFramePr/>
          <p:nvPr/>
        </p:nvGraphicFramePr>
        <p:xfrm>
          <a:off x="1835280" y="2133720"/>
          <a:ext cx="7127640" cy="4383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82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35280" y="2133720"/>
                    <a:ext cx="7127640" cy="438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Text Box 9"/>
          <p:cNvSpPr/>
          <p:nvPr/>
        </p:nvSpPr>
        <p:spPr>
          <a:xfrm>
            <a:off x="2484360" y="1484280"/>
            <a:ext cx="57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Мета участі у пробному З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3300"/>
                </a:solidFill>
                <a:latin typeface="Arial"/>
                <a:ea typeface="Times New Roman"/>
              </a:rPr>
              <a:t>ПРОБНЕ ЗНО: с</a:t>
            </a:r>
            <a:r>
              <a:rPr b="1" lang="uk-UA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татистика реєстрації</a:t>
            </a:r>
            <a:r>
              <a:rPr b="1" lang="uk-UA" sz="3200" spc="-1" strike="noStrike">
                <a:solidFill>
                  <a:srgbClr val="ff33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Group 3"/>
          <p:cNvGrpSpPr/>
          <p:nvPr/>
        </p:nvGrpSpPr>
        <p:grpSpPr>
          <a:xfrm>
            <a:off x="108000" y="189000"/>
            <a:ext cx="1728720" cy="6408720"/>
            <a:chOff x="108000" y="189000"/>
            <a:chExt cx="1728720" cy="6408720"/>
          </a:xfrm>
        </p:grpSpPr>
        <p:pic>
          <p:nvPicPr>
            <p:cNvPr id="86" name="Picture 4" descr="logo"/>
            <p:cNvPicPr/>
            <p:nvPr/>
          </p:nvPicPr>
          <p:blipFill>
            <a:blip r:embed="rId1"/>
            <a:stretch/>
          </p:blipFill>
          <p:spPr>
            <a:xfrm>
              <a:off x="179280" y="476280"/>
              <a:ext cx="125748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Rectangle 2"/>
            <p:cNvSpPr/>
            <p:nvPr/>
          </p:nvSpPr>
          <p:spPr>
            <a:xfrm>
              <a:off x="108000" y="1773360"/>
              <a:ext cx="1728720" cy="9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З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ОВНІШНЄ</a:t>
              </a: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Н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ЕЗАЛЕЖНЕ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О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ЦІНЮВАН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6"/>
            <p:cNvSpPr/>
            <p:nvPr/>
          </p:nvSpPr>
          <p:spPr>
            <a:xfrm>
              <a:off x="1692360" y="189000"/>
              <a:ext cx="0" cy="6408720"/>
            </a:xfrm>
            <a:prstGeom prst="line">
              <a:avLst/>
            </a:prstGeom>
            <a:ln w="381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89" name=""/>
          <p:cNvGraphicFramePr/>
          <p:nvPr/>
        </p:nvGraphicFramePr>
        <p:xfrm>
          <a:off x="1692360" y="907920"/>
          <a:ext cx="7200720" cy="2449800"/>
        </p:xfrm>
        <a:graphic>
          <a:graphicData uri="http://schemas.openxmlformats.org/drawingml/2006/table">
            <a:tbl>
              <a:tblPr/>
              <a:tblGrid>
                <a:gridCol w="1500120"/>
                <a:gridCol w="1563840"/>
                <a:gridCol w="968040"/>
                <a:gridCol w="1224000"/>
                <a:gridCol w="1944720"/>
              </a:tblGrid>
              <a:tr h="73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ла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ількість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випускникі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ано заяво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лаче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зареєстровани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тавсь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5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мсь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арківсь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 2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,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0" name="Rectangle 39"/>
          <p:cNvSpPr/>
          <p:nvPr/>
        </p:nvSpPr>
        <p:spPr>
          <a:xfrm>
            <a:off x="1692360" y="3357720"/>
            <a:ext cx="73087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Дергачівський район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– 28,3%зареєстрованих (141 учень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Найбільше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- Дворічанський район (57%) Кегичівський район  (56 %), Лозівський район (54%) Шевченківський район (53%);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найменше м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. Ізюм (16%), м. Куп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'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янськ (18%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Найбільше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– Слатинський НВК (70%), Дергачівський НВК (43,6%), Черкаськолозівська ЗШ (50%),Козачолопанський НВК (45,2%), Солоницівська ЗШ №2 (43,4%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Найменше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– Ветеринарна ЗШ (0%), Дергачівська вечірня (змінна) школа (2,3%), Великопроходівська ЗШ (10%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3300"/>
                </a:solidFill>
                <a:latin typeface="Arial"/>
                <a:ea typeface="Times New Roman"/>
              </a:rPr>
              <a:t>ПРОБНЕ З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Group 3"/>
          <p:cNvGrpSpPr/>
          <p:nvPr/>
        </p:nvGrpSpPr>
        <p:grpSpPr>
          <a:xfrm>
            <a:off x="108000" y="189000"/>
            <a:ext cx="1728720" cy="6408720"/>
            <a:chOff x="108000" y="189000"/>
            <a:chExt cx="1728720" cy="6408720"/>
          </a:xfrm>
        </p:grpSpPr>
        <p:pic>
          <p:nvPicPr>
            <p:cNvPr id="93" name="Picture 4" descr="logo"/>
            <p:cNvPicPr/>
            <p:nvPr/>
          </p:nvPicPr>
          <p:blipFill>
            <a:blip r:embed="rId1"/>
            <a:stretch/>
          </p:blipFill>
          <p:spPr>
            <a:xfrm>
              <a:off x="179280" y="476280"/>
              <a:ext cx="125748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Rectangle 2"/>
            <p:cNvSpPr/>
            <p:nvPr/>
          </p:nvSpPr>
          <p:spPr>
            <a:xfrm>
              <a:off x="108000" y="1773360"/>
              <a:ext cx="1728720" cy="9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З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ОВНІШНЄ</a:t>
              </a: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Н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ЕЗАЛЕЖНЕ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О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ЦІНЮВАН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Line 6"/>
            <p:cNvSpPr/>
            <p:nvPr/>
          </p:nvSpPr>
          <p:spPr>
            <a:xfrm>
              <a:off x="1692360" y="189000"/>
              <a:ext cx="0" cy="6408720"/>
            </a:xfrm>
            <a:prstGeom prst="line">
              <a:avLst/>
            </a:prstGeom>
            <a:ln w="381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Text Box 7"/>
          <p:cNvSpPr/>
          <p:nvPr/>
        </p:nvSpPr>
        <p:spPr>
          <a:xfrm>
            <a:off x="395280" y="3213000"/>
            <a:ext cx="863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0" spc="-1" strike="noStrike">
                <a:solidFill>
                  <a:srgbClr val="ff3300"/>
                </a:solidFill>
                <a:latin typeface="Arial"/>
              </a:rPr>
              <a:t>!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2050920" y="1557360"/>
            <a:ext cx="662652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2001"/>
              </a:spcBef>
              <a:buClr>
                <a:srgbClr val="ff5050"/>
              </a:buClr>
              <a:buFont typeface="Wingdings" charset="2"/>
              <a:buChar char="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надання доступу до Інтернет та оргтехніки з метою ознайомленн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2001"/>
              </a:spcBef>
              <a:buClr>
                <a:srgbClr val="ff505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із Запрошенням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2001"/>
              </a:spcBef>
              <a:buClr>
                <a:srgbClr val="ff505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із схемами доїзду до пунктів пробного тестуванн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uk-UA" sz="3200" spc="-1" strike="noStrike">
                <a:solidFill>
                  <a:srgbClr val="ff3300"/>
                </a:solidFill>
                <a:latin typeface="Arial"/>
              </a:rPr>
              <a:t>з 01.02.2012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4T08:13:26Z</dcterms:created>
  <dc:creator>N.Rusanova</dc:creator>
  <dc:description/>
  <dc:language>en-US</dc:language>
  <cp:lastModifiedBy>Zver</cp:lastModifiedBy>
  <dcterms:modified xsi:type="dcterms:W3CDTF">2011-12-16T11:55:48Z</dcterms:modified>
  <cp:revision>128</cp:revision>
  <dc:subject/>
  <dc:title>Слайд 1</dc:title>
</cp:coreProperties>
</file>