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E88-E64C-4BC4-98DD-2151FD31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9C1-9A57-4CEC-9590-7B1784FE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67359-DB58-4E00-9742-DFB41BF9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42D9F-919E-4EFB-85AF-F5007F8F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B606F-A80D-405F-B610-690B9E57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C2FEA-0DD4-4A35-84B0-A7996A65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FA3A5-13B8-4D93-8F4F-F0944FF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45677-924F-4BDF-A2EF-01EEE3A2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9F7CA-A408-45ED-92A3-8F54FAB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C9220-68DB-4D27-9995-0A3F27E6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B8B73-292A-4AF6-A18A-0FD0E866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91CDC-03D3-4A38-AFA1-9C752CCF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840-E848-47D7-99F1-5588E387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656FC-6618-4D84-84D2-1AA40167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FE96C-8751-491B-A406-1569FAC8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E36CD-50F4-4017-8732-91E8CADB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E7388-442C-47E7-A5CF-C90A24CC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7B3E2-9C01-4FBE-A23C-AFA909E9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1C971-A1A4-4081-9DD3-2454AFF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68787-64F1-4FAB-BADF-C2D637C1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C9117-64C2-419D-B66C-F77BC83F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42B37-2390-4C28-B56F-45799B4D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97432-CB38-49E0-9ED0-187E224B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3C6-43CB-42D4-9A94-F38F826B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0265B-F12B-4533-8595-81F00E64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865-8B26-43E9-85FE-90D2D344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CA3E-DD0C-4326-A3A2-6612D4C8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F715-4DCE-41E0-9DCD-6C2A4E31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15DB-7924-495B-84A1-28400316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EAAD-564E-4B41-9DCA-081ACF3B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E6F3-DA4F-47F9-B867-DF392082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BD68-10C0-408A-8FC0-4D880629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817-2736-401C-97AC-43E6EBAC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A75C-8C56-44E1-8E38-A24B01A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A1C2-D257-4ECD-96AD-96D850C7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76E6-EA8F-4313-B44A-6F08F73E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7987-9798-4E6F-AC6A-6DD33CD4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22E1-3C56-4374-A7A5-ABFB4196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44CD-6E4F-46C1-B42D-D858315F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771E-ADFB-4E8E-B25C-75D87545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DA6C-E6B0-4C42-8AD8-C697606B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B120-59C4-4B61-A288-8AFBDB19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3B7F-B356-4668-B408-1E0785FB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63B-2D03-4AEB-8D62-5830F28C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3320-BD35-420C-B395-7F7F31BD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43E2-21AC-489E-870C-17643540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E60D-535A-4B29-8A22-DB04F2A9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4885-1F26-459B-A6D4-86152F17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A206-2BF8-4B56-B78A-695D7F45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2C80-2EC9-4214-9FC5-D038B613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DA26-3F5B-4DF0-AFE8-6362404E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5189-5889-4493-926E-C47EBDF2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8A226-9D83-4A78-AF29-3BC6EF2F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BEAC-74D6-44AF-8214-D2E2F7CE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E59-7FCC-4B4B-9CE2-36A69A02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4E02-E064-4E83-BB47-1F6DC6C2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2508-6FD3-46DD-8A52-18F5E494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1E289-412B-4858-BF82-8BCD159B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F384-EBD7-4D29-9101-DD0D8EE7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B718-FE5F-4236-B2B0-A7FE4F5A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B230-796B-4B11-9588-DBB7F5D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8D917-8121-4D38-BDBF-BD156B9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786E2-C027-4467-BCCD-066B4229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95E1-1C81-4B0D-8C6C-3AC988F9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0B55F-D17F-41E5-8171-5C3D5277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E5E-EEDE-42B0-947E-948AC048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D2470-23DC-4B62-B19C-5A3C907F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48967-57EE-4A6F-83A2-6AC3F1DB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28AB-9AF6-401C-BA7A-792AC50B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0EBA6-EA09-4FA3-9C4E-70A5C02D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CC46-3123-4CB1-8DF5-3BC564D8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85C87-35F0-4CDE-90BD-F7B32B6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3B289-FB81-4801-93D7-A4CFEA2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8053-AF18-41FF-9A43-BDCBD0BF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70D16-3679-428B-BB05-1E00C570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BCA48-6E1C-41EC-ABEA-89AF1307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208-8850-4B0D-8CD5-54324ED2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C969D-3169-41DA-937D-0A61C7F5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3407B-12B8-4D0E-A835-A89E5CE8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B63DA-7F8B-498F-823C-F9DA58B6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09534-1372-4D82-8F67-02B32DE8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49E91-66B9-4620-8D38-A671D1BE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0EF5B-EFC2-4A87-BF18-5FFB417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9289C-7B73-4AD8-B1A2-3EE3DBC3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8E5A7-6F59-464E-BA55-DD3CC32E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EF958-845F-4981-BFA0-2D4F0E30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9A5D2-CEC4-4DB9-B2F9-53931DF8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91D-F025-42DB-93F7-69AB1377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1CED2-C69F-4D94-A08C-B0038263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05CCA-2BA3-496F-B4EB-A1ADBE03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BBB0F-A320-424A-BB7E-89F9F908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69919-DC4C-4A18-8FBF-F6D3F029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B5E7-B249-4D37-8355-A4F04218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B648B-CFC2-48D6-A5A8-3E472EB2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D4BD-B78D-4B30-9322-E8EDAE3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6DD1D-BBAA-41ED-A9E1-A17860C0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C5937-B707-4F6A-9E6E-291F748D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D7B52-1E47-427A-8024-D4B21257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B13-5AD2-4AA2-8068-95BCCA36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D7B6B-339D-4D31-B1E1-602D898F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B797-3723-4482-82DA-84AED6A7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FCEAA-16DD-4C3F-B4C5-4867C218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ECA63-773C-40A2-8EAF-9A476F8D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0EE6F-6495-4339-BD6A-D4723211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0A7D-BC6F-4D6E-826B-4D59E389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167BA-2926-47A4-B568-2B293171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098D3-5AA0-413D-8EF2-3AD27E1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132FB-A2B7-4BF3-A83B-87E553E5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3CE28-589C-4E63-9256-B7BFED22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8B1-29EA-4EB0-87F1-5B1A3F5F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97B34-8058-44CC-9194-C23E1360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38305-DBBF-4014-B9E8-0EE652FB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3D78A-6557-4ADB-9061-7EBA0C8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4B24F-D3A4-45DD-A5A1-013457D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7B51F-697E-4EFF-BF54-88C72EEA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CFC65-3A4A-4AFD-8D20-311EDAAC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AD477-F979-467D-B295-8021CD62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C0A8A-CEF2-4ACE-99D5-AC1477FB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2985B-D1AB-458E-9B3B-903984F1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D87E7-A907-4AF0-97D4-9EF8A1F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D21A-69A4-4622-830D-DE454264F62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d37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24c0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8bb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2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72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73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8511-24E9-4F93-BD20-DF592B9025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C6FB-19B7-44BA-B801-D9A80FA1FC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24c0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8bb9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99ED-5821-421B-B147-49A6F6D554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A20F-A09F-4B1E-88F0-60BE6A8A7F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7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7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8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D559-5871-4B7C-8A0E-9823019373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2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3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3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AA8-3603-4DD2-9925-825A6B4485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8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0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1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3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239-F948-4CA4-A10D-6819712630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8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0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2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9F3C-CC0A-4D59-A41E-04A80D9F1C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F499-C15D-42EF-AF9F-00823A0CEE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5f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1619280" y="692280"/>
            <a:ext cx="633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УМ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19160" y="2205000"/>
            <a:ext cx="890568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ДІСТЬ  ПІЗНАННЯ -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ІЯ  ДО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ВЧАНН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0" y="508464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4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86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eaeaea"/>
                </a:solidFill>
                <a:uFillTx/>
                <a:latin typeface="Arial"/>
              </a:rPr>
              <a:t>МЕТА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ясувати значення понять, стимулу і мотив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Ознайомити з методами формування мотивації навчальної діяльності школярів за сучасних умов та методичними порадами щодо стимуляції навчанн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7143840" y="3789360"/>
            <a:ext cx="2000160" cy="3068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320364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550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ahoma"/>
              </a:rPr>
              <a:t>СТИМУЛ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– це засіб, який спонукає до посиленої діяльності, своєрідний зовнішній поштов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ahoma"/>
              </a:rPr>
              <a:t>МОТИВ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– це усвідомлене дитиною внутрішнє спонукання до д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e3e3ff"/>
                </a:solidFill>
                <a:uFillTx/>
                <a:latin typeface="Arial"/>
              </a:rPr>
              <a:t>СХЕМА РАДОСТІ ПІЗНАНН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7432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ІНТЕРЕС  -  АКТИВНІСТЬ  -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УСПІХ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7d47d"/>
                </a:solidFill>
                <a:latin typeface="Arial"/>
              </a:rPr>
              <a:t>Методи формування позитивних мотивів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аочніс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пошукові, практичні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методи самостійної навчальної робот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ігрові ситуації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методи емоційного стимулюванн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ситуації пізнавальної новизн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ачальні дискусії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пізнавальні суперечності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створення ситуацій успіху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uk-UA" sz="2800" spc="-1" strike="noStrike" u="sng">
                <a:solidFill>
                  <a:srgbClr val="ffffcc"/>
                </a:solidFill>
                <a:uFillTx/>
                <a:latin typeface="Arial"/>
              </a:rPr>
              <a:t>Найоптимальніші методи і прийоми мотивації   навчальної діяльності: 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- проблемно-пошукові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- інтерактивні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особистісно-орієнтовані.    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                    </a:t>
            </a:r>
            <a:r>
              <a:rPr b="1" lang="uk-UA" sz="2800" spc="-1" strike="noStrike" u="sng">
                <a:solidFill>
                  <a:srgbClr val="ffffcc"/>
                </a:solidFill>
                <a:uFillTx/>
                <a:latin typeface="Arial"/>
              </a:rPr>
              <a:t>Форми роботи</a:t>
            </a: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індивідуальні,парні, групові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співпраця вчителя і учня на уроці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змагання, гра, ігрові ситуації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творчі завдання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ситуації створення успіху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;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*враховувати специфіку класу та індивідуальні можливості учнів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006600"/>
                </a:solidFill>
                <a:uFillTx/>
                <a:latin typeface="Arial"/>
              </a:rPr>
              <a:t>Арт. терапі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0" y="1628640"/>
            <a:ext cx="874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МАЛЮВАТИ     СВОЮ      РАДІ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2411280" y="4443480"/>
            <a:ext cx="4392720" cy="2414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396360" cy="68803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 txBox="1"/>
          <p:nvPr/>
        </p:nvSpPr>
        <p:spPr>
          <a:xfrm>
            <a:off x="1476360" y="1557360"/>
            <a:ext cx="6983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ЯКУЄМО  ЗА  УВАГ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2411280" y="4005360"/>
            <a:ext cx="5189760" cy="285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51:02Z</dcterms:created>
  <dc:creator>Admin</dc:creator>
  <dc:description/>
  <dc:language>en-US</dc:language>
  <cp:lastModifiedBy>Ученик</cp:lastModifiedBy>
  <dcterms:modified xsi:type="dcterms:W3CDTF">2012-02-13T11:38:31Z</dcterms:modified>
  <cp:revision>7</cp:revision>
  <dc:subject/>
  <dc:title>Слайд 1</dc:title>
</cp:coreProperties>
</file>