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07F-5BD3-4725-BF1D-46BBDE18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A4CB-EE04-4CE6-8264-ECB3DDF7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CD556-72B7-4E49-926C-3662FB06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7576C-DCC1-4A76-AEA8-4BF06A23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18E38-0F81-4433-AF57-AD86B7F8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BCC61-35B2-4656-9C0D-91730626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1D01B-265A-41C1-B1A0-CA1E6B61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693CC-DC54-4C3C-B478-2AFDF628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8938A-4F15-4F04-8D2F-370C761C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8D433-7BB5-4AE8-9512-C157460B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88A2F-54E3-4F5D-8926-CC93C86A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9CF91-2141-4269-BD7E-54059205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13B-46B7-4896-AAD4-163CB97F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D05DA-6CA7-46CC-81E2-884B5B0B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6D5AA-604E-4765-95D4-49AB0B38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878AD-DAC0-44F8-95ED-4670BCAB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B53D9-3718-4C3C-963D-F37D96E0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BF387-8E3C-4824-94AF-ECEC9F71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5B3BC-AE9C-4421-A190-D679277E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F2572-1DED-45F3-9B8D-41950F13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3FD66-D269-4B92-900C-C44F5A77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EB82D-5A32-4730-B5D8-B6AD4295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1BA9C-318D-4085-AB1C-1FD01060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FB0-A217-468E-A059-6D5EE582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1E805-3F4C-496D-AE2D-2D4DB541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4527-52B3-45E2-876E-430018E2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E495-4683-4C64-8E08-6BE60150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D29E-7241-45A0-8725-F083AB8D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0063-20FC-4340-A7DE-0CF6AD40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F1B9-1FDB-4757-9781-183288B4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60CB-4DD4-4488-A0FE-659D66C8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F614-5095-4E18-A31A-04608280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4A0-21A1-4FF4-8F93-364C330E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AC31-2369-4A06-8409-CE7DBAF6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F8F1-FA84-454C-9362-43433A05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AA56-CB8E-4886-90F9-FA4707FE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E51D-89B6-42BC-A412-AEE81F22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3773-9BD4-46A7-BA06-2F4B8548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2399-0FA5-4FDC-B40C-5C0F7BCA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9B9B2-97A7-4CDC-81A5-9B12D5A0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3E921-4DE9-4DAF-ACC5-973CE194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4E045-C2B3-4B1B-8BC0-264DEDB0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8F2FE-07D9-4AEE-AAA4-BACE6DCB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8FA-A2CF-4A98-9E7C-26CF6CA6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DEBD2-0BC0-4B48-8636-AACA1997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12CC1-1680-4387-A8A5-FA0201DB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7A365-231C-4D5D-899C-2726BCE7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80264-CD21-4781-9259-D84701DC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5732A-C13F-4998-B214-BA823F03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66A8E-B1AB-41BB-BBB5-0BDC7483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9FDF-7C66-4469-97B0-BA9249B9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400A3-E168-43B4-88F2-472A0F21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98682-E9A0-48BB-9BBA-E4A20FF5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14584-1B13-46F8-A115-DFEDD6F0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437-35D6-4273-B2DB-FE038D59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E6E3E-704E-4A46-B422-F29DF74D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875B2-0915-4C7E-9EE9-00070608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8777E-3BD1-4109-9F86-B962FA09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B1FDB-355C-42F2-A571-D063FAF9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43D57-80F9-4944-B819-62455EF8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A8710-0DF3-4D7A-B380-EA2B278D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299A4-0A64-42F1-9700-6D947A4D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86138-423B-4C55-93A0-251410DF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04808-D1D6-4B6B-B184-08A561E9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5F530-5E46-4564-A6E4-3100318D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CEA-8440-47E6-8AE8-3CEE3556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7D292-40E4-45D4-9407-643C5FE8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17B9B-D382-4579-B5B2-019B2A4B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0A1BF-196D-4A13-8D27-A7411276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1DF53-4B0A-4879-8925-91D42344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28906-7065-49FD-94B6-914E5D7B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DC5A0-78DE-4E8A-81F8-89C3B0F5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6949B-F06A-4FF7-A19E-101D8B74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0E8CE-A4A3-49E7-A25E-8581C3DF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8C36A-EA1D-44DC-B742-E71FE05D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7F005-A76F-4B62-9879-FD114E47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6DA-10F0-41ED-A1C2-C8322435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38AFC-BDFA-4023-BAE1-0E378CD2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ADCD9-DA5D-434F-98AD-691DBB13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D443F6-7F32-4883-88D0-E3E32BD7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2217D0-0FA4-4B43-B3FB-D9501287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3D3E4-79B7-4AB9-8091-FAE73B01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A9431-EC87-435A-A7F7-EBC3E0E5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6933D1-0410-4B9D-9C38-19A924F6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A871A3-251F-4805-9663-80706887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20337-1ADA-404D-B405-7E90A837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5A9A83-B671-4A0C-BE32-55D30550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601-24E5-42F6-8870-7311CBAF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F4CF19-9DDA-4212-9124-AA24FFC7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3F2101-C367-488C-A086-7F15E287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21AC4A-7A33-4500-92A5-0A375251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4DA02-91C5-4410-9ABE-8BF10620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B9B41-E4D2-464E-A3C8-488D645C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E7AA0-7A9E-4C85-8B70-FF2EC6D1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AFB89-833D-482C-977F-93F3D487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52D53-6AC1-43A8-A0BD-D3B7BB50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9C0EA-D4BE-4A70-B84D-D9DF043D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9658C-E3F6-4479-865E-BDE8DDC9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97D7-A09F-40F6-8E95-E194D57A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3B025-26C6-463C-BC11-174C5A0F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38868-DB25-4795-8C99-F72C36D7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F319C-780B-4925-8B1A-F5F3E3F5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92349-6A0E-49F5-9D5F-DBB273FF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50170-903C-4036-BBC7-5D763A58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3354C-39FF-4F72-8E48-5B6BC5EA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1CB35-7DC2-4EEF-8F40-AD3EDC0C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85615-8C92-4A6B-876A-30DA4A78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30265-41BB-41B2-BC7E-8FC88E9C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7B06E-0574-4C71-BEB0-BA9AECF6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5B9-25FE-4F23-A60D-175281C4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54C5F-0C5A-4076-A729-F32A1E89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61F45-5AF3-46DE-97EF-3776D5FC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E308B-F6DB-4782-B11D-A1F8CC3E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5E3E4-FBEB-417F-84F6-CEB509ED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15802-9AC0-43A4-9AD5-DFAAA4DD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A4F36-6581-41BF-B0AF-9CC54750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FEB2C-D243-430C-90B2-3867D665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5F483-B8D0-4728-836C-FD8F8CEC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41DA8-29A8-443E-93A6-2BEC92D0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BFB1A-AA4A-47B7-8714-855EE484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6969"/>
            </a:gs>
            <a:gs pos="100000">
              <a:srgbClr val="37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f6969"/>
                </a:gs>
                <a:gs pos="100000">
                  <a:srgbClr val="8662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f6969"/>
                </a:gs>
                <a:gs pos="100000">
                  <a:srgbClr val="8662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8f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8f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f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f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f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3D7B-7FB7-4CD9-83DB-819F2B20B73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d37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24c0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8bb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72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72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73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EFB8-3013-46F8-A597-29C6B9136F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6969"/>
            </a:gs>
            <a:gs pos="100000">
              <a:srgbClr val="37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f6969"/>
                </a:gs>
                <a:gs pos="100000">
                  <a:srgbClr val="8662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f6969"/>
                </a:gs>
                <a:gs pos="100000">
                  <a:srgbClr val="8662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8f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8f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f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f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f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598C-12E2-4BF6-B88A-44E2A5385F1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924c0c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8bb9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8A97-6B32-47DE-B2E6-F152086611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6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6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336D-CDC8-4393-BF80-3BF0A97CFF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7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7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8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16F9-025C-462C-99F1-BAB5F482C8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2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3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3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4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074B-6893-4F08-B265-FDABBE43A2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8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0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1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1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3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D9C6-A6A6-4B80-B692-DEC761AFDD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8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8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9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0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0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0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2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6115-8B30-4E79-800D-C19AE97A67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72EF-6F8F-4554-ADB6-5071BBA0B1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5f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1619280" y="692280"/>
            <a:ext cx="6337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УМ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119160" y="2205000"/>
            <a:ext cx="890568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2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ДІСТЬ  ПІЗНАННЯ -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ІЯ  ДО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ВЧАНН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3"/>
          <a:stretch/>
        </p:blipFill>
        <p:spPr>
          <a:xfrm>
            <a:off x="0" y="508464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4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286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eaeaea"/>
                </a:solidFill>
                <a:uFillTx/>
                <a:latin typeface="Arial"/>
              </a:rPr>
              <a:t>МЕТА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ясувати значення понять, стимулу і мотив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Ознайомити з методами формування мотивації навчальної діяльності школярів за сучасних умов та методичними порадами щодо стимуляції навчанн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7143840" y="3789360"/>
            <a:ext cx="2000160" cy="306864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2"/>
          <a:stretch/>
        </p:blipFill>
        <p:spPr>
          <a:xfrm>
            <a:off x="0" y="4653000"/>
            <a:ext cx="320364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5500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ahoma"/>
              </a:rPr>
              <a:t>СТИМУЛ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– це засіб, який спонукає до посиленої діяльності, своєрідний зовнішній поштов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ahoma"/>
              </a:rPr>
              <a:t>МОТИВ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– це усвідомлене дитиною внутрішнє спонукання до ді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e3e3ff"/>
                </a:solidFill>
                <a:uFillTx/>
                <a:latin typeface="Arial"/>
              </a:rPr>
              <a:t>СХЕМА РАДОСТІ ПІЗНАНН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37432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ІНТЕРЕС  -  АКТИВНІСТЬ  -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УСПІХ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d47d"/>
                </a:solidFill>
                <a:latin typeface="Arial"/>
              </a:rPr>
              <a:t>Методи формування позитивних мотивів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наочність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пошукові, практичні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методи самостійної навчальної робот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ігрові ситуації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методи емоційного стимулюванн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ситуації пізнавальної новизн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начальні дискусії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пізнавальні суперечності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створення ситуацій успіху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6969"/>
            </a:gs>
            <a:gs pos="100000">
              <a:srgbClr val="37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208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uk-UA" sz="2800" spc="-1" strike="noStrike" u="sng">
                <a:solidFill>
                  <a:srgbClr val="ffffcc"/>
                </a:solidFill>
                <a:uFillTx/>
                <a:latin typeface="Arial"/>
              </a:rPr>
              <a:t>Найоптимальніші методи і прийоми мотивації   навчальної діяльності: 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- проблемно-пошукові;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- інтерактивні;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особистісно-орієнтовані.    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                     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                    </a:t>
            </a:r>
            <a:r>
              <a:rPr b="1" lang="uk-UA" sz="2800" spc="-1" strike="noStrike" u="sng">
                <a:solidFill>
                  <a:srgbClr val="ffffcc"/>
                </a:solidFill>
                <a:uFillTx/>
                <a:latin typeface="Arial"/>
              </a:rPr>
              <a:t>Форми роботи</a:t>
            </a: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 :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*індивідуальні,парні, групові;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*співпраця вчителя і учня на уроці;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*змагання, гра, ігрові ситуації;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*творчі завдання;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*ситуації створення успіху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;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*враховувати специфіку класу та індивідуальні можливості учнів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006600"/>
                </a:solidFill>
                <a:uFillTx/>
                <a:latin typeface="Arial"/>
              </a:rPr>
              <a:t>Арт. терапія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0" y="1628640"/>
            <a:ext cx="8748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7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АМАЛЮВАТИ     СВОЮ      РАДІ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2411280" y="4443480"/>
            <a:ext cx="4392720" cy="2414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6969"/>
            </a:gs>
            <a:gs pos="100000">
              <a:srgbClr val="37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396360" cy="688032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 txBox="1"/>
          <p:nvPr/>
        </p:nvSpPr>
        <p:spPr>
          <a:xfrm>
            <a:off x="1476360" y="1557360"/>
            <a:ext cx="6983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ЯКУЄМО  ЗА  УВАГУ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2411280" y="4005360"/>
            <a:ext cx="5189760" cy="2852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4:51:02Z</dcterms:created>
  <dc:creator>Admin</dc:creator>
  <dc:description/>
  <dc:language>en-US</dc:language>
  <cp:lastModifiedBy>Ученик</cp:lastModifiedBy>
  <dcterms:modified xsi:type="dcterms:W3CDTF">2012-02-13T11:38:31Z</dcterms:modified>
  <cp:revision>7</cp:revision>
  <dc:subject/>
  <dc:title>Слайд 1</dc:title>
</cp:coreProperties>
</file>