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wmf" ContentType="image/x-wmf"/>
  <Override PartName="/ppt/media/image7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2AA-63D0-4E8C-91AB-E154B464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DBA-9116-45E5-BDD5-B55CA645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982-89D0-4A62-A84C-283082B4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CCB-A171-4C84-8F6E-BF7CAACA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BD4-C207-4393-9E53-19D80634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8C0-CA98-4C95-AFE6-414ACD0E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A23-014D-4DB3-B5BA-6C617C33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A49-D969-4F62-A7E0-6CA8D704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D83-4ADE-46C6-B39D-793EFF22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581-4190-4411-9F72-B828CAEA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B1F-09E0-434F-BBDA-22A6A7CD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722-9FA2-4AE3-8F7A-C76AFA55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D361-5B05-4B22-8A9D-D99A143FE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роблемний семінар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Форми контролю та оцінюванн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F:\відкриті уроки\геометрія Власова З.А\IMG_0109.jpg"/>
          <p:cNvPicPr/>
          <p:nvPr/>
        </p:nvPicPr>
        <p:blipFill>
          <a:blip r:embed="rId2"/>
          <a:stretch/>
        </p:blipFill>
        <p:spPr>
          <a:xfrm>
            <a:off x="684360" y="2276640"/>
            <a:ext cx="2498400" cy="28764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1" descr="F:\відкриті уроки\інформатика Оніщенко М.С\IMG_0207.jpg"/>
          <p:cNvPicPr/>
          <p:nvPr/>
        </p:nvPicPr>
        <p:blipFill>
          <a:blip r:embed="rId3"/>
          <a:stretch/>
        </p:blipFill>
        <p:spPr>
          <a:xfrm>
            <a:off x="3348000" y="1989000"/>
            <a:ext cx="2340000" cy="22194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F:\відкриті уроки\Оздоєва О.М\IMG_0313.jpg"/>
          <p:cNvPicPr/>
          <p:nvPr/>
        </p:nvPicPr>
        <p:blipFill>
          <a:blip r:embed="rId4"/>
          <a:stretch/>
        </p:blipFill>
        <p:spPr>
          <a:xfrm>
            <a:off x="6012000" y="3500280"/>
            <a:ext cx="2620800" cy="168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492360" y="4221000"/>
            <a:ext cx="2232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71680" y="356760"/>
            <a:ext cx="8229600" cy="69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ожна рекомендувати наступне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міст матеріалу, винесений на контрольну роботу, розбити на 4-6 запитань з таким розрахунком, щоб добре підготовлений учень міг відповісти на кожне протягом 5-7 хвил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апитання та завдання мають бути 4 рівнів складності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чатковий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рівень – рівень запам’ятовування та відтворення інформації -  оберіть правильну відповід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ередній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рівень – рівень розуміння - дайте визначе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остатній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рівень – рівень стандартних умінь і навичок - дайте відповідь на запропоноване запита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исокий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рівень – рівень перенесення, творчості - доведіть або дайте аргументовану відповід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71680" y="785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питання та завдання не повинні виходити за рамки програми і підручника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б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зково вказувати кількість балів, якою буде оцінено правильну відповідь на кожне запитанн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ажано, щоб запитання та завдання пропонувалися дітям у письмовій формі, що дає можливість подумати, нічого не прослухати, не пропустити, як то буває, коли сприймаєш на слу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іоритетними на сучасному уроці є активні методи навчання і контролю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Вони розвивають здібності учнів і водночас є економним і оперативним видом контролю, забезпечують індивідуальний підхі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2876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Однією із таких форм роботи є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тестові завданн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Тести мають певні негативні рис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: виявляють часом не стільки глибокі знання учнів, скільки учнівську кмітливість та інтуїцію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Та серед переваг тестового контролю методисти виділяю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исоку технологічність і можливість використання ком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ютерних технологій як для створення тестів, так і для проведення тестува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корочення часу на контроль дозволяє вивільнити час для інших видів роботи на урока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економить час вчителя на перевірці робі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озволяє здійснити оперативний зворотній з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зок на етапі вивчення нового матеріал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к порівняно нова і сучасна технологія активізує пізнавальну діяльність ді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а найважливішою перевагою тестового контролю є те, що оцінка навчальних досягнень учнів не залежить від суб’єктивної думки вчителя чи іншого перевіряючо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0004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Оцінювання – процес суб”єктивний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ро суб’єктивізм свідчать хоча б деякі феномени, з якими ми часто зустрічаємося під час випускних іспитів. Подумайте, чи помічали ви такі явища. Наприклад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Оцінка учня після слабкої відповіді попередника – вища за його успіх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Учителі з великим стажем роботи ставлять нижчі бали, ніж молоді вчителі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Швидший темп відповіді створює враження більшої компетентності і відповідь оцінюють вищ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ізним учням учителі ставлять запитання різної складності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Тести бувають закриті, напіввідкриті та відкриті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етою закритих тестів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 пригадування й розпізнавання навчального матеріалу, вміння синтезувати і аналізувати його. Закритого типу тести є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ибіркові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вибрати літеру правильної відповіді);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на відповідність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так чи ні);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на послідовність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розмістити в певному порядку літери, поняття, явища тощ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апіввідкриті тести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прияють перевірці здатності учня до пригадування інформації та оперувати певними навчальними категоріями та поняттями. Учні повинні дати лаконічну відповідь (словом, реченням), вставити пропущену літеру (слово), закінчити дум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004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ідкриті тести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винні виявляти рівень розуміння тематичного матеріалу, вміння висловлювати судження, робити логічні висновки, наводити приклади, застосовувати теоретичні знання тощо. Такі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авдання проблемного і творчого характеру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ожуть бути розгорнутої й стислої форми: дати ґрунтовну (коротку ) відповідь на запитання, закінчити думку, порівняти явища, написати твір-мініатюру тощ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йкращою формою тестових завдань на ТО є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знорівневі тести комбінованого характеру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Вони побудовані за принципом поступового ускладнення (від початкового до високого рівн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итання оц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ювання знань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найскладніша педагогічна проблема. Це тема, яку вчителі готові обговорювати без кінця. Тим більше, що шкільна оцінка – результат не тільки роботи учня. У ній поєднано характер і стиль роботи вчителя, його ставлення до учня, настрій педагога. На необхідності оцінювання знань наголошують всі учасники освітнього процесу: вчителі, учні та бать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отуючи тестові завдання, треба орієнтуватися на такі вимог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ітка відповідність тому, що вимагає прогр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еалізація принципу різнорівневост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ідповідність критеріям оцінюван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птимальність обся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окий ступінь угадування закритих тестів мінімілізується через збільшення кількості варіантів відповіді(при двох відповідях ймовірність вгадування – 50%, при 5 – 20%). У тестах з 2, 3 правильними відповідями із 5 запронованих вірогідність вгадування складає лише 4%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 роботі з відкритими тестами елемент вгадування зводиться практично до 0.  Ще можна при оцінюванні результатів тестування використовувати шкалу, де “1” бал - правильна відповідь, “0” – немає відповідь, “- 1” – неправильна відповідь. Про такий спосіб  також треба попередити учнів перед початком тестуван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DreamWolf\Рабочий стол\квіти\0_3ae3c_a9a9ad67_M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3" descr=""/>
          <p:cNvPicPr/>
          <p:nvPr/>
        </p:nvPicPr>
        <p:blipFill>
          <a:blip r:embed="rId3"/>
          <a:stretch/>
        </p:blipFill>
        <p:spPr>
          <a:xfrm>
            <a:off x="1116000" y="4941720"/>
            <a:ext cx="6888240" cy="141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459000" y="98280"/>
            <a:ext cx="9979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  <a:ea typeface="Arial"/>
              </a:rPr>
              <a:t>Шкільне життя наповнен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  <a:ea typeface="Arial"/>
              </a:rPr>
              <a:t>різноманіттям дитячих голосів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  <a:ea typeface="Arial"/>
              </a:rPr>
              <a:t>радісних, захоплених, серйозних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  <a:ea typeface="Arial"/>
              </a:rPr>
              <a:t>Уроки один за одним, нарад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  <a:ea typeface="Arial"/>
              </a:rPr>
              <a:t>чергування та нові перспектив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  <a:ea typeface="Arial"/>
              </a:rPr>
              <a:t>Ми, як і раніше, у творчому пошуку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  <a:ea typeface="Arial"/>
              </a:rPr>
              <a:t>і наші мрії спрямовані в майбутнє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бмін досвід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. Яким  формам контролю та оцінювання ви  надаєте  перевагу і чому?                                                                                                     2. Ефективні  на вашу думку методи  контролю за виконанням домашнього завдання.                                                                                                                                        3. Роль своєчасного оцінювання навчальних досягнень учнів для підвищенні якості зна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762480"/>
            <a:ext cx="860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Тестуванн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таннім часом стає найрозповсюджени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дом контрол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ть тестування  заключається у постановці  перед учнями  деякої  системи питань,відповідаючи на які, учні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ують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івні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вчальних  знань і умінь , психичного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розвит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ціального досві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3607200"/>
            <a:ext cx="820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Виды тестів в залежності від мети перевер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и форми відповід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ст на заповнення  пропусків в правильному твердженні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ст на встановлення  правильності твердже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ст з вибором відповід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7000" y="1779480"/>
            <a:ext cx="85230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равила тестуван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 можна  включати  відпоіді, неправильність яких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мен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стування не може бут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грунтована  учн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правильні відповіді  повинні  конструюватися на підставі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ових помилок  і   повинні бути правдоподібним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ьні відповіді серед  усіх запровпонованих відповід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инні бути розміщені у довільному поряд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питання  не повинні  повторювати  формуліровку  підруч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ідповіді на питання не повинні бути підказками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Відповіді не повинні мати  "ловушок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94536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Тести навченості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стосовуються  на всіх етапах дидактичного  проце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допомогою тестів  еффективно забезпечується попередній, поточний, тематичний та  підсумковий контроль знань, умінь, облік успішност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138120"/>
            <a:ext cx="756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Переваги  тестової перевір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часно зайнятий  та  продукти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цює  весь кла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декілька  хвилин  можна отримати  зріз навченості  всіх учні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ід час перевірки   виявляються  прогал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знанн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8000" y="2249640"/>
          <a:ext cx="9036000" cy="4608000"/>
        </p:xfrm>
        <a:graphic>
          <a:graphicData uri="http://schemas.openxmlformats.org/drawingml/2006/table">
            <a:tbl>
              <a:tblPr/>
              <a:tblGrid>
                <a:gridCol w="8136000"/>
                <a:gridCol w="9000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Будь-які три точки лежать в одній площині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Будь-які  чотири точки лежать в одній площині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Будь-які чотири точки не лежать в одній площині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 Якщо  пряма перетинає 2 сторони трикутника, то вона лежить в площині трикутника.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5 точок не лежать в одній площині. Чи можуть  які–небудь 4 з них лежати на одній прямі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 Через середини сторін квадрата проведена площина. Чи співпадає   вона з площиною квадрат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100"/>
          <p:cNvSpPr/>
          <p:nvPr/>
        </p:nvSpPr>
        <p:spPr>
          <a:xfrm>
            <a:off x="8172360" y="35002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Н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01"/>
          <p:cNvSpPr/>
          <p:nvPr/>
        </p:nvSpPr>
        <p:spPr>
          <a:xfrm>
            <a:off x="8344080" y="22050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02"/>
          <p:cNvSpPr/>
          <p:nvPr/>
        </p:nvSpPr>
        <p:spPr>
          <a:xfrm>
            <a:off x="8172360" y="27813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Н</a:t>
            </a:r>
            <a:r>
              <a:rPr b="1" lang="uk-UA" sz="2400" spc="-1" strike="noStrike">
                <a:solidFill>
                  <a:srgbClr val="1f497d"/>
                </a:solidFill>
                <a:latin typeface="Times New Roman"/>
              </a:rPr>
              <a:t>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04"/>
          <p:cNvSpPr/>
          <p:nvPr/>
        </p:nvSpPr>
        <p:spPr>
          <a:xfrm>
            <a:off x="8244000" y="43657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05"/>
          <p:cNvSpPr/>
          <p:nvPr/>
        </p:nvSpPr>
        <p:spPr>
          <a:xfrm>
            <a:off x="8207280" y="4581360"/>
            <a:ext cx="93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Н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06"/>
          <p:cNvSpPr/>
          <p:nvPr/>
        </p:nvSpPr>
        <p:spPr>
          <a:xfrm>
            <a:off x="8101080" y="5013360"/>
            <a:ext cx="799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Т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31"/>
          <p:cNvSpPr/>
          <p:nvPr/>
        </p:nvSpPr>
        <p:spPr>
          <a:xfrm>
            <a:off x="684360" y="134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Чи правильне  твердження ?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0"/>
            <a:ext cx="82296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еревірка домашнього зава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280" y="1012680"/>
            <a:ext cx="813744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собливо важливим у з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зку з цим є контроль навчальних досягнень учнів , визначення рівня їх компетенції з певної теми предметного курс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Форму і методику проведення контрольних робіт вчитель визначає, виходячи з особливостей свого предмета, вікових, індивідуальних і психологічних особливостей учн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6:57:18Z</dcterms:created>
  <dc:creator>Люда</dc:creator>
  <dc:description/>
  <dc:language>en-US</dc:language>
  <cp:lastModifiedBy>Подвірський НВК</cp:lastModifiedBy>
  <dcterms:modified xsi:type="dcterms:W3CDTF">2014-11-27T09:03:42Z</dcterms:modified>
  <cp:revision>11</cp:revision>
  <dc:subject/>
  <dc:title>Форми контролю та оцінювання</dc:title>
</cp:coreProperties>
</file>