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chimes.wav" ContentType="audio/x-wav"/>
  <Override PartName="/ppt/media/image2.gif" ContentType="image/gif"/>
  <Override PartName="/ppt/media/image10.wmf" ContentType="image/x-wmf"/>
  <Override PartName="/ppt/media/image3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9A1-5379-465A-B122-65FBEECB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30C-FB34-45FB-AC26-755E89B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E1A-7242-42F1-94FD-FC19F783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3BB-1F11-4BAE-B0AB-274C418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1D10-B551-4759-B441-24E6AE8A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4739-7099-499F-AE51-32971BBC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95B5-C523-4216-AB8B-6F71DF9C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E067-B09A-45B8-B40E-BCA694C4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E843-0141-44D8-9B51-6F13F63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085A-6B1B-49F1-AC81-2447312B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9BE-5C84-47B9-8041-82987D0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DA2-197E-4D10-AE97-B40ECBA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F24A-EAD7-4DDC-B03A-DC4BE74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5EAE-329B-4977-B1CA-BF4DD27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02C-A5F7-4057-98B6-9F91D2B1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921D-9997-468B-9573-8CD9E82E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A1E-1300-4AE4-A2B8-4BB7AAC5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8768-950F-4490-83AF-32A01CCD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6847-4983-4153-9C31-91E5704C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3347-54CD-40DA-8F72-FD218691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6575-DCDE-444B-8A08-7C931AC1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AF50-57F8-41CB-9EA6-9D78E1ED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B3C-5B09-49F2-B9C1-355BA7E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D602-EA48-42AA-A7E3-CD4EC73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2F0C-0F5F-4840-9AC6-14BE674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6B31-CEF0-4910-A3BE-C216AEC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641F-751C-42BA-A100-5BC4CB6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266C-05BF-483C-A33A-1585B0E8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68D9-7057-4956-B087-1724CA18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D80E-9638-47F3-B3C9-E5406339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E069-2F31-46C5-8B9E-B71B8822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2553-244F-41C2-8EEF-10E5C6A6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D881-7035-4F34-B6AA-303B724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F03-634F-4433-A6BB-3CF6BE5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129E-819D-4A97-8A11-DBF46559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5340-2954-4DF7-B2B9-E18D0D3B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1975-72F2-425F-A72F-500B2B43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2DB1-7130-4354-936F-6A2B175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806F-1C3E-406D-9689-5C85C7C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3040-F78C-4232-B804-E0853F4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F352-49C2-4179-8EA7-501E6EE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D910-E730-4120-8A20-AF6A52C6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4D7D1-0010-4D67-A664-6E3BA529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DAA04-C410-47DD-AA94-02ADDEE7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64A-89E3-4783-BB2B-98FAD26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2237A-5688-4AA2-B284-BF45D72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CE798-F7D7-4086-ABA7-3C287D2B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2B3A-92D6-4C56-B2A3-D8BAC75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3199-8F09-43B3-B192-22266C4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6C13A-B89B-42B1-9B0D-9E05CAD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2CF1-0049-42B5-8973-E73AF3B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E110-7905-4E43-A372-A0E24B5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0AB5-45FD-494A-BCBE-1BCEC14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2A84-52F7-4A18-95A5-20DF045A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A51F-EC61-4C63-BB90-0BB71AEB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462-8210-466D-AC7B-EB1A8144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ADA7-C2B2-4535-9B59-99AB3BA8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9B45-1CA0-4326-BE58-01CE8F5B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E2CF-FF29-46BD-975D-8467A39B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3D07-E131-4BC9-BA0D-FE4B2AFD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4B36-7B01-4ECB-B5EC-C38DA51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34D8-5BC7-4F65-94B8-EF276537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3836-CC38-4032-9355-ADA85064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C4841-082D-49FF-86BC-A80DC41B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28EB-CA4A-4D51-B997-B679ADA9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B9D1-C529-49A0-B48B-D84D7E1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F71-C673-492D-8F25-8AE1178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127F-640B-45B1-926D-BEB562DB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4310-102A-420C-BEC1-86CE84CD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56605-42E6-42D8-A2AC-6355AC72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41125-DC0C-4C44-940D-3F0F2784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B863-582C-4570-971E-EA26F4CB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F93D-5F64-455E-8AB0-A0AD0138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15C41-7E88-4438-802E-4514676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EE27B-85E2-4EE5-AA41-6AC3A29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1848D-0B11-49EE-BA5D-630294F1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6E77-93BB-4751-98B8-1708CE8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4DE-1955-4EC6-8C1B-113EE37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8656-75BD-4FE6-9F97-EF83A52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1A4EF-4D61-442A-9939-90FB631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2A1A7-E853-49FD-9ADE-5DD144F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DE5E-9B7A-4F0F-ACAF-75F2FF15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164D-F91E-44BE-AF19-79516D0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0CC73-ECB0-482B-8DE5-69A991D3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1520-C3CD-4D7D-8C38-974FF0C7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2FD0-CEA7-45BA-8224-AC3C059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6EEF6-25DA-43B0-B730-352C99C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FD861-C47E-47FB-AA44-2B6167C4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D13-B35C-463C-BCA7-3E9FE60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05C8-0A47-4678-B193-7E4B0DE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5AE2-5F5F-4982-84A7-118FBB52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C887-A081-4B68-96E8-B643F290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EAC9-DAAE-4DAC-BADA-4046C1B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6489-D4FB-42F1-B792-90F1F4A9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23C8B-ECBC-4697-9496-B5C60579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1317A-5C02-4ED6-9DAC-75726A61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5A61-EAD1-4883-AD9B-07BBC5960A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A8B6-6B5E-4E16-999A-518B801056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5AE2-75BF-4648-A3C6-0F13A5B8B1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A7CB-134A-458C-B369-9CA7E0C1FB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523-4BF8-4435-AD5A-F5E30C62915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4DC-227F-4E97-9395-ADF85107EE9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4A6-F107-454C-A8E9-E800DC8FB3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6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6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7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9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1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82CA-5E27-4609-9537-18D9757662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2614320" cy="33577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 txBox="1"/>
          <p:nvPr/>
        </p:nvSpPr>
        <p:spPr>
          <a:xfrm>
            <a:off x="611280" y="62064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ково-практична конференці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465300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’</a:t>
            </a:r>
            <a:r>
              <a:rPr b="1" lang="uk-UA" sz="3200" spc="-1" strike="noStrike">
                <a:solidFill>
                  <a:srgbClr val="33cc33"/>
                </a:solidFill>
                <a:latin typeface="Verdana"/>
              </a:rPr>
              <a:t>ясувати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к привернути до себе увагу учня, заохотити до навчання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43280" y="1628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ff33"/>
                </a:solidFill>
                <a:uFillTx/>
                <a:latin typeface="Verdana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84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 rot="21160800">
            <a:off x="394920" y="2133360"/>
            <a:ext cx="8282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ль учителя у підвищенні якості уроку засрбами нових освітніх технологі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87640" y="38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66ff33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55600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059280" y="4046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мовно уроки з використанням комп'ютера можна розділити на декілька груп: «уроки –презентації», «дослідницькі уроки», «віртуальні екскурсії», проектні, тестування і інші. Необхідно представити деякі типи уроків, які широко використовуються в навчальному процесі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95040" y="3573360"/>
            <a:ext cx="777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Уроки-Презентації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читель в програмі PowerPoint створює презентацію свого уро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а уроку представлена на слайдах, в яких стисло висловле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лючові моменти розбираного питання, що дає можливість учн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ягом лекції вчителя сконцентрувати на них ува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кція вчителя супроводжується відеорядом, який може бу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ений анімацією, малюнками, відеоматеріал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тографіями, необхідними картами і схемами 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 rot="21409200">
            <a:off x="250920" y="549000"/>
            <a:ext cx="2663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552600" y="404640"/>
            <a:ext cx="745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Уроки - дослідженн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межені можливості комп'ютер відкриває для дослідницько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боти. Цікаві уроки, на яких діти самостійно ведуть пошу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бирають матеріал за завданням вчи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цих уроках використовуються ресурси Інтернет, МЕДІАТЕ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94800" y="2637000"/>
            <a:ext cx="774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Віртуальні екскурсії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відати багато музеїв світу можна не виходячи 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'ютерного клас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Щоб організувати урок з відвідинами віртуального музе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ідно скласти маршрут або сформулювати запит пошу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ї для учнів. Важливою є організація роботи з одержан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єю. Необхідно, щоб результатом віртуальної екскурсі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ала творча робота: доклад, повідомлення, презентаці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овнена таблиця, відповіді на питання і інш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 rot="21409200">
            <a:off x="6840000" y="4873680"/>
            <a:ext cx="230364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614880" y="4581360"/>
            <a:ext cx="76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Тестуванн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ідно розподілити тестові завдання по дисциплінах 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ах дисциплін: при створенні нової групи питань здійснює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єрархічне угрупування питань по дисципліні, розділу, тем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 rot="21409200">
            <a:off x="7090920" y="3141720"/>
            <a:ext cx="2052720" cy="176688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539640" y="260280"/>
            <a:ext cx="761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роектна діяльніст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часний учень повинен не тільки використовувати існуюч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йні ресурси, але і навчиться створювати влас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йні ресурси. Учні повинні навчиться самостій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ти, структурувати і виражати свої зна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ект комп'ютерного уроку, який учні повинні підготува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мі, дозволяє закріпити і поглибити знання, підвищити рів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володіння уміннями і навиками: головною з яких бу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датність привернути і організувати докладну інформаці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дослідницький метод роботи), а також здатність крит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мислити інформацію (аналітичний метод роботи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працювати мовні нави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2781" fill="hold"/>
                                        <p:tgtEl>
                                          <p:spTgt spid="9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278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24000" y="90792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lin ang="5400000"/>
                </a:gradFill>
                <a:latin typeface="Arial"/>
              </a:rPr>
              <a:t>доведе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34200" y="69228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ffff"/>
                </a:solidFill>
                <a:latin typeface="Verdana"/>
              </a:rPr>
              <a:t>Використання інформаційно-комунікатив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ffff"/>
                </a:solidFill>
                <a:latin typeface="Verdana"/>
              </a:rPr>
              <a:t>технологій сприяє підвищенню якості у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411280" y="263700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Verdana"/>
              </a:rPr>
              <a:t>Застосовувати інформаційно-комунікативні технології під час проведення уроків різних тип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 rot="21384000">
            <a:off x="250560" y="3141720"/>
            <a:ext cx="23050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lin ang="5400000"/>
                </a:gradFill>
                <a:latin typeface="Arial"/>
              </a:rPr>
              <a:t>прийнят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32" name=""/>
          <p:cNvSpPr txBox="1"/>
          <p:nvPr/>
        </p:nvSpPr>
        <p:spPr>
          <a:xfrm rot="21137400">
            <a:off x="179280" y="5373720"/>
            <a:ext cx="31528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lin ang="5862000"/>
                </a:gradFill>
                <a:latin typeface="Arial"/>
              </a:rPr>
              <a:t>Шо робит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lin ang="5862000"/>
              </a:gradFill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3716280"/>
            <a:ext cx="4562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мінити дані дослідження, які свідчать, що наразі лише один учитель з п’яти почувається «підготовленим» для впровадження комп’ютерних технологій у процес навчання на кожен учитель нашого НВК почувається підготовленим для впровадження комп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ютерних технологій у навчальний проц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75247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372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2614320" cy="335772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0" y="5445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042920" y="404640"/>
            <a:ext cx="42292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співпрацю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788000" y="2565360"/>
            <a:ext cx="3673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жаю успіхів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1851120" cy="184788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948360" y="404640"/>
            <a:ext cx="1805040" cy="177012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4"/>
          <a:stretch/>
        </p:blipFill>
        <p:spPr>
          <a:xfrm>
            <a:off x="3564000" y="4797360"/>
            <a:ext cx="181116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5280" y="1125360"/>
            <a:ext cx="719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Будь-яке знання залишається мертвим, якщо в учн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розвивається ініціатива і самодіяльність; учнів потріб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вчати не тільки до навчання, але й до бажання знати і вмі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.А.Умо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261432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1042920" y="260280"/>
            <a:ext cx="21600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584360" cy="118908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324000" y="1773360"/>
            <a:ext cx="3816360" cy="4588920"/>
            <a:chOff x="324000" y="1773360"/>
            <a:chExt cx="3816360" cy="4588920"/>
          </a:xfrm>
        </p:grpSpPr>
        <p:grpSp>
          <p:nvGrpSpPr>
            <p:cNvPr id="876" name=""/>
            <p:cNvGrpSpPr/>
            <p:nvPr/>
          </p:nvGrpSpPr>
          <p:grpSpPr>
            <a:xfrm>
              <a:off x="324000" y="1773360"/>
              <a:ext cx="3816360" cy="4588920"/>
              <a:chOff x="324000" y="1773360"/>
              <a:chExt cx="3816360" cy="4588920"/>
            </a:xfrm>
          </p:grpSpPr>
          <p:sp>
            <p:nvSpPr>
              <p:cNvPr id="877" name=""/>
              <p:cNvSpPr/>
              <p:nvPr/>
            </p:nvSpPr>
            <p:spPr>
              <a:xfrm>
                <a:off x="324000" y="1773360"/>
                <a:ext cx="3816360" cy="4588920"/>
              </a:xfrm>
              <a:custGeom>
                <a:avLst/>
                <a:gdLst>
                  <a:gd name="textAreaLeft" fmla="*/ 121680 w 3816360"/>
                  <a:gd name="textAreaRight" fmla="*/ 3694680 w 3816360"/>
                  <a:gd name="textAreaTop" fmla="*/ 121680 h 4588920"/>
                  <a:gd name="textAreaBottom" fmla="*/ 4467240 h 4588920"/>
                </a:gdLst>
                <a:ahLst/>
                <a:rect l="textAreaLeft" t="textAreaTop" r="textAreaRight" b="textAreaBottom"/>
                <a:pathLst>
                  <a:path w="21600" h="25972">
                    <a:moveTo>
                      <a:pt x="2352" y="0"/>
                    </a:moveTo>
                    <a:arcTo wR="2352" hR="2352" stAng="16200000" swAng="-5400000"/>
                    <a:lnTo>
                      <a:pt x="0" y="23620"/>
                    </a:lnTo>
                    <a:arcTo wR="2352" hR="2352" stAng="10800000" swAng="-5400000"/>
                    <a:lnTo>
                      <a:pt x="19248" y="25972"/>
                    </a:lnTo>
                    <a:arcTo wR="2352" hR="2352" stAng="5400000" swAng="-5400000"/>
                    <a:lnTo>
                      <a:pt x="21600" y="2352"/>
                    </a:lnTo>
                    <a:arcTo wR="2352" hR="235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bf5cd"/>
                  </a:gs>
                  <a:gs pos="50000">
                    <a:srgbClr val="fefefe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80160" y="2026800"/>
                <a:ext cx="503640" cy="2289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47200" y="2175840"/>
              <a:ext cx="34246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6600"/>
                  </a:solidFill>
                  <a:latin typeface="Verdana"/>
                </a:rPr>
                <a:t>Тому вивчення та застосування в своїй роботі інформаційних технологій та новітніх методів з використанням комп’ютерної техніки э  одним з головних пріоритетів учителя.</a:t>
              </a:r>
              <a:r>
                <a:rPr b="0" lang="ru-RU" sz="1600" spc="-1" strike="noStrike">
                  <a:solidFill>
                    <a:srgbClr val="ff66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427640" y="1700280"/>
            <a:ext cx="4321080" cy="4750920"/>
            <a:chOff x="4427640" y="1700280"/>
            <a:chExt cx="4321080" cy="4750920"/>
          </a:xfrm>
        </p:grpSpPr>
        <p:grpSp>
          <p:nvGrpSpPr>
            <p:cNvPr id="881" name=""/>
            <p:cNvGrpSpPr/>
            <p:nvPr/>
          </p:nvGrpSpPr>
          <p:grpSpPr>
            <a:xfrm>
              <a:off x="4427640" y="1700280"/>
              <a:ext cx="4321080" cy="4750920"/>
              <a:chOff x="4427640" y="1700280"/>
              <a:chExt cx="4321080" cy="4750920"/>
            </a:xfrm>
          </p:grpSpPr>
          <p:sp>
            <p:nvSpPr>
              <p:cNvPr id="882" name=""/>
              <p:cNvSpPr/>
              <p:nvPr/>
            </p:nvSpPr>
            <p:spPr>
              <a:xfrm>
                <a:off x="4427640" y="1700280"/>
                <a:ext cx="4321080" cy="4750920"/>
              </a:xfrm>
              <a:custGeom>
                <a:avLst/>
                <a:gdLst>
                  <a:gd name="textAreaLeft" fmla="*/ 137520 w 4321080"/>
                  <a:gd name="textAreaRight" fmla="*/ 4183560 w 4321080"/>
                  <a:gd name="textAreaTop" fmla="*/ 137520 h 4750920"/>
                  <a:gd name="textAreaBottom" fmla="*/ 4613400 h 4750920"/>
                </a:gdLst>
                <a:ahLst/>
                <a:rect l="textAreaLeft" t="textAreaTop" r="textAreaRight" b="textAreaBottom"/>
                <a:pathLst>
                  <a:path w="21600" h="23748">
                    <a:moveTo>
                      <a:pt x="2352" y="0"/>
                    </a:moveTo>
                    <a:arcTo wR="2352" hR="2352" stAng="16200000" swAng="-5400000"/>
                    <a:lnTo>
                      <a:pt x="0" y="21396"/>
                    </a:lnTo>
                    <a:arcTo wR="2352" hR="2352" stAng="10800000" swAng="-5400000"/>
                    <a:lnTo>
                      <a:pt x="19248" y="23748"/>
                    </a:lnTo>
                    <a:arcTo wR="2352" hR="2352" stAng="5400000" swAng="-5400000"/>
                    <a:lnTo>
                      <a:pt x="21600" y="2352"/>
                    </a:lnTo>
                    <a:arcTo wR="2352" hR="235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50000">
                    <a:srgbClr val="fefefe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491000" y="1962720"/>
                <a:ext cx="570240" cy="2370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681800" y="2117160"/>
              <a:ext cx="3876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584160" y="33336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Verdana"/>
              </a:rPr>
              <a:t>Пріорите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932360" y="2474640"/>
            <a:ext cx="360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Використання різноманітних форм подання матеріалу, нестандартних форм оцінювання знань і вмінь учнів, пошук нових форм проведення уроку э другим пріоритетом вч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24000" y="414972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Verdana"/>
              </a:rPr>
              <a:t>Третім пріоритетом вчителя є пошук, щоб виділити головні моральні, естетичні, соціально-політичні та філософські положення, навчити учнів застосовувати дані ідеї, розвивати світогляд..</a:t>
            </a: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36520" y="4653000"/>
            <a:ext cx="34588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Четвертим, але не останні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пріоритетом вчителя, 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використання принципі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педагогіки співробітництв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педагогічної підтрим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творчої діяльності колективу.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 rot="21354600">
            <a:off x="3491280" y="907200"/>
            <a:ext cx="792360" cy="8654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8ce58"/>
              </a:gs>
              <a:gs pos="100000">
                <a:srgbClr val="92d166">
                  <a:alpha val="32156"/>
                </a:srgbClr>
              </a:gs>
            </a:gsLst>
            <a:lin ang="11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 rot="10551600">
            <a:off x="4716000" y="907920"/>
            <a:ext cx="647640" cy="936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8ce58"/>
              </a:gs>
              <a:gs pos="100000">
                <a:srgbClr val="92d166">
                  <a:alpha val="32156"/>
                </a:srgbClr>
              </a:gs>
            </a:gsLst>
            <a:lin ang="213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835280" y="2637000"/>
            <a:ext cx="475272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Що є причиною низького рівня пізнавальної активності учні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и існує реальне технологічне забезпечення досягнення педагогічного успіх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- Чи спроможний сучасний пересічний вчитель впроваджувати новітні технології у педагогічну практи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384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6732720" y="4581360"/>
            <a:ext cx="2411280" cy="18100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052080" y="404640"/>
            <a:ext cx="498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нформаційно-комунікаційні технології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сукупність методів і програмно-техніч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засобів, інтегрованих з метою збиран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обробки, зберігання, розпласюджен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ідображення і використання інформації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нтересах її користувач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708360" y="126828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258920" y="836640"/>
            <a:ext cx="63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4360" y="259920"/>
            <a:ext cx="42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) Відсутність ігрового компоненту у класах середньої ланки і тренінгового компоненту у старших кла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48840" y="1413000"/>
            <a:ext cx="588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 Страх, який заважає дитині реалізувати себ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 певній предметній галузі. Страх перед склад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теріалом, страх опинитися у ситуації невдач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н сковує мислення дитини, невпізнан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мінює ї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28240" y="3141720"/>
            <a:ext cx="606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) Інша причина, характерна для встигаючих учні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сутність інтересу. Там, де виклада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ієнтується на так званого середнього учн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ні, рівень яких вищий за середній, зазвич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удьгують. Вони змушені займатися на уроц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равою, яка їм зовсім не ціка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65280" y="494172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) Високий рівень розумового навантажен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що не відповідає рівню психофізичних можлив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часних учнів в умовах загострення екологічної 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кономічної криз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194292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419040" y="1698840"/>
            <a:ext cx="8516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) Головною ж причиною низьк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івня пізнавальної активності учнів 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ми новітніх психолого-педагогічн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ліджень визначено низький рі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ії суб’єктного фактора в організаці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чально-виховного процесу 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ідсутність орієнтації педагогіч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равління на розвиток учнівської 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тєвої компетентності школяр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іл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" y="855720"/>
            <a:ext cx="8614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ливе інше - треба зрозуміт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що відбувається із сучасним урок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наскільки він ефективний у рішенн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ових завдань, що постають пере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вітою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як ми просунулися за останні роки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зумінні цілей уроку, його структур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місту та методів навчанн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як змінюється позиція вчителя й інш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итанн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2781" fill="hold"/>
                                        <p:tgtEl>
                                          <p:spTgt spid="9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781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24000" y="260280"/>
            <a:ext cx="3238200" cy="3238560"/>
          </a:xfrm>
          <a:prstGeom prst="ellipse">
            <a:avLst/>
          </a:prstGeom>
          <a:solidFill>
            <a:srgbClr val="eaeaea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348000" y="2276640"/>
            <a:ext cx="1150920" cy="1152360"/>
          </a:xfrm>
          <a:prstGeom prst="ellipse">
            <a:avLst/>
          </a:prstGeom>
          <a:solidFill>
            <a:srgbClr val="eaeaea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406520" y="4292640"/>
            <a:ext cx="53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) засоби для використання на уроках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488400" y="907920"/>
            <a:ext cx="356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цільність використа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'юте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54800" y="2421000"/>
            <a:ext cx="42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 Різні підходи до організаці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років з використанн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'ютера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8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843280" y="112536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же, комп'ютер може застосовуватися на наступних етапах уроку і навчального процесу в цілому: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) етап пояснення нового матеріалу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) етап первинного закріплення матеріалу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) етап контролю і перевірки знань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088720" y="4437000"/>
            <a:ext cx="645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икористання комп'ютера на уроці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? Для чого? Що ? Як 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 rot="21409200">
            <a:off x="250920" y="259920"/>
            <a:ext cx="2663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1:47:57Z</dcterms:created>
  <dc:creator>EOS</dc:creator>
  <dc:description/>
  <dc:language>en-US</dc:language>
  <cp:lastModifiedBy>notebook</cp:lastModifiedBy>
  <dcterms:modified xsi:type="dcterms:W3CDTF">2011-11-17T08:33:26Z</dcterms:modified>
  <cp:revision>38</cp:revision>
  <dc:subject/>
  <dc:title>Слайд 1</dc:title>
</cp:coreProperties>
</file>