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chimes.wav" ContentType="audio/x-wav"/>
  <Override PartName="/ppt/media/image2.gif" ContentType="image/gif"/>
  <Override PartName="/ppt/media/image10.wmf" ContentType="image/x-wmf"/>
  <Override PartName="/ppt/media/image3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6D3-ADD9-4F9B-8A5E-79EB77AF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590-565C-4A6B-93F6-AD3BA83B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F17-9C30-49C9-85AD-590782A7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184-9BB7-4270-9EF5-A20B7974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4042-78B9-44AC-880A-8AEA782A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5CB6-B9FA-40FC-B778-E8F53404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70D0-408D-4305-A3B0-883E540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EE19-6875-4D92-8575-934BA012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903-7D8D-4932-884F-11D7431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9814-925A-40A5-837D-3DBE048A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463D-08F6-4D5B-A4C6-C4D131E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74F-B3CD-4535-97B7-9FB6053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6F62-0CFD-46A5-87EA-AD2C0342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FD33-A2E0-4165-9F35-253C831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64FE-C887-4C40-A67A-2D3BDA4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C7F-BFF1-4004-BD5F-7FEFBA84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B26F-F064-460A-AB38-EC70A4D1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DB9F-9466-4D11-85AE-7BAE75AC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C6D9-8C4F-4E32-ADD3-577CDBC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1CBC-B76E-4B9E-BDFF-630C4B4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8E20-A8A1-4F31-AD56-F711C4F4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88DF-A621-40F1-94D7-B5E84617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594-5032-48E3-834C-1D13655A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FD2F-5832-47D8-8C59-5F6B863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BF98-6FAC-412E-871A-6828089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7DA2-BF11-4183-94AC-A52EF296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28C2-F1AB-4C27-ADB5-ABA7426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9764-A253-4E18-8DCC-807ACCFD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E100-0100-46AF-B72E-EC7D21EE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100A-A8C2-4495-91C3-51CE015E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AAE1-8E21-493F-902B-9A811CDA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EDB8-FE69-470B-B760-F19FB0B5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CE052-070C-4B38-BD94-0F338104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758-FB18-4B32-8C7C-3B98A05F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83DE-BB76-4B51-B022-CC3917D3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DF00-AFC1-4FE2-A5EB-2E4D0382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7315-A5ED-46B8-A949-504F2D0F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A482-96FD-494C-8B62-2FC312C7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0D3A-6D77-48DB-A823-515745A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74D3-EA04-4106-9602-22D9453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30F8-0F08-4E91-BFCE-4CAEA45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69AD-F81B-478E-98E1-9F7051C7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B0D0-EC90-4F4B-BA01-24D5A9BB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9869-6AD0-4330-91F4-B8CE77E1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5E7-3FBF-4A0A-BE21-DB25DA6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D4F9-F07C-4AAE-AE4E-26C463F7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340B-899D-4E8B-9D8E-03D74E0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E286-BE91-408A-BE09-A8301F3A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3F6D4-EE9F-47B6-ABA1-56D6DD12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05A7-C195-4DCB-8CE8-FB05C05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82F6-7132-4CC9-B865-55AEE22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33BA-C4DC-4DFB-A308-AC1D78A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5FAD-7781-420B-9456-2A017C3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5067-E0ED-4F1B-8700-0578E5C6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DF5C-3146-4187-BEA1-952D86DD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B75-1265-404A-B1AC-5986EE80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7A71-D85D-4580-889B-E7EA8A37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2E0E-4E42-47B1-8C33-C4B5C1F3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0D10-9AC3-4ED5-B611-3A4EB23F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94B8-A4D7-4D0E-A41B-C0B8DFAA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28BD-7F02-40F1-9275-F3DB392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72352-6647-417F-BF23-02ADD1A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E889-9352-4C64-8121-308A3944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3F64-EEEF-4436-9A9F-0376E63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47D8-7FE4-425B-ACEA-985880A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0C20-4D2F-4383-8577-6311DE4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360-525C-4591-B377-F0C3E60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28E0-08F6-4610-A970-D5532D38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C333-3810-435E-91CF-01E290E0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72B8D-D593-4068-A576-AF2F594B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F5C8-A075-491E-A233-C57C380B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EA223-D8ED-4BB5-8212-2F16F1B6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A3A0-0238-45B3-A71F-25ABD13E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35247-0110-4F94-AF0B-A20AAE89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706D-4ABF-4A30-8C0F-EDDEBA0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D3617-3A45-41AF-98D3-21AD672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92A4C-847B-4F83-AF07-10F7D6E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F58-3639-4510-A86C-D5318131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777F-2EF2-4325-A630-AB47DEB2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6C53-252E-471B-9B9B-7390993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B3A63-8AAD-4E52-95BF-4FE5B43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E568-09FF-4587-8E2D-18D19446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A1832-491D-43A2-9E8E-142C7EA2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FAEBD-1121-4E89-BDAD-1FB2D3BE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357B1-08DC-403C-96C0-778D74C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33C0-283D-4A7C-A597-D3607504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B36F-B8EA-42B8-AA4E-8FD94D6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8D4E2-5DCF-4B1D-8294-849B4FA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DCE-CC60-4A7A-B977-99B4CC2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16C5-6E31-46B9-87F0-3E2FFEBD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E285-4AC3-426F-8D82-71F5596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267A-DF67-45B3-998D-63AFDBA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28E28-BD9F-4E8C-B214-76B009D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DA5E6-F044-40FD-9FDC-276FA2F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0919-1FEA-448C-A88A-65A154EB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339D-0E5B-4E31-BC12-4EA788F0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0BD-C042-49B8-A151-AB148DBED8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A125-008D-44AA-A952-D03A93FA00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1B6-EF6B-4B30-9069-BFE98914AD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02E-B547-46BE-BE0A-028BD6C9DA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84AF-DA03-4C2E-BE41-0F45240CDB6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2E10-C089-4725-B8EB-A8EC46497CC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920E-3921-483B-9783-BFD32212A1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6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6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7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9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1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4683-D070-4389-B1AE-C3B2C18DC7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2614320" cy="33577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 txBox="1"/>
          <p:nvPr/>
        </p:nvSpPr>
        <p:spPr>
          <a:xfrm>
            <a:off x="611280" y="62064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ково-практична конференці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465300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’</a:t>
            </a:r>
            <a:r>
              <a:rPr b="1" lang="uk-UA" sz="3200" spc="-1" strike="noStrike">
                <a:solidFill>
                  <a:srgbClr val="33cc33"/>
                </a:solidFill>
                <a:latin typeface="Verdana"/>
              </a:rPr>
              <a:t>ясувати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к привернути до себе увагу учня, заохотити до навчання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43280" y="1628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ff33"/>
                </a:solidFill>
                <a:uFillTx/>
                <a:latin typeface="Verdana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84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 rot="21160800">
            <a:off x="394920" y="2133360"/>
            <a:ext cx="8282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ль учителя у підвищенні якості уроку засрбами нових освітніх технологі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87640" y="38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66ff33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55600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059280" y="4046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мовно уроки з використанням комп'ютера можна розділити на декілька груп: «уроки –презентації», «дослідницькі уроки», «віртуальні екскурсії», проектні, тестування і інші. Необхідно представити деякі типи уроків, які широко використовуються в навчальному процесі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95040" y="3573360"/>
            <a:ext cx="777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Уроки-Презентації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читель в програмі PowerPoint створює презентацію свого уро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а уроку представлена на слайдах, в яких стисло висловле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лючові моменти розбираного питання, що дає можливість учн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ягом лекції вчителя сконцентрувати на них ува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кція вчителя супроводжується відеорядом, який може бу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ений анімацією, малюнками, відеоматеріал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тографіями, необхідними картами і схемами 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 rot="21409200">
            <a:off x="250920" y="549000"/>
            <a:ext cx="2663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552600" y="404640"/>
            <a:ext cx="745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Уроки - дослідженн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межені можливості комп'ютер відкриває для дослідницько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боти. Цікаві уроки, на яких діти самостійно ведуть пошу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бирають матеріал за завданням вчи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цих уроках використовуються ресурси Інтернет, МЕДІАТЕ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94800" y="2637000"/>
            <a:ext cx="774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Віртуальні екскурсії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відати багато музеїв світу можна не виходячи 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'ютерного клас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Щоб організувати урок з відвідинами віртуального музе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ідно скласти маршрут або сформулювати запит пошу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ї для учнів. Важливою є організація роботи з одержан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єю. Необхідно, щоб результатом віртуальної екскурсі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ала творча робота: доклад, повідомлення, презентаці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овнена таблиця, відповіді на питання і інш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 rot="21409200">
            <a:off x="6840000" y="4873680"/>
            <a:ext cx="230364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614880" y="4581360"/>
            <a:ext cx="76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Тестуванн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ідно розподілити тестові завдання по дисциплінах 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ах дисциплін: при створенні нової групи питань здійснює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єрархічне угрупування питань по дисципліні, розділу, тем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 rot="21409200">
            <a:off x="7090920" y="3141720"/>
            <a:ext cx="2052720" cy="176688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539640" y="260280"/>
            <a:ext cx="761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роектна діяльніст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часний учень повинен не тільки використовувати існуюч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йні ресурси, але і навчиться створювати влас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нформаційні ресурси. Учні повинні навчиться самостій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ти, структурувати і виражати свої зна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ект комп'ютерного уроку, який учні повинні підготува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мі, дозволяє закріпити і поглибити знання, підвищити рів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володіння уміннями і навиками: головною з яких бу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датність привернути і організувати докладну інформаці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дослідницький метод роботи), а також здатність крит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мислити інформацію (аналітичний метод роботи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працювати мовні нави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781" fill="hold"/>
                                        <p:tgtEl>
                                          <p:spTgt spid="9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78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24000" y="90792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lin ang="5400000"/>
                </a:gradFill>
                <a:latin typeface="Arial"/>
              </a:rPr>
              <a:t>доведе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34200" y="69228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ffff"/>
                </a:solidFill>
                <a:latin typeface="Verdana"/>
              </a:rPr>
              <a:t>Використання інформаційно-комунікатив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ffff"/>
                </a:solidFill>
                <a:latin typeface="Verdana"/>
              </a:rPr>
              <a:t>технологій сприяє підвищенню якості у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411280" y="263700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Verdana"/>
              </a:rPr>
              <a:t>Застосовувати інформаційно-комунікативні технології під час проведення уроків різних тип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 rot="21384000">
            <a:off x="250560" y="3141720"/>
            <a:ext cx="23050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lin ang="5400000"/>
                </a:gradFill>
                <a:latin typeface="Arial"/>
              </a:rPr>
              <a:t>прийнят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32" name=""/>
          <p:cNvSpPr txBox="1"/>
          <p:nvPr/>
        </p:nvSpPr>
        <p:spPr>
          <a:xfrm rot="21137400">
            <a:off x="179280" y="5373720"/>
            <a:ext cx="31528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lin ang="5862000"/>
                </a:gradFill>
                <a:latin typeface="Arial"/>
              </a:rPr>
              <a:t>Шо робит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lin ang="5862000"/>
              </a:gradFill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3716280"/>
            <a:ext cx="4562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мінити дані дослідження, які свідчать, що наразі лише один учитель з п’яти почувається «підготовленим» для впровадження комп’ютерних технологій у процес навчання на кожен учитель нашого НВК почувається підготовленим для впровадження комп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ютерних технологій у навчальний проц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75247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chimes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372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2614320" cy="335772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0" y="5445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042920" y="404640"/>
            <a:ext cx="42292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співпрацю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788000" y="2565360"/>
            <a:ext cx="3673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жаю успіхів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1851120" cy="184788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948360" y="404640"/>
            <a:ext cx="1805040" cy="177012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4"/>
          <a:stretch/>
        </p:blipFill>
        <p:spPr>
          <a:xfrm>
            <a:off x="3564000" y="4797360"/>
            <a:ext cx="181116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out)" transition="out">
                                      <p:cBhvr additive="repl">
                                        <p:cTn id="437" dur="20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5280" y="1125360"/>
            <a:ext cx="719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Будь-яке знання залишається мертвим, якщо в учн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розвивається ініціатива і самодіяльність; учнів потріб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вчати не тільки до навчання, але й до бажання знати і вмі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.А.Умо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261432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1042920" y="260280"/>
            <a:ext cx="21600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584360" cy="118908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324000" y="1773360"/>
            <a:ext cx="3816360" cy="4588920"/>
            <a:chOff x="324000" y="1773360"/>
            <a:chExt cx="3816360" cy="4588920"/>
          </a:xfrm>
        </p:grpSpPr>
        <p:grpSp>
          <p:nvGrpSpPr>
            <p:cNvPr id="876" name=""/>
            <p:cNvGrpSpPr/>
            <p:nvPr/>
          </p:nvGrpSpPr>
          <p:grpSpPr>
            <a:xfrm>
              <a:off x="324000" y="1773360"/>
              <a:ext cx="3816360" cy="4588920"/>
              <a:chOff x="324000" y="1773360"/>
              <a:chExt cx="3816360" cy="4588920"/>
            </a:xfrm>
          </p:grpSpPr>
          <p:sp>
            <p:nvSpPr>
              <p:cNvPr id="877" name=""/>
              <p:cNvSpPr/>
              <p:nvPr/>
            </p:nvSpPr>
            <p:spPr>
              <a:xfrm>
                <a:off x="324000" y="1773360"/>
                <a:ext cx="3816360" cy="4588920"/>
              </a:xfrm>
              <a:custGeom>
                <a:avLst/>
                <a:gdLst>
                  <a:gd name="textAreaLeft" fmla="*/ 121680 w 3816360"/>
                  <a:gd name="textAreaRight" fmla="*/ 3694680 w 3816360"/>
                  <a:gd name="textAreaTop" fmla="*/ 121680 h 4588920"/>
                  <a:gd name="textAreaBottom" fmla="*/ 4467240 h 4588920"/>
                </a:gdLst>
                <a:ahLst/>
                <a:rect l="textAreaLeft" t="textAreaTop" r="textAreaRight" b="textAreaBottom"/>
                <a:pathLst>
                  <a:path w="21600" h="25972">
                    <a:moveTo>
                      <a:pt x="2352" y="0"/>
                    </a:moveTo>
                    <a:arcTo wR="2352" hR="2352" stAng="16200000" swAng="-5400000"/>
                    <a:lnTo>
                      <a:pt x="0" y="23620"/>
                    </a:lnTo>
                    <a:arcTo wR="2352" hR="2352" stAng="10800000" swAng="-5400000"/>
                    <a:lnTo>
                      <a:pt x="19248" y="25972"/>
                    </a:lnTo>
                    <a:arcTo wR="2352" hR="2352" stAng="5400000" swAng="-5400000"/>
                    <a:lnTo>
                      <a:pt x="21600" y="2352"/>
                    </a:lnTo>
                    <a:arcTo wR="2352" hR="235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bf5cd"/>
                  </a:gs>
                  <a:gs pos="50000">
                    <a:srgbClr val="fefefe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80160" y="2026800"/>
                <a:ext cx="503640" cy="2289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47200" y="2175840"/>
              <a:ext cx="34246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6600"/>
                  </a:solidFill>
                  <a:latin typeface="Verdana"/>
                </a:rPr>
                <a:t>Тому вивчення та застосування в своїй роботі інформаційних технологій та новітніх методів з використанням комп’ютерної техніки э  одним з головних пріоритетів учителя.</a:t>
              </a:r>
              <a:r>
                <a:rPr b="0" lang="ru-RU" sz="1600" spc="-1" strike="noStrike">
                  <a:solidFill>
                    <a:srgbClr val="ff66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427640" y="1700280"/>
            <a:ext cx="4321080" cy="4750920"/>
            <a:chOff x="4427640" y="1700280"/>
            <a:chExt cx="4321080" cy="4750920"/>
          </a:xfrm>
        </p:grpSpPr>
        <p:grpSp>
          <p:nvGrpSpPr>
            <p:cNvPr id="881" name=""/>
            <p:cNvGrpSpPr/>
            <p:nvPr/>
          </p:nvGrpSpPr>
          <p:grpSpPr>
            <a:xfrm>
              <a:off x="4427640" y="1700280"/>
              <a:ext cx="4321080" cy="4750920"/>
              <a:chOff x="4427640" y="1700280"/>
              <a:chExt cx="4321080" cy="4750920"/>
            </a:xfrm>
          </p:grpSpPr>
          <p:sp>
            <p:nvSpPr>
              <p:cNvPr id="882" name=""/>
              <p:cNvSpPr/>
              <p:nvPr/>
            </p:nvSpPr>
            <p:spPr>
              <a:xfrm>
                <a:off x="4427640" y="1700280"/>
                <a:ext cx="4321080" cy="4750920"/>
              </a:xfrm>
              <a:custGeom>
                <a:avLst/>
                <a:gdLst>
                  <a:gd name="textAreaLeft" fmla="*/ 137520 w 4321080"/>
                  <a:gd name="textAreaRight" fmla="*/ 4183560 w 4321080"/>
                  <a:gd name="textAreaTop" fmla="*/ 137520 h 4750920"/>
                  <a:gd name="textAreaBottom" fmla="*/ 4613400 h 4750920"/>
                </a:gdLst>
                <a:ahLst/>
                <a:rect l="textAreaLeft" t="textAreaTop" r="textAreaRight" b="textAreaBottom"/>
                <a:pathLst>
                  <a:path w="21600" h="23748">
                    <a:moveTo>
                      <a:pt x="2352" y="0"/>
                    </a:moveTo>
                    <a:arcTo wR="2352" hR="2352" stAng="16200000" swAng="-5400000"/>
                    <a:lnTo>
                      <a:pt x="0" y="21396"/>
                    </a:lnTo>
                    <a:arcTo wR="2352" hR="2352" stAng="10800000" swAng="-5400000"/>
                    <a:lnTo>
                      <a:pt x="19248" y="23748"/>
                    </a:lnTo>
                    <a:arcTo wR="2352" hR="2352" stAng="5400000" swAng="-5400000"/>
                    <a:lnTo>
                      <a:pt x="21600" y="2352"/>
                    </a:lnTo>
                    <a:arcTo wR="2352" hR="235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50000">
                    <a:srgbClr val="fefefe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b7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491000" y="1962720"/>
                <a:ext cx="570240" cy="2370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681800" y="2117160"/>
              <a:ext cx="3876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584160" y="33336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Verdana"/>
              </a:rPr>
              <a:t>Пріорите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932360" y="2474640"/>
            <a:ext cx="360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Використання різноманітних форм подання матеріалу, нестандартних форм оцінювання знань і вмінь учнів, пошук нових форм проведення уроку э другим пріоритетом вч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24000" y="414972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Verdana"/>
              </a:rPr>
              <a:t>Третім пріоритетом вчителя є пошук, щоб виділити головні моральні, естетичні, соціально-політичні та філософські положення, навчити учнів застосовувати дані ідеї, розвивати світогляд..</a:t>
            </a:r>
            <a:r>
              <a:rPr b="0" lang="ru-RU" sz="16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36520" y="4653000"/>
            <a:ext cx="34588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Четвертим, але не останні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пріоритетом вчителя, 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використання принципі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педагогіки співробітництв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педагогічної підтрим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Verdana"/>
              </a:rPr>
              <a:t>творчої діяльності колективу.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 rot="21354600">
            <a:off x="3491280" y="907200"/>
            <a:ext cx="792360" cy="8654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8ce58"/>
              </a:gs>
              <a:gs pos="100000">
                <a:srgbClr val="92d166">
                  <a:alpha val="32156"/>
                </a:srgbClr>
              </a:gs>
            </a:gsLst>
            <a:lin ang="11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 rot="10551600">
            <a:off x="4716000" y="907920"/>
            <a:ext cx="647640" cy="936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8ce58"/>
              </a:gs>
              <a:gs pos="100000">
                <a:srgbClr val="92d166">
                  <a:alpha val="32156"/>
                </a:srgbClr>
              </a:gs>
            </a:gsLst>
            <a:lin ang="213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835280" y="2637000"/>
            <a:ext cx="475272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Що є причиною низького рівня пізнавальної активності учні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и існує реальне технологічне забезпечення досягнення педагогічного успіх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- Чи спроможний сучасний пересічний вчитель впроваджувати новітні технології у педагогічну практи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384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6732720" y="4581360"/>
            <a:ext cx="2411280" cy="18100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052080" y="404640"/>
            <a:ext cx="498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нформаційно-комунікаційні технології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сукупність методів і програмно-техніч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засобів, інтегрованих з метою збиран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обробки, зберігання, розпласюджен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ідображення і використання інформації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нтересах її користувач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708360" y="126828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258920" y="836640"/>
            <a:ext cx="63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4360" y="259920"/>
            <a:ext cx="42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) Відсутність ігрового компоненту у класах середньої ланки і тренінгового компоненту у старших кла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48840" y="1413000"/>
            <a:ext cx="588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 Страх, який заважає дитині реалізувати себ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 певній предметній галузі. Страх перед склад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теріалом, страх опинитися у ситуації невдач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н сковує мислення дитини, невпізнан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мінює ї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28240" y="3141720"/>
            <a:ext cx="606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) Інша причина, характерна для встигаючих учні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ідсутність інтересу. Там, де виклада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ієнтується на так званого середнього учн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ні, рівень яких вищий за середній, зазвич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удьгують. Вони змушені займатися на уроц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равою, яка їм зовсім не ціка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65280" y="494172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) Високий рівень розумового навантажен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що не відповідає рівню психофізичних можлив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часних учнів в умовах загострення екологічної 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кономічної криз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194292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419040" y="1698840"/>
            <a:ext cx="8516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) Головною ж причиною низьк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івня пізнавальної активності учнів 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ми новітніх психолого-педагогічн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ліджень визначено низький рі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ії суб’єктного фактора в організаці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чально-виховного процесу 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ідсутність орієнтації педагогіч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равління на розвиток учнівської 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тєвої компетентності школяр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іл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" y="855720"/>
            <a:ext cx="8614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ливе інше - треба зрозуміт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що відбувається із сучасним урок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наскільки він ефективний у рішенн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ових завдань, що постають пере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вітою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як ми просунулися за останні роки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зумінні цілей уроку, його структур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місту та методів навчанн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* як змінюється позиція вчителя й інш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итанн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2781" fill="hold"/>
                                        <p:tgtEl>
                                          <p:spTgt spid="9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781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24000" y="260280"/>
            <a:ext cx="3238200" cy="3238560"/>
          </a:xfrm>
          <a:prstGeom prst="ellipse">
            <a:avLst/>
          </a:prstGeom>
          <a:solidFill>
            <a:srgbClr val="eaeaea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348000" y="2276640"/>
            <a:ext cx="1150920" cy="1152360"/>
          </a:xfrm>
          <a:prstGeom prst="ellipse">
            <a:avLst/>
          </a:prstGeom>
          <a:solidFill>
            <a:srgbClr val="eaeaea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406520" y="4292640"/>
            <a:ext cx="53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) засоби для використання на уроках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488400" y="907920"/>
            <a:ext cx="356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цільність використа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'юте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54800" y="2421000"/>
            <a:ext cx="42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 Різні підходи до організаці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років з використанн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'ютера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8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843280" y="112536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же, комп'ютер може застосовуватися на наступних етапах уроку і навчального процесу в цілому: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) етап пояснення нового матеріалу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) етап первинного закріплення матеріалу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) етап контролю і перевірки знань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088720" y="4437000"/>
            <a:ext cx="645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икористання комп'ютера на уроці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? Для чого? Що ? Як 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 rot="21409200">
            <a:off x="250920" y="259920"/>
            <a:ext cx="2663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1:47:57Z</dcterms:created>
  <dc:creator>EOS</dc:creator>
  <dc:description/>
  <dc:language>en-US</dc:language>
  <cp:lastModifiedBy>notebook</cp:lastModifiedBy>
  <dcterms:modified xsi:type="dcterms:W3CDTF">2011-11-17T08:33:26Z</dcterms:modified>
  <cp:revision>38</cp:revision>
  <dc:subject/>
  <dc:title>Слайд 1</dc:title>
</cp:coreProperties>
</file>