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51E-DA21-4151-9A5A-B0E0923B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4B5-2474-4A9D-ABB9-E52E2DE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2C9-13E7-4927-8ACE-A183BB9A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E3B-D4B3-48AC-BAD9-4B0F6319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9652-6CA7-41B2-A759-997FB11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A30-20A3-483D-9914-AF798B8C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7F0-074E-4439-9A95-381D227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E5B-5B0D-44D0-8EB8-8BA61A5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EC2-BC74-4A93-BD71-2CB32B3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EF48-B45A-4888-B009-9B7CA697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D52C-F4CF-4A75-987A-43DA1FB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7AF-BA94-4F54-9B35-E7BC390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73E2-D4D4-4FAB-BB6E-CAB1759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BFE-6273-4E6E-BA73-34C6017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85A-0AF0-49F2-A568-1EE44D6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3FBC-1264-4FEF-975C-1CC2DBCB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EC9F-2F55-40EB-8EED-BA10175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17B-6A32-40D4-8F20-FC29EDC6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235-907B-421E-95F4-AC531A8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C67-1500-481F-909B-BBBEBD3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F01-C0DE-41A5-9514-79FBDB9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071-7C24-44B6-8B53-AE1168F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9A9-FF8D-45F5-8759-F5A5AF5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8B1-CF31-45A2-85F0-96DE4A0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4A09-9344-4B39-9A27-395D6B24A73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AE5E-7CE7-4970-B0F7-1812E7E25DDF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b7"/>
                </a:solidFill>
                <a:latin typeface="Arial Black"/>
              </a:rPr>
              <a:t>Результати психологічних досліджен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Визначення провідної репрезентативної системи (способу сприймання інформації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Визначення сформованості пізнавальних, мотиваційних, творчих та лідерських характеристи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озвиток креативност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b7"/>
                </a:solidFill>
                <a:latin typeface="Arial Black"/>
              </a:rPr>
              <a:t>Визначення структури учбової мотивації (проведено серед учнів 9 - 11 класів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44560" y="1676520"/>
          <a:ext cx="7983360" cy="49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76520"/>
                    <a:ext cx="798336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О</cp:lastModifiedBy>
  <dcterms:modified xsi:type="dcterms:W3CDTF">2014-04-24T11:40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