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766-8813-4308-AB29-08C01B12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BC1-4EAF-4E99-A9C1-44EF695C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9CD-C44D-4B44-9433-7C55E7A1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BF5-BF9A-44F6-A781-9579F212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AF6C-3A82-4E55-9473-C0D6EB2A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C033-424C-40AD-AE12-85A92BBF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5804-DDAB-4205-8017-9C61EBC8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610C-1D90-4B1D-971A-EFA90CB4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82DD-D6CD-4C48-A67C-EDE6D4C5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8FAD-C38B-4996-BE19-7555F324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0C5C-BA9F-42F7-BA61-F514CF7C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EA6-6AE9-410D-B08F-17CCE03D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E0FB-899D-46DE-8824-FEFFD900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57C1-3526-4E17-98F0-27BEFD9D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2BAE-63B8-4A1F-9981-E955058A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033C-0F6D-4D5C-A25F-254A611B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0B4F-A97A-40E1-90D5-5955AF15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CDF-E213-402A-A883-251F40D6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C3A-1348-4991-9020-A82DADBF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ABB-2E8E-470F-A641-A654168D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4A39-549E-4A29-AF02-92D4C75E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69B6-D720-4D31-985C-0E5A1265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7C3-08F0-4CAB-B6B8-488B6018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581-C7E2-4267-AA0F-025E1EBC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514A-C69E-45DE-B51E-34C8F21E72B1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B125-0361-4F78-BD59-378AC2BA14D6}" type="slidenum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777240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b7"/>
                </a:solidFill>
                <a:latin typeface="Arial Black"/>
              </a:rPr>
              <a:t>Результати психологічних досліджень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b7"/>
                </a:solidFill>
                <a:latin typeface="Arial Black"/>
              </a:rPr>
              <a:t>Визначення провідної репрезентативної системи (способу сприймання інформації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b7"/>
                </a:solidFill>
                <a:latin typeface="Arial Black"/>
              </a:rPr>
              <a:t>Визначення сформованості пізнавальних, мотиваційних, творчих та лідерських характеристик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Розвиток креативності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b7"/>
                </a:solidFill>
                <a:latin typeface="Arial Black"/>
              </a:rPr>
              <a:t>Визначення структури учбової мотивації (проведено серед учнів 9 - 11 класів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844560" y="1676520"/>
          <a:ext cx="7983360" cy="49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676520"/>
                    <a:ext cx="798336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ЛО</cp:lastModifiedBy>
  <dcterms:modified xsi:type="dcterms:W3CDTF">2014-04-24T11:40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