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56A-8F6B-4B06-9C71-4FDFF8B5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51E-C22A-4486-9C00-A0A8EF90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68542-8677-4447-BAF1-AE432F6F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B9D25-2BDC-4C72-8BD0-F8C847A2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F7D2D-B98D-4A6D-BF80-D080C3A1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4156D-C15B-486D-9AF0-322ABD9F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661F3-3F53-421E-8B91-54C5227A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5A06C-4884-4C57-B2D6-8A8B24D0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233CE-C712-4946-A268-A235C4C9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09754-CD30-49A4-A0BF-ABA5FB1D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E044C-DDD1-4A32-9CB7-8E7DED7D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5C641-056A-475A-B1F5-21ED2275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B99-CE79-43CC-9DB1-81DB4EE4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6872A-54F6-45B1-9936-8630BB7A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F671E-E91E-4078-9230-FF030D94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A055E-A55F-412E-834E-E347BCA7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AE4D5-2752-4153-A6BC-A866E973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6DB05-12BD-47B8-922D-DC6CFC64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504F5-2BEF-4FF8-B5E1-00B5625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DA3B4-2CDA-4169-A2FA-F383A7E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0A40E-E9A7-4097-8021-8E17D596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2ACCE-767D-481A-9E1F-DDEF4B20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3BE30-A766-46D1-B305-5B39B167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7A0-3738-4318-BA23-56F474AD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68274-AB6F-463B-917B-7174A5FA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322E9-B32A-49C4-BBD3-7DCCF928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7DB2F-65AE-4362-8966-E51EAC65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9D3C0-856A-4431-B61B-D97C8852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92A56-8499-485A-BDCA-E4601C6A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53ACE-2589-4B1B-B44C-EE19AAF5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44082-2A6C-4A04-992D-196F3F14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B23D9-6DE8-4262-8742-CEF7D41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3779C-8D5C-4846-AD77-8205D05B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01F87-9623-4B38-845E-BCAB12E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0E3B-D1EB-4B2B-B498-01B6BD12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1B7EB-E166-4B31-930B-063993BD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3877B-743F-4330-84CB-F6FCC346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04E69-95B0-4C74-9E94-522BB964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4B01B-BE45-4871-8F49-ADC5771C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BD754-F637-4C1A-8626-B6F46178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65ABB-342D-47AF-8759-5F91760E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89D0F-8885-404A-9833-6E8AC42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FC32F-C5E1-4897-BD58-2EC1B502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821AB-FC94-4676-AE7B-C901DAC3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53B72-DB44-448C-BA54-989A7603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36B9-1CCE-4D0D-81F4-8D690817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9A3F0-D6BF-4636-B1E8-A3CFD77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03C6D-3B47-4161-BD9F-8A9CA8C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F1E8D-16DA-42C5-AB50-47BE792A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7471E-F5C9-46C5-8510-41914401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C253D-1D89-4DEE-B468-DD3BFB41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3246-B634-4498-BD65-79745D99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D4C3-BCF3-4843-A072-55B7D7E7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D318-10D2-4D63-BDB1-4856FBE6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3AB1-5170-41A3-B577-A1802C7E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59F3-C913-49BE-A439-5AA0766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3B5-25D8-4C23-A1DF-F43CE77A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9EEA-3F52-4D37-B3BC-3B4399AE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7E6C-5847-4C25-8BBD-92C71C59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2333-C48E-44A7-BCE5-54CFFA98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AAC4-824A-45FC-8404-33BC7DFE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791F-F8E2-4D79-9CB4-DCC27FA7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B183-61FD-403E-A766-8BCBF1CE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75B5-6C70-4663-B734-65C40D63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8F2A-E7AD-44E1-8115-0E451202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45AB-2C47-4214-BE3A-831A9B28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6288-808C-4754-A5E1-75503116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0E9-2A2B-4135-B412-EBF9A555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D26B-0F1D-42D4-9CC5-FDF97850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5257-D804-4B14-BF3F-9746A753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577B-CD85-415E-9EBC-30006E4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8376-D082-43C8-9CF4-C044700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CC6E-A923-4D63-8F92-1D67F425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3CF3-F457-482C-8C82-36D3B41C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C61A-61CE-4712-8896-199E638A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3052-1F49-45BD-8A27-23036416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9FAC-ED60-48BA-A8BA-0D85B1F0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DB4E-91F9-496B-A272-A378313D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7F4-15DA-41E9-BE3E-34169179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8E5B-7335-4DFA-884F-CBBDD3DC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9896-1DAB-41F6-AC42-F0EF7DFC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13391-90AC-43CB-B20D-3C9EC06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4D19-9DB2-4480-BC3B-A22098D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A6F7-7BE7-4E46-9C05-431F7AF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884D7-7826-4194-9EFE-D7168F6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5C84-C7EA-4320-9D8D-AEA9942D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A603-DF35-4B94-85A0-2332F469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6431-7E8C-4F54-AC5D-FDF59D5B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48A20-B77D-4080-B816-0E437E61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279-E006-43D9-A626-C7597902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EDBE7-DEEB-401B-8435-688CC133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ACED-C1ED-4AF2-8304-B14349C8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D3122-1224-4DEF-82FD-6DA3F9DE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864CB-DFC7-460E-A6A0-252C615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1C36-B5B5-450C-9CB7-B7AD7F8A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546E-13E4-44C5-8A72-8712513D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456A9-D530-4787-BED9-CF86E763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3A6A0-2445-4B6A-8153-A4AD15D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81AC-772A-43E0-9E80-D3854298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4E141-25CF-4705-A07E-B9D68FEC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5FF-4D96-4BF5-A51C-0F066733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5D1BE-BD4E-40D4-9B1F-21A5E286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0D45-5E00-4FB3-8E5E-F4CEB7C3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81C4B-AE45-4D2E-9F39-7E8B449F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BECF-2D55-4F69-8459-BDA3423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B435A-1D60-4A7A-A263-FC65D795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5BFD8-5688-45CE-9FB0-56EFECB8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42D6C-017D-436D-A0E9-00D50BC3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5963B-2FC0-41FD-A3E4-C0E6729C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9D59-D74E-4760-8B54-156BAD78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9D94E-4613-4E7A-9FF4-F3ED99C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228-41C8-4F8E-85C2-9DAF27D4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68C48-9255-43F4-A8D6-1C32694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57FB6-CAB5-4ACC-AC21-89873CBA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4F684-4BD7-4E60-AE4B-277D4CCF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11289-FD23-45A7-A1DB-207EEFFA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F091E-2799-4E82-8A36-76756B7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4DED-E8AC-48C4-A8C9-AE860A69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B185F-C456-416D-988C-670BFA06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3B04-F048-4527-BB6B-72826BA3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70CFD-4848-40E3-9006-C09DBD90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A203E-94DF-4E53-B7B2-77CA2894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771-3A55-4668-940B-011880D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85010-0A87-47DB-BEED-422CC87A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37FDD-2D1D-451F-BD65-60A243FE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2A2FA-7593-476F-B3D5-4F2633A8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02DE-A4EC-4AFC-9FDA-E0D81769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B414-395B-4BCF-83E0-633D8527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3CA2F-B83D-4EBB-9383-21727A86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1BF46-FB78-4437-BCF1-982A0328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31589-D720-4B2B-9AA3-EEBF1A81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A62E1-E5C8-4001-B963-3DE2C753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68B5E-779D-416F-9B16-9A59E4A5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063-FA4F-4A31-8A30-3EF29796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84AD0-FAA0-4777-803F-0376E06C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B74CA-DE1F-42F9-80E0-F5A6E351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A8E80-B163-4781-B2CD-98F529B9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7D866-594D-44E9-AD29-1E148B6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072D5-8356-45A8-AE21-E21BEEBD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EEB4B-F2E6-4959-BDC5-EE76CEF0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C8AFE-4412-4C14-9D27-59796BE1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C517C-6EF6-4379-BDA1-FD2A3A54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6D7ED-C0B9-49B0-A481-DE42A398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64041-B207-43B8-94C4-CE070304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D49-3716-461A-99A1-9DDB267A1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0A3B-E6D4-4D5E-A125-5CD18EE79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E987-DFA6-404B-B174-685E5CBD1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64BB-3912-4012-A4AE-6D7933E14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4056-70FB-4627-8CD7-035F27BA43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472B-476F-446F-9375-6484A0B53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2704-3DFC-47DA-86D8-25E74F81D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3A0-503C-45D4-A9AE-E326D62E2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1874-EC6B-4055-AC06-BB2A931FE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C081-7830-4A9E-8CF3-D0CC5017A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426C-B232-4040-954A-ED0D970F20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2994-5023-4BEB-912E-5F748A888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0253f"/>
                </a:solidFill>
                <a:latin typeface="Calibri"/>
              </a:rPr>
              <a:t>Хімічні рівнян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57808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зентацію створено за допомогою комп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’ютерної програми  ВГ «Основа» «Електронний конструктор уроку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"/>
          <p:cNvSpPr/>
          <p:nvPr/>
        </p:nvSpPr>
        <p:spPr>
          <a:xfrm>
            <a:off x="2387520" y="3244680"/>
            <a:ext cx="43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писати казку про</a:t>
            </a:r>
            <a:r>
              <a:rPr b="1" lang="uk-UA" sz="1800" spc="-1" strike="noStrike">
                <a:solidFill>
                  <a:srgbClr val="10253f"/>
                </a:solidFill>
                <a:latin typeface="Arial"/>
              </a:rPr>
              <a:t> хімічні еле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еакції заміщення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- це хімічні реакції, у результаті яких одна проста речовина заміщає атоми іншого елемента в складній речовині.</a:t>
            </a:r>
            <a:br>
              <a:rPr sz="3200"/>
            </a:b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WO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+H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→W +H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O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еакції обміну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- це хімічні реакції, у результаті яких складні речовини обмінюються своїми складовими.</a:t>
            </a:r>
            <a:br>
              <a:rPr sz="3200"/>
            </a:b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HCl +Na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S→H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S +NaC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3578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машнє завдання</a:t>
            </a:r>
            <a:br>
              <a:rPr sz="3200"/>
            </a:b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Повторити параграфи про хімічні реакції та хімічні рівняння.</a:t>
            </a:r>
            <a:br>
              <a:rPr sz="3200"/>
            </a:b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Творче завдання. Знайти в підручнику й навести два-три приклади хімічних рівнянь реакцій кожного типу. Написати казку про</a:t>
            </a:r>
            <a:r>
              <a:rPr b="1" lang="uk-UA" sz="3200" spc="-1" strike="noStrike">
                <a:solidFill>
                  <a:srgbClr val="10253f"/>
                </a:solidFill>
                <a:latin typeface="Calibri"/>
              </a:rPr>
              <a:t> хімічні елемен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2857680" y="357120"/>
            <a:ext cx="3214440" cy="32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1384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зентацію створено за допомогою комп’ютерної програми  ВГ «Основа» «Електронний конструктор уроку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© ТОВ «Видавнича група ˝Основа˝»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 Усі уроки хімії. 7 клас / І. Ю. Старовойтова, О. В. Люсай. — Х.: Вид. група «Основа», 2008. — 140, [4] с. — (Серія 12-річна школа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Хімія. 7 клас. Дидактичні матеріали до курсу / Упоряд. К.М.Задорожний.— Х.: Вид. група «Основа», 2007.— 112с.— (Б-ка журн. «Хімія»; Вип. 6(54))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І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ІІ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ІІІ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а)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Al +Cl2→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Zn +O2→ 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P +H2→ 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б)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Na +O2→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Al +S→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H2 +Na→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Запишіть формулу продукту реакції (врахувати валентність елементів). (2 бал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Розставте коефіцієнти в рівнянні реакції. (2 бал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Підтвердьте розрахунками виконання закону збереження маси речовини. (3 бал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Обчисліть масову частку елементів у продукті реакції. (3 бал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итання для перев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ір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Який закон допоміг вам розставити коефіцієнти в рівнянні реакції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Наведіть приклади, коли цей закон не виконуєть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)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А хто експериментально підтвердив цей закон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Для чого використовуються коефіцієнти в рівнянні реакції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То що ж таке хімічне рівнянн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6301"/>
                </a:solidFill>
                <a:latin typeface="Calibri"/>
              </a:rPr>
              <a:t>Лабораторний дослід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Дослід 1.</a:t>
            </a: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10253f"/>
                </a:solidFill>
                <a:latin typeface="Calibri"/>
              </a:rPr>
              <a:t>У дві пробірки налийте 1 мл хлоридної кислоти </a:t>
            </a:r>
            <a:r>
              <a:rPr b="0" i="1" lang="en-US" sz="3000" spc="-1" strike="noStrike">
                <a:solidFill>
                  <a:srgbClr val="10253f"/>
                </a:solidFill>
                <a:latin typeface="Calibri"/>
              </a:rPr>
              <a:t>HC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В одну пробірку занурте гранули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Zn, </a:t>
            </a: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в іншу -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Mg. </a:t>
            </a: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Що спостерігаєте? Які висновки зі спостереження можна зробит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Давайте запишемо обидва рівняння, розставимо коефіцієнти та прочитаємо (газоподібну речовину відзначають у реакції стрілкою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Zn + 2HCl→ZnCl</a:t>
            </a:r>
            <a:r>
              <a:rPr b="1" lang="en-US" sz="30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+H2↑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Mg + 2HCl→MgCl</a:t>
            </a:r>
            <a:r>
              <a:rPr b="1" lang="en-US" sz="30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+H2↑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Перевірте розрахунки, що підтверджують правильність розміщення коефіцієнті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ослід 2.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Налийте в пробірку 1 мл розчину купрум(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II)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сульфату (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10253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і по краплинах додайте розчин натрій гідроксиду (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NaOH).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Що спостерігаєм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Випадіння осаду позначається стрілкою. Рівняння реакції:</a:t>
            </a:r>
            <a:br>
              <a:rPr sz="3200"/>
            </a:b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CuSO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+2NaOH →Cu (OH)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↓+Na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SO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       </a:t>
            </a:r>
            <a:br>
              <a:rPr sz="3200"/>
            </a:b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Розставте коефіцієнти. Зробіть висново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KCl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KCl 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б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 +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Cr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a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Na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+ 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H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g +S→ Ag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 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ж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+ H2O→NaOH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a 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BaO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g 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Hg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) (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H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+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 +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Проблемне пит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Поміркуйте, за якою ознакою можна розділити наведені реакції на дві груп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рупа 1: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одна вихідна речовина → кілька продуктів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рупа 2: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кілька вихідних речовин → один продук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За кількістю вихідних речовин і продуктів реакції хімічних реакцій виокремлюють </a:t>
            </a: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реакції розкладу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реакції сполучення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Це не повна класифікація реакцій. До них необхідно додати ще кіль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Реакції заміщення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(ці реакції ми виконали під час лабораторної роботи)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Реакції обмін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214200" y="213840"/>
            <a:ext cx="8715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Отже, розрізняють 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чотири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типи хімічних реакцій за кількістю 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вихідних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речовин і 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продуктів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реакції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74680" y="3071880"/>
            <a:ext cx="85248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еакції сполучення</a:t>
            </a: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 - це хімічні реакції, у результаті яких із двох і більше речовин утворюється один продукт реакції.</a:t>
            </a:r>
            <a:br>
              <a:rPr sz="3600"/>
            </a:b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N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+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→NO    </a:t>
            </a:r>
            <a:br>
              <a:rPr sz="3600"/>
            </a:b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N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+H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O+ 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→HN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еакції розкладу </a:t>
            </a: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- це хімічні реакції, у результаті яких з однієї складної речовини утворюється два і більше продуктів реакції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HgO→Hg +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(NH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)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Cr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7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→Cr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 +N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+H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i</cp:lastModifiedBy>
  <dcterms:modified xsi:type="dcterms:W3CDTF">2015-02-23T14:45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O-diski\01 Продукт\Химия 7 класс\Материалы диска\Уроки\Урок 22 Химические уравнения\P-Урок 22 Химические уравнения.Ppt</vt:lpwstr>
  </property>
</Properties>
</file>