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5F7-0C26-4D5E-A434-0BD9CC1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332-8D73-4456-ABAD-0BF62DF8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1435-CF09-4C3D-AF7D-20A3F831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1DA9-0CF4-4082-9037-84937249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53AF7-2DFE-47CD-A746-18EDF73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D4F68-0F66-4D29-BEB5-5BF56105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DAD6-539A-4B39-9A22-6BE5EC4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40354-01B8-4E2D-8B0A-A11E95B3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1209A-1078-4ABA-A7BE-7409B0C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8EC13-DEBF-40BE-8118-E26C0AD0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A813-163E-4C55-884E-59E9400C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52452-5F8C-4631-85D8-E6CAB471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FA6-CB96-4509-A3A1-5D3D522E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386AC-201E-4642-991C-AB8074C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96579-D96E-425F-A27B-0EEF519E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2BF6E-4858-4CB6-9B08-9F0908B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8686A-9427-41EB-AAB9-76DEAFD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0D860-1AF3-4154-B269-43528E5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7D2BA-9E68-4C85-9297-5482C8D4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84F75-0F88-4259-903B-FFF2B4F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FD2A8-ACCF-4B73-99EB-57BACC6F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7D0D0-2E1E-456A-A25C-C2628A7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7AF6D-3644-41B9-923D-93B6989A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E9A-B351-48F5-B112-C5D4AC01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FEA6B-F240-4333-9F13-AC7C4332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9D12-ABD2-4180-82B2-E83F2309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E9F0F-8992-48F9-971B-4C8DFB5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02BF-96F6-491A-A25F-B3DE0686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F7687-BD5D-4206-844D-B9E6309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C42DA-E447-4A26-8004-C6DA28F3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A1E55-55F3-447C-9858-37A9CF2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A31E-3F4A-4CBC-AC69-51F8722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A3BA5-B804-4636-9D9F-635268A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77671-1D83-45A2-848A-D01D08E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DB3-96F2-4CA0-80F9-D736069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D147D-C603-4A4B-9FB2-B141C827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03EE0-B0A1-405A-A0B4-14998E33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2888-481A-42E3-998E-133EFA2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51204-E798-49EB-8CB5-7EC76CD1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341A3-38AF-43B4-8500-ED6CAE37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6F582-BF84-4975-A601-8B37C8E9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C15A6-6510-4451-BCF2-14233FE5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E2E99-89F1-4AB6-8963-A165564F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F34AB-EE24-43FD-8444-985C22F4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97A76-B03D-47DA-905B-5E81E89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829E-7DB7-4E79-B2AD-E4F513E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73788-D5DC-4612-A401-765FD57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3934B-4341-43ED-ACD3-7D699BF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BDC51-1A3B-4E73-94DC-796DE9C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C7E39-9E43-4369-B8EA-9331AC85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D47E-52A9-42F8-B508-E7A9D91B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791-3004-48BE-8949-95C1384B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69B5-2A2E-461C-8AB3-7E15AEE6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9B65-0E84-4D52-AF61-36D1EC75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F042-2622-4E7D-AA4C-DBBF2421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3548-D21E-42CC-A8E5-30A0E4B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E2A-855E-4F0C-B264-75A483B4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1B92-5527-4781-92FB-994DD7E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117C-E134-4EE2-AFD2-802B4E7D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CAC9-D5B5-471B-9FB7-2FB9B9D2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3D1E-3CE4-44F1-B35B-3C3562DB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E04B-AFD8-4540-A829-8CA8C361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532B-FBDF-492B-881E-3D205597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BA39-3240-4115-A4A4-5135703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B397-5CEA-43FC-BC48-D1DFEE3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BFFF-79F5-48C9-9A72-0246305E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7677-D529-4B4C-82DC-684C3D9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C35-FD3D-4AF5-A5E0-22A2E040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381D-3486-481C-A54D-FB8373A2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9C95-142E-449D-9386-E9AAF6B7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FC92-5442-45DA-9247-E580F4D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1A2D-644B-45C0-9490-E6C6178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C590-32B0-4215-AF41-C4CA81B6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4DA5-C3FC-4B0D-8AE3-5B763871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543D-8343-4DE2-AFCC-DA5957FF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3C18-EE8E-4472-A5C6-2FB00700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AC7E-7825-44BF-9D81-C480C277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3E6D-3964-4522-8876-9AE4E01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663-C101-4A2F-B3EE-6D63E6E6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86BE-1E9F-4AD8-9AF9-03EFE43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A838-B6CB-4C89-AD44-921C7D9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5C64-8182-47B7-809C-D2F5C584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6FFE-67EA-4EE4-9A47-31E46FA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024C-87BA-4748-969E-6127FC8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7542-8272-493D-AFAE-040BC01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3133-E102-4CA6-937B-EA264D1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8C65-168C-41E8-9A5B-1446F63A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5C8A-C4E7-43A0-8715-C7A9571F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E68C-7048-4C31-B037-0C6D861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CC6-76E9-4438-A12C-9DCAED53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F222-8B59-403A-B5FB-0CF74EC5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8C2C-ABA4-44BE-AA7D-D52E06C8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1717-A3DC-47BB-9CB9-252A637B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FF78-74DA-40F9-A83F-6AD232DE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701FD-A63A-48C4-8FB6-14C6B5D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1824-860E-4BDF-99F7-750922F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0B7B-500F-4FD9-AE1D-1EF57594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E8E9-14C4-4E69-8A73-EC7C0125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D004-22CA-413F-9954-8A60A54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951FD-9242-4110-8300-DCF214A7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D68-D327-4828-8F5E-1BBD2A54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1EDC-DA56-47E8-AD9D-BA7525FF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D52A-2E0A-413C-A01D-D1D828E8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7194-A891-4EE5-B660-8CE04645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6390-5C28-4EEF-98E5-8CC73F25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61216-AE35-48FB-83A8-B609DCF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7B43-06C6-44F2-A0E4-CF14A563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4587-6431-4263-8DE2-BAA32797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7B9BC-84B2-4939-A94F-8BB8B94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879E-6745-428A-B49C-84EB054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22CF-3AB9-46F7-9047-6171E1E2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114-70C9-40E5-9594-7785535D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A141-4B24-4864-965E-79A39E7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533A-0F47-4562-AF04-8B476D40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D598-3A7F-4B0B-A468-AF6E0DAF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5BEB-9B5D-4CDA-A0B1-7EB8CED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1642-C6F1-4B4B-9AB0-ED9546D5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C9C5-4162-47DF-9778-1706EFB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DBD74-4347-4A83-908E-64E15BDB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FA35-8528-4E6C-AD0F-C5A27F7B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5A29-CF5A-4632-878D-D7328AB2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5B99-C541-4A8D-AC2C-7DE639B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DCC-8A19-4204-9958-267A394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C11A-6928-4903-901B-8DDA161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DECC3-6FF0-4DCE-8CCA-556A3F6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26BB2-969C-444B-A6B2-9C6A99DC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E432-E251-4E46-B368-6F7D3F92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15F0-E8E4-47F0-9E06-3136DBA8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2813B-4070-4449-ACA8-C6C76F0B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704C-F156-4614-9E56-0B0E8C05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7BF0-41EA-4FCC-A3BF-84CDE71E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FD7D-4CB1-4452-AB71-A98F55D1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3D375-77DE-4C17-A812-75F234EB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E2C-6EBB-4BFB-8E0B-EB33AA8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6181-C059-459F-8682-461E98C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00F7-6794-439A-B7A9-51EA69E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29D8-AFBF-4862-9241-5899CD5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B826-4265-4296-B4BB-41047396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42144-5FD7-4E1D-AF41-F370A3A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E2C84-A0B8-4866-AB4F-3292BA42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6169-ADE5-4176-95FE-D1A19D0D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3ACDE-5F2D-4E60-BA72-BD660C3A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F34F-B90B-4DDA-8EEF-5D7EBA27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C8066-A887-4FEA-A9CB-D97E0AD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D00D-308E-4E14-B706-F780DC7DF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609A-08C0-4A8B-8029-C12CE8352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606-0E86-4A09-B65F-EC92581C8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A7A-9E33-4685-885B-5C6A53039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EFE0-9D5D-4245-9EE6-69C851244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9872-3403-4031-9AD7-0873AC66D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CFB-44C5-4D7B-B53D-349F5AAA2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CDA-8D41-4E7E-B9D1-4DA114783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1F7-09C9-4227-AB27-9A089E194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9987-4C4D-49D8-9CC5-E0AE6C3A1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BA5-889B-43AA-A543-45196EDA6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8D0E-6915-4B57-83C1-C40153624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0253f"/>
                </a:solidFill>
                <a:latin typeface="Calibri"/>
              </a:rPr>
              <a:t>Хімічні рівня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57808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’ютерної програми  ВГ «Основа» «Електронний конструктор уроку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"/>
          <p:cNvSpPr/>
          <p:nvPr/>
        </p:nvSpPr>
        <p:spPr>
          <a:xfrm>
            <a:off x="2387520" y="3244680"/>
            <a:ext cx="43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писати казку про</a:t>
            </a:r>
            <a:r>
              <a:rPr b="1" lang="uk-UA" sz="1800" spc="-1" strike="noStrike">
                <a:solidFill>
                  <a:srgbClr val="10253f"/>
                </a:solidFill>
                <a:latin typeface="Arial"/>
              </a:rPr>
              <a:t> хімічні еле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еакції заміщення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- це хімічні реакції, у результаті яких одна проста речовина заміщає атоми іншого елемента в складній речовині.</a:t>
            </a:r>
            <a:br>
              <a:rPr sz="3200"/>
            </a:b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WO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+H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→W +H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O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еакції обміну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- це хімічні реакції, у результаті яких складні речовини обмінюються своїми складовими.</a:t>
            </a:r>
            <a:br>
              <a:rPr sz="3200"/>
            </a:b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HCl +Na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S→H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S +NaC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3578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Повторити параграфи про хімічні реакції та хімічні рівняння.</a:t>
            </a: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Творче завдання. Знайти в підручнику й навести два-три приклади хімічних рівнянь реакцій кожного типу. Написати казку про</a:t>
            </a:r>
            <a:r>
              <a:rPr b="1" lang="uk-UA" sz="3200" spc="-1" strike="noStrike">
                <a:solidFill>
                  <a:srgbClr val="10253f"/>
                </a:solidFill>
                <a:latin typeface="Calibri"/>
              </a:rPr>
              <a:t> хімічні елемен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2857680" y="357120"/>
            <a:ext cx="3214440" cy="32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© ТОВ «Видавнича група ˝Основа˝»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 Усі уроки хімії. 7 клас / І. Ю. Старовойтова, О. В. Люсай. — Х.: Вид. група «Основа», 2008. — 140, [4] с. — (Серія 12-річна школа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Хімія. 7 клас. Дидактичні матеріали до курсу / Упоряд. К.М.Задорожний.— Х.: Вид. група «Основа», 2007.— 112с.— (Б-ка журн. «Хімія»; Вип. 6(54)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І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ІІ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ІІІ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а)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l +Cl2→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Zn +O2→ 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P +H2→ 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б)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Na +O2→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Al +S→ 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H2 +Na→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Запишіть формулу продукту реакції (врахувати валентність елементів). (2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Розставте коефіцієнти в рівнянні реакції. (2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Підтвердьте розрахунками виконання закону збереження маси речовини. (3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Обчисліть масову частку елементів у продукті реакції. (3 бал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итання для перев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ір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Який закон допоміг вам розставити коефіцієнти в рівнянні реакції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Наведіть приклади, коли цей закон не виконує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) 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А хто експериментально підтвердив цей закон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Для чого використовуються коефіцієнти в рівнянні реакції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)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То що ж таке хімічне рівня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6301"/>
                </a:solidFill>
                <a:latin typeface="Calibri"/>
              </a:rPr>
              <a:t>Лабораторний дослід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Дослід 1.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10253f"/>
                </a:solidFill>
                <a:latin typeface="Calibri"/>
              </a:rPr>
              <a:t>У дві пробірки налийте 1 мл хлоридної кислоти </a:t>
            </a:r>
            <a:r>
              <a:rPr b="0" i="1" lang="en-US" sz="3000" spc="-1" strike="noStrike">
                <a:solidFill>
                  <a:srgbClr val="10253f"/>
                </a:solidFill>
                <a:latin typeface="Calibri"/>
              </a:rPr>
              <a:t>HC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 одну пробірку занурте гранули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Zn, 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 іншу -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Mg. </a:t>
            </a: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Що спостерігаєте? Які висновки зі спостереження можна зробит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Давайте запишемо обидва рівняння, розставимо коефіцієнти та прочитаємо (газоподібну речовину відзначають у реакції стрілкою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Zn + 2HCl→ZnCl</a:t>
            </a:r>
            <a:r>
              <a:rPr b="1" lang="en-US" sz="30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+H2↑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Mg + 2HCl→MgCl</a:t>
            </a:r>
            <a:r>
              <a:rPr b="1" lang="en-US" sz="30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10253f"/>
                </a:solidFill>
                <a:latin typeface="Calibri"/>
              </a:rPr>
              <a:t>+H2↑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Перевірте розрахунки, що підтверджують правильність розміщення коефіцієнт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ослід 2.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алийте в пробірку 1 мл розчину купрум(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II)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ульфату (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і по краплинах додайте розчин натрій гідроксиду (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NaOH).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Що спостерігаєм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ипадіння осаду позначається стрілкою. Рівняння реакції:</a:t>
            </a:r>
            <a:br>
              <a:rPr sz="3200"/>
            </a:b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CuSO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+2NaOH →Cu (OH)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↓+Na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       </a:t>
            </a:r>
            <a:br>
              <a:rPr sz="3200"/>
            </a:b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Розставте коефіцієнти. Зробіть висново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Cl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KCl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 +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Cr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a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Na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+ 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H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g +S→ Ag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 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ж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+ H2O→NaOH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BaO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g +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Hg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) 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H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→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+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 +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Проблемне пит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Поміркуйте, за якою ознакою можна розділити наведені реакції на дві груп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упа 1: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одна вихідна речовина → кілька продуктів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упа 2: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кілька вихідних речовин → один продук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За кількістю вихідних речовин і продуктів реакції хімічних реакцій виокремлюють </a:t>
            </a: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розкладу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сполучення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Це не повна класифікація реакцій. До них необхідно додати ще кіль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заміщення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(ці реакції ми виконали під час лабораторної роботи)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Calibri"/>
              </a:rPr>
              <a:t>Реакції обмін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4200" y="21384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Отже, розрізняють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чотири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типи хімічних реакцій за кількістю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вихідних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речовин і 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продуктів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реакції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74680" y="3071880"/>
            <a:ext cx="8524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еакції сполучення</a:t>
            </a: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 - це хімічні реакції, у результаті яких із двох і більше речовин утворюється один продукт реакції.</a:t>
            </a:r>
            <a:br>
              <a:rPr sz="3600"/>
            </a:b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N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+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→NO    </a:t>
            </a:r>
            <a:br>
              <a:rPr sz="3600"/>
            </a:b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N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+H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+ 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→HN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еакції розкладу </a:t>
            </a: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- це хімічні реакції, у результаті яких з однієї складної речовини утворюється два і більше продуктів реакції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HgO→Hg +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(NH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)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Cr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7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→Cr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 +N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+H</a:t>
            </a:r>
            <a:r>
              <a:rPr b="1" lang="en-US" sz="3600" spc="-1" strike="noStrike" baseline="-25000">
                <a:solidFill>
                  <a:srgbClr val="10253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10253f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</cp:lastModifiedBy>
  <dcterms:modified xsi:type="dcterms:W3CDTF">2015-02-23T14:45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O-diski\01 Продукт\Химия 7 класс\Материалы диска\Уроки\Урок 22 Химические уравнения\P-Урок 22 Химические уравнения.Ppt</vt:lpwstr>
  </property>
</Properties>
</file>