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1EA-8824-43B3-95F3-BEE49E28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B50-CDC4-4ADA-906B-F8E25C3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06512-9088-4BF3-ACAE-E654ECB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BFC97-530B-4DCD-B264-71F8D44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95BAE-6292-440B-81F9-318BD9B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FBE0E-560B-45CE-A767-9F4A802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8EA35-0113-46AD-AEC7-94A0D37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D821E-1EA7-4EA5-98FD-BF01D0C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71A0-A72A-490E-990A-7D306D6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039D2-75C0-49CB-B2B7-6B87DE7F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C653-5F89-42A0-B5A6-BF74865C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5C54-4326-4E39-BAC0-B9C03625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E39-F7FC-44DD-90A4-B5D1F6FF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F121-431A-4329-A3E6-95FE19C7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BDD4B-2765-489D-9CE5-4144CC60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48370-874A-4EB6-B6BF-B4DD05E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DE1A9-39D5-418B-B3AD-5D96FB09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A3109-957E-4CF5-BE1E-D2CDC5A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F9B3B-BD08-46FB-954E-DE1ACE9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5BF2B-8885-470B-97BC-13AB097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C232B-73A3-45FA-B353-C2774A4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350C9-18F0-4550-8448-7C8081D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07809-DC2A-4030-BAFA-11A180A0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841-3839-4739-868D-BC7ACAD9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F3B6B-AB5A-431E-8415-E76B65B7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060B-B5FB-4D7A-A7B1-E4ED4337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12C10-C551-4272-843D-EB5E4B55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5AF0-435A-40D0-B81E-6EBEEA54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25557-4DE0-45E3-A959-EBEB693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8429C-EE47-48D7-B41E-FEE0F3F7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02C3A-A87C-403C-8CD5-782BA82B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116E-53F8-4568-8DD0-093C583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4B79D-9153-4316-A54F-BE21DDD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86D9-52CC-44F6-9356-F0FBE16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A275-DD1E-427D-A5F2-E2C80EFF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B9A7A-2F26-4E54-A56F-0F971E4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B469B-0F8A-444D-9F3D-B7D002E4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A69F2-8D94-45EE-8B72-CDA4257E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4AF-B40F-4573-92C7-872A643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D65-2942-42B2-BAD4-F822200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321-5846-4970-81B3-C28E35D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00FE-6E37-4A65-B4A6-A4D5F92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A498-F462-4AF5-80A0-80D210F7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D4F-E10E-4F05-BBE8-883430F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2EF-734C-49A7-833D-CC566E3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F43D-8FD7-4AC9-BF5F-10E7973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908-2FE1-4BFD-AF3A-D6FAF79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98CE-36C7-4570-9D0C-225FF4BF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DADF-BC01-4331-948F-F9CA4B78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0708-BFC1-43D2-A69A-605F1B5A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83BE-8CB5-41F1-A948-870CFCF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F2A8-29E0-482A-808F-B250AA0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B65C-184A-4508-A653-882E933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2815-F5F3-4502-9707-DA2AF69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CE40-6A88-4D14-97DE-125A37A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F0A-722C-440F-8B09-EDED88A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46CE-CEA0-4153-9C31-34EE0B98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6C4F-3926-48EC-B077-EE14F941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007D-B284-4526-BF24-FC8083F1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E375-7A84-462C-827F-895DB2B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B7FD-5CAE-4E62-B2D3-15BDA811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CD00-82A1-414A-9C36-A693C526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B5F8-38BB-428E-8BFC-42BD32DA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A65E-4BB7-4E7C-B530-D301CFE7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B412-A458-49C2-8E16-1775F9DB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1A3D-4B92-4217-931A-D7B629F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CAE-FB64-43D1-9688-045136B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2457-C339-45DF-956C-2237D014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54E1-93D1-49DB-AD1A-2D9B31A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64D3-0C48-4152-8AD8-BD90783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D133-4F8A-4CAF-815F-8131E7D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E5E5-B544-4DD4-A4C1-6F6B271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DE87-AF4F-4DB2-B163-4E09871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AED0-7D76-4309-AEFD-2B58F55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8F29-571B-488D-8E6F-81E27D66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467C-1727-4509-93A0-49A31460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7D90-FECB-400B-AF93-15C5F2C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A31-97B0-44D9-B51E-7C34EA08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1218-92CB-43A6-B25A-EF6B24D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AE5E-44EE-4CFA-8083-9F84D59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524C-5B26-45CF-9F89-D056E479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08EE-CEAD-48FE-BA82-636CEBCD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6BE3-E89A-486E-90C4-8F79EAC9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0A30-DB98-4BFB-A58A-F0CB03A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76AC-A2E3-44F3-8B61-920A1F4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60C2-6A50-41A4-A4A4-89555C6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BFFD-84E5-4C53-9CF3-F702F42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88C4-B5D4-4D8D-AB03-D6B4FAB6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256-BAB4-4324-9B1C-73C28E0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7ADE9-B087-4687-BC2F-64026212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8A3D-96F3-47F4-AF3A-06115150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5121-832B-4593-B016-783816F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3DA1-3471-46E7-8D9D-967A1975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DFED-14BA-4609-850D-1BF6109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F951-3DD8-4593-9A0C-F04F7308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10163-E65D-4237-A581-D239799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CB6F-4BF0-4D7A-8595-726314E0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6B34-5616-48D5-9C17-EC2A0A3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B6ED-16FB-4726-A2A1-4EACE70C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32F-640F-46E9-9316-8CD5A57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16545-7E33-465E-B6C5-3551B099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F6C5-35FF-448B-B84B-AF16147D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45F7-03E1-45FB-90D8-196FF2BB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8CAB-936C-44CA-BF9E-B35DEDFF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ED01-752D-48F2-8B57-D3146458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BA34-09B8-4CD2-81B2-ED73205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E2C1-F39E-4D55-9041-D17B497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C583-EF55-4074-89CE-2F28835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BAA5B-4E27-4B96-9FF7-15BEC5C3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156CE-4003-4EAA-868E-62CB0F2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006-BF7D-47A5-9BA8-8E9678C1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CB67-BDD0-49F3-B4E7-67F2626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4CFB-D242-4F6A-8E5D-D3C773F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7B5A-FDCE-469E-BDE4-03A9E22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941D-E324-43C1-AECD-5F1A45D7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033B-1909-4C71-B253-D11B221D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A4C32-F2C8-45B9-BE2A-B574CCAA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90242-29E9-4F66-AA4F-96D28A23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0113-1E0E-45B5-AD5A-095E281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0F56-F407-4511-987B-8F77E96B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3C58-B59A-4CE2-A022-02564F2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918-6243-4E9F-9729-080AE599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1697-A747-42B7-ACDE-CDF990A8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87711-D524-41A5-ABF9-CC58344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994A7-DA82-4089-8C5D-2218975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2CF6-D088-4C97-B0D5-F19FBAA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6CD3-DEE1-4861-9912-ED2FB2B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09E1-FE79-46D9-B95E-4DB5F81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5EDD-5C7C-4DA6-9961-71D851D4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2D35-D630-403B-A96F-3A6F2397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7419E-AA22-42E9-8F6C-ED754276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17234-D015-4C6C-A46A-4B54BFC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5DA-C1C4-4741-8519-4ABBB36C2BF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E75-AA7B-4586-8813-C5E9A8D1E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B1B-DDE0-4216-820E-7F73F056E3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FB3-B019-4BE9-BF53-672AB406D02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D8E3-C6ED-4307-AA5E-1D46A496D25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1D6-A03F-435C-8CCF-56490467790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0DA3-9857-4485-8636-D5EADAE54BC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E1D-2801-4DDC-9F58-8390987FF7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0AB-6E2F-4CDA-950A-4F541B88EBF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0B8-4B79-4EEE-B3E2-9E3572521F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285-4D94-4CC4-881C-3DE2ADB1880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..\..\..\&#1054;&#1088;&#1075;&#1072;&#1085;&#1110;&#1079;&#1072;&#1094;&#1110;&#1103; &#1088;&#1086;&#1073;&#1086;&#1090;&#1080; &#1079; &#1086;&#1073;&#1076;&#1072;&#1088;&#1086;&#1074;&#1072;&#1085;&#1080;&#1084;&#1080; &#1076;&#1110;&#1090;&#1100;&#1084;&#1080;.doc" TargetMode="External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1054;&#1073;&#1076;&#1072;&#1088;&#1086;&#1074;&#1072;&#1085;&#1110;\&#1058;&#1077;&#1089;&#1090;&#1080;\&#1040;&#1085;&#1082;&#1077;&#1090;&#1072; &#1061;&#1072;&#1072;&#1085;&#1072; &#1110; &#1050;&#1072;&#1092;&#1072;.doc" TargetMode="External"/><Relationship Id="rId2" Type="http://schemas.openxmlformats.org/officeDocument/2006/relationships/hyperlink" Target="&#1054;&#1073;&#1076;&#1072;&#1088;&#1086;&#1074;&#1072;&#1085;&#1110;\&#1058;&#1077;&#1089;&#1090;&#1080;\&#1053;&#1077;&#1110;&#1089;&#1085;&#1091;&#1102;&#1095;&#1072; &#1090;&#1074;&#1072;&#1088;&#1080;&#1085;&#1072;.doc" TargetMode="External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1054;&#1073;&#1076;&#1072;&#1088;&#1086;&#1074;&#1072;&#1085;&#1110;\&#1058;&#1077;&#1089;&#1090;&#1080;\&#1053;&#1077; &#1087;&#1088;&#1086;&#1075;&#1072;&#1074; &#1074;&#1091;&#1085;&#1076;&#1077;&#1088;&#1082;&#1110;&#1085;&#1076;&#1072;.doc" TargetMode="External"/><Relationship Id="rId2" Type="http://schemas.openxmlformats.org/officeDocument/2006/relationships/hyperlink" Target="&#1054;&#1073;&#1076;&#1072;&#1088;&#1086;&#1074;&#1072;&#1085;&#1110;\&#1058;&#1077;&#1089;&#1090;&#1080;\&#1050;&#1077;&#1090;&#1090;&#1077;&#1083;&#1083; &#1056;. - &#1052;&#1085;&#1086;&#1075;&#1086;&#1092;&#1072;&#1082;&#1090;&#1086;&#1088;&#1085;&#1072;&#1103; &#1083;&#1080;&#1095;&#1085;&#1086;&#1089;&#1090;&#1085;&#1072;&#1103; &#1084;&#1077;&#1090;&#1086;&#1076;&#1080;&#1082;&#1072; &#1056;. &#1050;&#1077;&#1090;&#1090;&#1077;&#1083;&#1083;&#1072; (&#1092;&#1086;&#1088;&#1084;&#1072; &#1057;) 105 &#1074;&#1086;&#1087;&#1088;&#1086;&#1089;&#1086;&#1074;..exe" TargetMode="External"/><Relationship Id="rId3" Type="http://schemas.openxmlformats.org/officeDocument/2006/relationships/hyperlink" Target="&#1054;&#1073;&#1076;&#1072;&#1088;&#1086;&#1074;&#1072;&#1085;&#1110;\&#1058;&#1077;&#1089;&#1090;&#1080;\&#1043;&#1088;&#1072;&#1092;&#1086;&#1083;&#1086;&#1075;&#1110;&#1095;&#1085;&#1080;&#1081; &#1090;&#1077;&#1089;&#1090;.doc" TargetMode="External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58523"/>
                </a:solidFill>
                <a:latin typeface="Arial"/>
              </a:rPr>
              <a:t>МЕТОДИЧНІ РЕКОМЕНДАЦІЇ </a:t>
            </a:r>
            <a:br>
              <a:rPr sz="4000"/>
            </a:br>
            <a:r>
              <a:rPr b="1" lang="uk-UA" sz="4000" spc="-1" strike="noStrike">
                <a:solidFill>
                  <a:srgbClr val="058523"/>
                </a:solidFill>
                <a:latin typeface="Arial"/>
              </a:rPr>
              <a:t>щодо організації роботи з обдарованими дітьм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266720" y="52574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701e"/>
                </a:solidFill>
                <a:latin typeface="Arial"/>
              </a:rPr>
              <a:t>Розроблено на засіданні педради 18.11.2013№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obdarovani02"/>
          <p:cNvPicPr/>
          <p:nvPr/>
        </p:nvPicPr>
        <p:blipFill>
          <a:blip r:embed="rId1"/>
          <a:stretch/>
        </p:blipFill>
        <p:spPr>
          <a:xfrm>
            <a:off x="304920" y="2362320"/>
            <a:ext cx="327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701e"/>
                </a:solidFill>
                <a:latin typeface="Arial"/>
              </a:rPr>
              <a:t>Характерні особливості обдарованих дітей: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асто "перескакують" через послідовні етапи свого розвитку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них чудова пам'ять, яка базується на ранньому мовленні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ано починають класифікувати інформацію, що надходить до них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з задоволенням захоплюються колекціонуванням, при цьому їхня мета - не приведення колекції в ідеальний порядок, а її реорганізація, систематизація на нових підставах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ають великий словниковий запас, із задоволенням читають словники чи енциклопедії, придумують нові слова і поняття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займатися кількома справами одразу, наприклад, стежити за декількома подіями, що відбуваються навколо них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уже допитливі, активно досліджують навколишній світ і не терплять жодних обмежень своїх досліджен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тривалий час концентрувати свою увагу на одній справі, вони буквально "занурюються" у своє заняття, якщо воно їм цікаве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ють розвинене почуття гумору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ійно намагаються вирішувати проблеми, які їм поки що не під силу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різняються різноманітністю інтересів, що породжує схильність починати кілька справ одночасно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асто роздратовують ровесників звичкою поправляти інших і вважають себе такими, що завжди мають рацію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їм бракує емоційного балансу, вони часто нетерплячі та поривча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6983-original"/>
          <p:cNvPicPr/>
          <p:nvPr/>
        </p:nvPicPr>
        <p:blipFill>
          <a:blip r:embed="rId1"/>
          <a:stretch/>
        </p:blipFill>
        <p:spPr>
          <a:xfrm>
            <a:off x="1523880" y="2895480"/>
            <a:ext cx="6658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4701e"/>
                </a:solidFill>
                <a:latin typeface="Arial"/>
              </a:rPr>
              <a:t>Проблеми обдарованих ді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еприязнь до школи часто з'являється тому, що навчальна програма нудна і нецікава для обдарованої дитин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бдарованим дітям подобаються складні ігри і нецікаві ті, якими захоплюються їхні ровесники, внаслідок чого дитина опиняється в ізоляції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глиблення у філософські проблеми: для обдарованих дітей є характерним замислюватися над такими явищами, як смерть, потойбічне життя, релігійні вірування набагато частіше, ніж для інш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Невідповідність між фізичним, інтелектуальним та соціальним розвитком - обдаровані діти частіше віддають перевагу спілкуванню з дітьми старшого віку. Через це їм важко бути лідерами - вони поступаються фізичним розвитко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Прагнення до досконалості - для обдарованих дітей характерна внутрішня потреба досконалості, вони не заспокоюються, доки не досягнуть бажано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Почуття незадоволеності - вони критично ставляться до своїх досягнень, мають низьку самооцін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Нереальні завдання, які вони часто ставлять перед собою, не маючи змоги виконати ї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Надмірна чутливість, вразливість, нетерплячість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. Потреба в уважному ставленні доросли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0. Зневага у ставленні до дітей, які стоять нижче від них в інтелектуальному розвит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701e"/>
                </a:solidFill>
                <a:latin typeface="Arial"/>
              </a:rPr>
              <a:t>Основні напрями виховання обдарованих ді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Формування особистост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ання творчої особистості, здатної до діяльності в новій економічній ситуації, розвиток її обдарувань, талант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ток інтелекту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звиток пам'яті, мислення, спостережливості, уяви, уважності. Продовження розумової діяльності за межами заданої ситуації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ток творчост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датність продукувати нові ідеї, гіпотези, знаходити нетрадиційні способи вирішення проблемних задач, виявляти при цьому оригінальність, винахідливі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ання духовності, загальнолюдської морал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Ідеї добра, правди, краси, справедливості, совісті, людської гідності, патріотизму, любові, інших доброчиннос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Принципи виховання обдарованих ді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Природовідповідність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врахування багатогранної і цілісної природи людини, вікових та індивідуальних особливостей ді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Гуманізація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створення умов для формування кращих якостей та здібностей дитини, джерел її життєвих сил; повага до особистості.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Демократизація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сприйняття особистості виховання як вищої соціальної цінності, визначення його права на свободу, на розвиток здібностей і виявлення індивідуальності.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Безперервність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досягнення цілісності та наступності у вихованні, перетворення його у процес, що триває впродовж усього життя людини; формування цілісної та всебічно розвиненої особистост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иференціація та індивідуалізація виховного процес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врахування рівнів фізичного, психічного, соціального, духовного, інтелектуального розвитку учнів, стимулювання активності, розкриття творчої індивідуальності кожного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Послідовність, систематичність і варіативність форм і методів вихо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свідомість, активність, самодіяльність і творча ініціатива учнів; готовність до життєвої адаптації в умовах ринкових віднос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Інтегративн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єдність виховання школи, сім'ї, громадськост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701e"/>
                </a:solidFill>
                <a:latin typeface="Arial"/>
              </a:rPr>
              <a:t>Принципи педагогічної творчості вчителя, реалізація яких сприяє творчому розвитку особистості</a:t>
            </a:r>
            <a:r>
              <a:rPr b="0" lang="ru-RU" sz="2400" spc="-1" strike="noStrike">
                <a:solidFill>
                  <a:srgbClr val="04701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суб'єктивності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навчання і виховання передбачає визнання слухача як суб'єкта педагогічної взаємодії, використання вчителем у процесі навчання і виховання переважно діалогічних форм комунікативної взаємодії із слухачем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діагностик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передбачає побудову і корекцію навчально-виховного процесу на основі психолого-педагогічних діагностичних досліджень, а саме: оцінювання рівних розвитку творчих можливостей дітей і дитячих колективів, з якими педагог вступає у взаємодію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оптимальності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передбачає роботу педагога з відбору таких дидактичних засобів, які відповідають рівню розвитку творчих можливостей більшості дітей та враховують рівень розвитку творчих можливостей меншо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фасілітац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ередбачає розуміння формування творчої особистості вихованця у навчально-виховному процесі як процес полегшення, сприяння творчій навчальній діяльності дитини, стимулювання його творчої активн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креативнос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ідображає необхідність виявлення можливостей змісту навчального матеріалу для посилення його орієнтації на формування творчої особистості дити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доповн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ередбачає посилення розвитку творчих можливостей дітей за рахунок реалізації додаткового змісту в організаційних формах навчально-пізнавальної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варіантнос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иражає необхідність подолання одноманітності змісту, форм, методів навчання. Для ефективності взаємодії у системі "педагог-вихованець" принцип варіантності має регулятивне значення, визначає мету та стратегію проектування педагогічної взаємодії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самоорганізац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ідображає особливості управління процесом формування творчої особистості дитини, які зумовлені особливостями управління нелінійними системами та орієнтують педагога на внутрішній вплив, на узгодження розвитку вихованця з власними тенденціями розвитку, а також на необхідність "збуджувати" та ініціювати творчу активність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Завдання педагог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виявити обдарованість дитини у практичній або розумовій сферах, створивши для всіх без винятку дітей рівні можли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Немає необдарованих дітей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є дорослі, які не займаються розвитком дитини, адже будь-яка здібність потребує розвит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ekzamen"/>
          <p:cNvPicPr/>
          <p:nvPr/>
        </p:nvPicPr>
        <p:blipFill>
          <a:blip r:embed="rId1"/>
          <a:stretch/>
        </p:blipFill>
        <p:spPr>
          <a:xfrm>
            <a:off x="2971800" y="19810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Times New Roman"/>
              </a:rPr>
              <a:t>Заходи </a:t>
            </a:r>
            <a:r>
              <a:rPr b="0" lang="uk-UA" sz="2800" spc="-1" strike="noStrike">
                <a:solidFill>
                  <a:srgbClr val="04701e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4701e"/>
                </a:solidFill>
                <a:latin typeface="Times New Roman"/>
              </a:rPr>
              <a:t>щодо планування роботи з обдарованими діть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інформаційні банки даних "Обдарованість".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нк да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ити систему адресної підтримки обдарованих дітей, які є переможцями всеукраїнських олімпіад, конкурсів, турнір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зація матеріалів періодичних видань з проблем дитячої обдарованост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проблемних та навчальних семінарів з метою систематичного підвищення майстерності вчителів, які працюють з обдарованими дітьм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провадження учнівських наукових товариств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учнівських науково-практичних конференції, конкурс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 проведення предметних олімпіа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вторських програм спецкурсів у системі факультативних занять із врахуванням індивідуальних здібностей обдарован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груп для сумісного навчання обдарованих дітей на базі однієї паралел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отовка до друку методичних вказівок, розроблених вчителями, які працюють з обдарованими дітьми в системі факультативних заня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 проведення творчих звітів за результатами роботи факультативів, предметних гуртків, студі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ійснення моніторингу стану здоров'я обдарован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остійно діючого семінару для класних керівників "Обдаровані діти в умовах масової школи" із залученням лікаря, психолога, спеціалістів управління осві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участі обдарованих дітей у міських, районних, республіканських конкурсах різного напрям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досконалення діяльності гуртків за інтерес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системи діагностики рівня професійної компетенції вчителів, які працюють з обдарованими діт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системи стимулювання вчителів, які працюють з обдарованими дітьми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говорення проблем організації роботи з обдарованими дітьми і визначення подальших перспектив на педраді (засіданні науково-методичної ради, засіданнях методичних об'єднань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пам'яток, алгоритмів для обдарованих дітей, методик самостійної дослідницької діяльно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формлення стенду “Організація роботи з обдарованими дітьми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рганізація семінару для молодих спеціалістів, які працюють з обдарованими дітьми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2057400" y="1066680"/>
            <a:ext cx="4724280" cy="1676520"/>
          </a:xfrm>
          <a:prstGeom prst="downArrowCallout">
            <a:avLst>
              <a:gd name="adj1" fmla="val 70454"/>
              <a:gd name="adj2" fmla="val 70448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ПІДГОТОВКИ ПЕДАГОГА ДО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 ОБДАРОВАНИМИ УЧ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1676520" y="2743200"/>
            <a:ext cx="5790960" cy="38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ійна педагогічна компетентність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1198440" y="-4100400"/>
            <a:ext cx="6400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057400" y="3733920"/>
          <a:ext cx="5105520" cy="2408040"/>
        </p:xfrm>
        <a:graphic>
          <a:graphicData uri="http://schemas.openxmlformats.org/drawingml/2006/table">
            <a:tbl>
              <a:tblPr/>
              <a:tblGrid>
                <a:gridCol w="1701720"/>
                <a:gridCol w="1701720"/>
                <a:gridCol w="1702080"/>
              </a:tblGrid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лектуаль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і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інськ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софськ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1" name="Rectangle 23"/>
          <p:cNvSpPr/>
          <p:nvPr/>
        </p:nvSpPr>
        <p:spPr>
          <a:xfrm>
            <a:off x="533520" y="3042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ідготовки вчителя до роботи з обдарованими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457200" y="990720"/>
            <a:ext cx="2908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рсова і міжкурсова робота при КВНЗ «Харківська академія неперервної осві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3581280" y="914400"/>
            <a:ext cx="2057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ізні види методичних заход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6095880" y="990720"/>
            <a:ext cx="20574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освітня робот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124080" y="1981080"/>
            <a:ext cx="175284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йонні (міські)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4952880" y="1981080"/>
            <a:ext cx="175284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ільні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AutoShape 7"/>
          <p:cNvCxnSpPr/>
          <p:nvPr/>
        </p:nvCxnSpPr>
        <p:spPr>
          <a:xfrm flipH="1">
            <a:off x="4571280" y="380520"/>
            <a:ext cx="108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8" name="AutoShape 8"/>
          <p:cNvCxnSpPr/>
          <p:nvPr/>
        </p:nvCxnSpPr>
        <p:spPr>
          <a:xfrm>
            <a:off x="2362320" y="685440"/>
            <a:ext cx="4634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9" name="AutoShape 9"/>
          <p:cNvSpPr/>
          <p:nvPr/>
        </p:nvSpPr>
        <p:spPr>
          <a:xfrm>
            <a:off x="4343400" y="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10"/>
          <p:cNvCxnSpPr/>
          <p:nvPr/>
        </p:nvCxnSpPr>
        <p:spPr>
          <a:xfrm>
            <a:off x="380520" y="291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1" name="AutoShape 11"/>
          <p:cNvCxnSpPr/>
          <p:nvPr/>
        </p:nvCxnSpPr>
        <p:spPr>
          <a:xfrm>
            <a:off x="2361960" y="68544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2" name="AutoShape 12"/>
          <p:cNvCxnSpPr/>
          <p:nvPr/>
        </p:nvCxnSpPr>
        <p:spPr>
          <a:xfrm>
            <a:off x="4572000" y="685440"/>
            <a:ext cx="72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3" name="AutoShape 13"/>
          <p:cNvCxnSpPr/>
          <p:nvPr/>
        </p:nvCxnSpPr>
        <p:spPr>
          <a:xfrm>
            <a:off x="7009920" y="68544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4" name="AutoShape 14"/>
          <p:cNvCxnSpPr/>
          <p:nvPr/>
        </p:nvCxnSpPr>
        <p:spPr>
          <a:xfrm>
            <a:off x="3809520" y="16761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5" name="AutoShape 15"/>
          <p:cNvCxnSpPr/>
          <p:nvPr/>
        </p:nvCxnSpPr>
        <p:spPr>
          <a:xfrm>
            <a:off x="5257440" y="16761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6" name="AutoShape 16"/>
          <p:cNvCxnSpPr/>
          <p:nvPr/>
        </p:nvCxnSpPr>
        <p:spPr>
          <a:xfrm flipH="1">
            <a:off x="2590200" y="2209320"/>
            <a:ext cx="456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7" name="AutoShape 17"/>
          <p:cNvCxnSpPr/>
          <p:nvPr/>
        </p:nvCxnSpPr>
        <p:spPr>
          <a:xfrm>
            <a:off x="2590560" y="2209680"/>
            <a:ext cx="1080" cy="41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8" name="AutoShape 18"/>
          <p:cNvCxnSpPr/>
          <p:nvPr/>
        </p:nvCxnSpPr>
        <p:spPr>
          <a:xfrm>
            <a:off x="7162560" y="2209680"/>
            <a:ext cx="1080" cy="41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9" name="AutoShape 19"/>
          <p:cNvCxnSpPr/>
          <p:nvPr/>
        </p:nvCxnSpPr>
        <p:spPr>
          <a:xfrm flipH="1">
            <a:off x="6705000" y="2209320"/>
            <a:ext cx="456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0" name="Rectangle 20"/>
          <p:cNvSpPr/>
          <p:nvPr/>
        </p:nvSpPr>
        <p:spPr>
          <a:xfrm>
            <a:off x="838080" y="2666880"/>
            <a:ext cx="34290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4952880" y="2666880"/>
            <a:ext cx="3505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040" y="2920680"/>
            <a:ext cx="1050120" cy="40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28496" dir="3825519" blurRad="0" rotWithShape="0">
              <a:srgbClr val="243f6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3"/>
          <p:cNvSpPr/>
          <p:nvPr/>
        </p:nvSpPr>
        <p:spPr>
          <a:xfrm>
            <a:off x="2666880" y="2819520"/>
            <a:ext cx="1295640" cy="7617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ворчі гру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4"/>
          <p:cNvSpPr/>
          <p:nvPr/>
        </p:nvSpPr>
        <p:spPr>
          <a:xfrm>
            <a:off x="1066680" y="3733920"/>
            <a:ext cx="1214640" cy="11430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ійно діючі семін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5"/>
          <p:cNvSpPr/>
          <p:nvPr/>
        </p:nvSpPr>
        <p:spPr>
          <a:xfrm>
            <a:off x="2743200" y="3809880"/>
            <a:ext cx="1295280" cy="83844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йстер-кла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914400" y="5105520"/>
            <a:ext cx="2057400" cy="106668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педмайстер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3124080" y="5029200"/>
            <a:ext cx="1073160" cy="99072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ЕП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8"/>
          <p:cNvSpPr/>
          <p:nvPr/>
        </p:nvSpPr>
        <p:spPr>
          <a:xfrm>
            <a:off x="5943600" y="2666880"/>
            <a:ext cx="1523880" cy="83844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9"/>
          <p:cNvSpPr/>
          <p:nvPr/>
        </p:nvSpPr>
        <p:spPr>
          <a:xfrm>
            <a:off x="5105520" y="3581280"/>
            <a:ext cx="137160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ічні гру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0"/>
          <p:cNvSpPr/>
          <p:nvPr/>
        </p:nvSpPr>
        <p:spPr>
          <a:xfrm>
            <a:off x="7086600" y="3581280"/>
            <a:ext cx="1219320" cy="99072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йстер-кла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1"/>
          <p:cNvSpPr/>
          <p:nvPr/>
        </p:nvSpPr>
        <p:spPr>
          <a:xfrm>
            <a:off x="5181480" y="4648320"/>
            <a:ext cx="1295640" cy="9237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інар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2"/>
          <p:cNvSpPr/>
          <p:nvPr/>
        </p:nvSpPr>
        <p:spPr>
          <a:xfrm>
            <a:off x="6858000" y="4800600"/>
            <a:ext cx="160020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о-педагогічний семі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3"/>
          <p:cNvSpPr/>
          <p:nvPr/>
        </p:nvSpPr>
        <p:spPr>
          <a:xfrm>
            <a:off x="5105520" y="5715000"/>
            <a:ext cx="220968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педмайстер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g_3"/>
          <p:cNvPicPr/>
          <p:nvPr/>
        </p:nvPicPr>
        <p:blipFill>
          <a:blip r:embed="rId1"/>
          <a:stretch/>
        </p:blipFill>
        <p:spPr>
          <a:xfrm>
            <a:off x="1219320" y="152280"/>
            <a:ext cx="7238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4701e"/>
                </a:solidFill>
                <a:latin typeface="Arial"/>
              </a:rPr>
              <a:t>Аспекти психолого-педагогічної характеристики обдарованої дити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470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4701e"/>
                </a:solidFill>
                <a:uFillTx/>
                <a:latin typeface="Arial"/>
              </a:rPr>
              <a:t>Психофізіологічний аспект: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зичний розвиток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оров'я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п нервової системи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омість нервових процесів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ий розумовий розвиток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2. Пізнавальний аспект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телектуальне сприйняття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уваг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а) самостійн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б) спритність, швидкість міркувань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в) вдумливість, ґрунтовність ос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г) критичність та гнучк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д) узагальнен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е) швидкість та міцність засвоєння знань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є) володіння операціями, прийомами розумової діяльності (аналіз, синтез, узагальнення, систематизація, класифікація, абстрагування)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телектуально-творчі якості мисл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) креатив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) інтуїція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) творче уявлення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) дивергент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) оригіналь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) асоціатив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є) інтелектуальна активніст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3. Мотиваційний аспект:</a:t>
            </a: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реба в самоактуалізації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ість у творч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лектуальна необхідність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знавальна спрямованість: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тив досягнення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реба в лідерстві. 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4. Аспект стосу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еціальні здіб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залежність особист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льов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унікативн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ості вихованості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5. Взаємодія у сім'ї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матеріально-побутові умов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talant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4701e"/>
                </a:solidFill>
                <a:latin typeface="Arial"/>
              </a:rPr>
              <a:t>Виявлення обдарованих ді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нкета з визначення здібностей учнів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методикою американських вчених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Хаана і Каф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Дана анкета допоможе визначити на основі співставлення з інтересами однолітків особливості спрямованості характеру даної особистості. 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одика “Неіснуюча тварина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опоможе визначити, наскільки в дитини розвинена творча уява, оригінальність мислення, емоційний стан. 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ст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одика “Віддалені асоціації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вербальна модифікація тесту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. Меднік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явить оригінальність і гнучкість мислення, уміння перекомбінувати дані елементи в нові комбінації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“Прогресивні матриці Раве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” допоможе визначити рівень аналітико-синтетичних умі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ст "Не проґав вундеркінда!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батькам виявити та розвинути приховані здібності та задатки дитини.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Вексл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визначити рівень інтелектуальних здібностей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Кетел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оцінити інтелектуальні можливості дитини. 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ст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ологічний тес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мо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начити певні риси характеру учня.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"Особливості творчої уяви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В.Ф.Маценко) допоможе виявити рівень словесно-логічного мислення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4701e"/>
                </a:solidFill>
                <a:latin typeface="Arial"/>
              </a:rPr>
              <a:t>«Шкільні» типи обдарова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Найкращ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чень. Всі його люблять, робить те, що йому кажуть і як. Любить подобатис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Бунтівник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перечається, з ним важко спілкуватися. Часто виникають у нього фрустрації - стан емоційно-вольового напруження, коли щось загрожує досягненню ме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Підпільник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нає, що за обдарованість не платять, а навпаки - вимагають, тому прагне не вистрибувати і бути "як всі"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Втікач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ипадає із шкільної системи, не може пристосуватися до вимог школи, вчител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Двобічн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ідстає чи має вади (фізичні). Його бачать як слабкого, не помічають обдарованост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Цілеспрямован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езалежний, знає собі ціну, знає, що хоч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7:57:39Z</dcterms:created>
  <dc:creator>Алина</dc:creator>
  <dc:description/>
  <dc:language>en-US</dc:language>
  <cp:lastModifiedBy>АЛЛО</cp:lastModifiedBy>
  <dcterms:modified xsi:type="dcterms:W3CDTF">2014-02-28T18:56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