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C8F8-28C7-4406-A6DD-73616DF1A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3874-F7D1-48FC-B85B-9D472C03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248F5D-F614-40E6-A9B2-34B476C7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644B7-1EFE-4EB8-8791-CE0E14AF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00D532-CCAF-446E-8B67-93AC2DB2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3A67BA-B1F5-4FD4-982E-4CF66455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69367B-CA94-482D-B2C1-5A57358F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3633FD-F2E9-4FE0-9DB2-AFF85831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E7C90F-EFEF-4B5E-9743-445349D3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6D8804-8A6B-499D-9A0A-2567CF169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A4F3F-6519-463F-A025-8D5D8A4E3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4C6C00-0ED3-4C29-8AA1-C5BA18DA4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61FD-A89C-4E2A-8F2D-DD6E8EE67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A8EA07-F330-4E49-B3CC-AB88FFDB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FBCD2F-A9ED-4ECC-B0E1-2256195B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F55161-3EEF-4170-973E-5F9BE6BB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9C6454-B075-4834-A4E7-583F2DF4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678F80-E8F3-4A54-863F-32055B2A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D56F8B-CE8D-4CB0-8C8F-235D9B12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5B5D1-560E-4605-8669-687E9DEF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8E876F-053E-4701-8012-07D706D0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3EEA56-47A6-45D2-9293-DD81BD37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BA97FF-1D51-432C-8E29-8E5355F84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1815-59E7-4175-A3D6-8FE3A76E1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0DF0B2-719D-4F20-94BE-3731268A5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591B7-7A02-484A-BE60-96724AB7C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EF070-B8BF-44F4-8C1B-E60F5AA9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29BC5-D11F-4455-9A15-8BE5B860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A84C4-19B6-4FB6-87A0-E43FEC88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298836-3D5C-4E8F-B710-58B2956C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2C9CE-1720-4E0B-9CA1-7256BFF5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32621-9FEC-44C8-AC81-1AA975AE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D0CB8-EC6E-4CCE-975A-F06C461E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A6D7F8-38DF-4D4F-98F6-906E04E1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F861-4462-45CA-8224-047D7B6BF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C7BE5-4D6F-4017-B33B-0ECB1710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E0B9A-DA76-4A22-A36E-2D4D61FD9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4B3BB-6F0E-4050-B69D-CE820201B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3EA0-A3E2-45C7-9C7F-F16E67DA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17B4-4082-4D18-BCB3-A5DA6F32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5489-DEBD-45A0-A141-AF9109FC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EDCC-A3C4-4C5E-8F6E-5D1A0EFE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FE07-BD85-4752-8729-6E69A3A9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BEC1-749F-4668-8AE4-6C9A135B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AB39-5815-4D56-883D-720B58C0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2D8F-57D9-4264-8E37-590E6DD0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F9F2-B51B-4001-A617-467860F6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5878-4819-489C-AB71-D929E618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99BA-2906-40BF-AB47-CB4F00E9C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A348-F3A2-49FF-86FC-965C59C86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1A52A-76E6-4BB4-8E6F-94B84CE6B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019F6-E8E6-4518-8A3D-E2AFF488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D8B1E-8214-4697-A95B-42744002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30052-104F-4D2F-8BEB-EB46136E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83DF5-A8D9-4DAB-B247-48CEC52E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ABBF-6318-4BE7-9D94-125F2A55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CB309-6D54-4E17-B913-48C71D50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57A6E-B7A3-4FB7-AC1C-56C34BE2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46D54-55D2-4F82-A39B-AFF636B0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CA0A1-DC1A-4404-B8BC-F8164A1D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E8C0C-F942-4229-A496-7F0D6177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7E3EC-D329-4FF8-AD97-74DE4425A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519B6-8062-4A66-94A4-2ADCD668F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AD26D-1C71-46A6-9717-8077DC8F8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AD439-3ABF-46E6-A24C-F6FF8125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931C1-7D7A-431B-A487-FCE321BB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3167-7DD3-48C9-9721-AEBCA6F5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10ABD-4265-4996-A87F-A50EF706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32211-D159-4349-BFD0-7DF7783E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EB723-D154-42AA-A49B-219D92FD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B15DD-417F-4DBF-B73B-8A14C7B3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2E7E9-F814-41B7-B128-A1E32DBD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E62D5-1AB6-4AFB-9944-8F183402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F7D43-7AC6-48DF-A65B-1087ABC6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33CB8-5192-41A4-B528-7394A6BB8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B9C94-0C92-483C-8DC1-AB632F390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B1E58-23BF-4DE5-895E-0B87CB053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FBD2-6BBE-4614-A831-9AEAB193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5B8FA-2C5B-4F61-B865-40C3E1B1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79BA5-9DFB-4D3E-B043-2947BC2E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EB23F-8522-412E-9FCE-5A362853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19AC7-FC06-4E26-A42F-6276EC28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DDFD7-5AC4-43DF-8029-A60D8F68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4B79B-EA80-410F-B3C2-9734F753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BBA8C-736B-4292-922A-2FAA6019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3385F-EE5C-4962-ABE1-1667438E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C469A-7F3C-4682-B3F2-CE144ECC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2D8D0-F84B-469F-B3E0-2C9F6DD10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BD78-D6BB-4F49-966F-2094D2F8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2EF5A-0AFD-4155-91F7-FCAF289E7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228BD-B541-4287-AD94-D7ADAF357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3C9E5-F4DF-4415-B504-EACA9603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574A0-ABEB-4EE9-9936-FE2AF1A6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34E42-55DF-4A0F-A537-17BAA4E4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3D5B7-F6CD-4547-AAEF-8453405C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F6718-9026-41A2-A5AC-6D0B2927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76EEC-0844-4132-B95E-42F88571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27E7D-1A35-4764-A7B6-4D380ACF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F2B66-54B0-4FA5-8A41-A95691B0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6510-70F6-48D0-B707-61875871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184A3-B6C5-47E6-9A99-7C430CD1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3D755-6FA5-4032-8E7C-8779BA5B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B6AA5-5924-447A-8935-4282954A1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56A52-D0BE-4287-AB05-8D145B4CC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B3BF3-0F18-4174-9315-A02C89CE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3A392-5469-402A-94CC-424751B8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0F53A-0189-4834-93F1-C9B13F42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76EAD-752C-4700-8649-79D2ACA5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CC8D3-0EDE-406A-9B9C-56469EEC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D3AC4-867A-47CA-BC0C-C964BD74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990E-A2C8-45B8-87F7-A1192849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F11E0-01C2-4FC5-B6CC-A78F578A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F36D9-3A3D-4A09-9097-2DA1D5DB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9E26A-4EE2-4489-8764-031F1245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FBB3B-C5F3-4435-A7FC-648C74998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1070C-ED38-44E5-89B8-A98870900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D098C-6C4C-4AF7-A8D9-372B0EE2C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57F9D-699D-484D-8F75-1E3C2201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83691-0A0E-414A-BC87-6C4D851C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330EE-2032-4CB5-AE79-287DB161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5C2DB-6283-417A-8763-03603A55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ED1F-0527-42DB-81F9-945940B2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B8B95-7A44-42CF-B028-22E46E62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2AF62-7900-423C-9B37-52006A7A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BC40F-C139-4B2C-B94C-94BE90FE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EDD86-0DF2-44CF-AC19-F9DC1CAF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90F74-C6F8-423A-93AC-00080305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E7E2B-60E9-4F22-A2BB-7B9DE18E7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495A4-5A41-4749-B8C3-84E961759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AE0083-5F28-4568-A5B0-131C4B09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DE950E-EF6A-4A4E-9EA6-5DF0DB1F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CE157-BF43-48E9-B89C-0BC29482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72F5-5A94-4710-9393-2E368DB7EC4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70B3-572F-44ED-8E11-2961B947EB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17A2-6CA7-4BF9-A33F-AF9676A08A9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2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2B04-FC1B-4B41-AF72-9A9592840BF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4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Прямая соединительная линия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92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80E7-6AA1-43DB-B704-49D0682C5BD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36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3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4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2C55-785E-44CC-9CCD-1C8CB0DF978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Прямая соединительная линия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86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5192-53DF-4056-B08F-AEFF63172B5A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Прямая соединительная линия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30" name="Прямая соединительная линия 10" descr=""/>
            <p:cNvPicPr/>
            <p:nvPr/>
          </p:nvPicPr>
          <p:blipFill>
            <a:blip r:embed="rId2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EE88-C543-4711-A015-A607B3F68D1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7" descr=""/>
            <p:cNvPicPr/>
            <p:nvPr/>
          </p:nvPicPr>
          <p:blipFill>
            <a:blip r:embed="rId2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D2F6-3856-47E5-B2ED-4C7849A0B89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C9D5-53F2-4CE2-9A7B-95775F39AF3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012F-1D95-4471-83DD-F5296E13DCAC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..\..\..\&#1054;&#1088;&#1075;&#1072;&#1085;&#1110;&#1079;&#1072;&#1094;&#1110;&#1103; &#1088;&#1086;&#1073;&#1086;&#1090;&#1080; &#1079; &#1086;&#1073;&#1076;&#1072;&#1088;&#1086;&#1074;&#1072;&#1085;&#1080;&#1084;&#1080; &#1076;&#1110;&#1090;&#1100;&#1084;&#1080;.doc" TargetMode="External"/><Relationship Id="rId2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&#1054;&#1073;&#1076;&#1072;&#1088;&#1086;&#1074;&#1072;&#1085;&#1110;\&#1058;&#1077;&#1089;&#1090;&#1080;\&#1040;&#1085;&#1082;&#1077;&#1090;&#1072; &#1061;&#1072;&#1072;&#1085;&#1072; &#1110; &#1050;&#1072;&#1092;&#1072;.doc" TargetMode="External"/><Relationship Id="rId2" Type="http://schemas.openxmlformats.org/officeDocument/2006/relationships/hyperlink" Target="&#1054;&#1073;&#1076;&#1072;&#1088;&#1086;&#1074;&#1072;&#1085;&#1110;\&#1058;&#1077;&#1089;&#1090;&#1080;\&#1053;&#1077;&#1110;&#1089;&#1085;&#1091;&#1102;&#1095;&#1072; &#1090;&#1074;&#1072;&#1088;&#1080;&#1085;&#1072;.doc" TargetMode="External"/><Relationship Id="rId3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&#1054;&#1073;&#1076;&#1072;&#1088;&#1086;&#1074;&#1072;&#1085;&#1110;\&#1058;&#1077;&#1089;&#1090;&#1080;\&#1053;&#1077; &#1087;&#1088;&#1086;&#1075;&#1072;&#1074; &#1074;&#1091;&#1085;&#1076;&#1077;&#1088;&#1082;&#1110;&#1085;&#1076;&#1072;.doc" TargetMode="External"/><Relationship Id="rId2" Type="http://schemas.openxmlformats.org/officeDocument/2006/relationships/hyperlink" Target="&#1054;&#1073;&#1076;&#1072;&#1088;&#1086;&#1074;&#1072;&#1085;&#1110;\&#1058;&#1077;&#1089;&#1090;&#1080;\&#1050;&#1077;&#1090;&#1090;&#1077;&#1083;&#1083; &#1056;. - &#1052;&#1085;&#1086;&#1075;&#1086;&#1092;&#1072;&#1082;&#1090;&#1086;&#1088;&#1085;&#1072;&#1103; &#1083;&#1080;&#1095;&#1085;&#1086;&#1089;&#1090;&#1085;&#1072;&#1103; &#1084;&#1077;&#1090;&#1086;&#1076;&#1080;&#1082;&#1072; &#1056;. &#1050;&#1077;&#1090;&#1090;&#1077;&#1083;&#1083;&#1072; (&#1092;&#1086;&#1088;&#1084;&#1072; &#1057;) 105 &#1074;&#1086;&#1087;&#1088;&#1086;&#1089;&#1086;&#1074;..exe" TargetMode="External"/><Relationship Id="rId3" Type="http://schemas.openxmlformats.org/officeDocument/2006/relationships/hyperlink" Target="&#1054;&#1073;&#1076;&#1072;&#1088;&#1086;&#1074;&#1072;&#1085;&#1110;\&#1058;&#1077;&#1089;&#1090;&#1080;\&#1043;&#1088;&#1072;&#1092;&#1086;&#1083;&#1086;&#1075;&#1110;&#1095;&#1085;&#1080;&#1081; &#1090;&#1077;&#1089;&#1090;.doc" TargetMode="External"/><Relationship Id="rId4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58523"/>
                </a:solidFill>
                <a:latin typeface="Arial"/>
              </a:rPr>
              <a:t>МЕТОДИЧНІ РЕКОМЕНДАЦІЇ </a:t>
            </a:r>
            <a:br>
              <a:rPr sz="4000"/>
            </a:br>
            <a:r>
              <a:rPr b="1" lang="uk-UA" sz="4000" spc="-1" strike="noStrike">
                <a:solidFill>
                  <a:srgbClr val="058523"/>
                </a:solidFill>
                <a:latin typeface="Arial"/>
              </a:rPr>
              <a:t>щодо організації роботи з обдарованими дітьми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266720" y="5257440"/>
            <a:ext cx="4496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701e"/>
                </a:solidFill>
                <a:latin typeface="Arial"/>
              </a:rPr>
              <a:t>Розроблено на засіданні педради 18.11.2013№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6" descr="obdarovani02"/>
          <p:cNvPicPr/>
          <p:nvPr/>
        </p:nvPicPr>
        <p:blipFill>
          <a:blip r:embed="rId1"/>
          <a:stretch/>
        </p:blipFill>
        <p:spPr>
          <a:xfrm>
            <a:off x="304920" y="2362320"/>
            <a:ext cx="32763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4701e"/>
                </a:solidFill>
                <a:latin typeface="Arial"/>
              </a:rPr>
              <a:t>Характерні особливості обдарованих дітей: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часто "перескакують" через послідовні етапи свого розвитку;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у них чудова пам'ять, яка базується на ранньому мовленні;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рано починають класифікувати інформацію, що надходить до них;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із задоволенням захоплюються колекціонуванням, при цьому їхня мета - не приведення колекції в ідеальний порядок, а її реорганізація, систематизація на нових підставах;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мають великий словниковий запас, із задоволенням читають словники чи енциклопедії, придумують нові слова і поняття;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ожуть займатися кількома справами одразу, наприклад, стежити за декількома подіями, що відбуваються навколо них;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уже допитливі, активно досліджують навколишній світ і не терплять жодних обмежень своїх досліджень;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ожуть тривалий час концентрувати свою увагу на одній справі, вони буквально "занурюються" у своє заняття, якщо воно їм цікаве;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ають розвинене почуття гумору;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стійно намагаються вирішувати проблеми, які їм поки що не під силу;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відрізняються різноманітністю інтересів, що породжує схильність починати кілька справ одночасно;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часто роздратовують ровесників звичкою поправляти інших і вважають себе такими, що завжди мають рацію;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їм бракує емоційного балансу, вони часто нетерплячі та поривчасті.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4" descr="6983-original"/>
          <p:cNvPicPr/>
          <p:nvPr/>
        </p:nvPicPr>
        <p:blipFill>
          <a:blip r:embed="rId1"/>
          <a:stretch/>
        </p:blipFill>
        <p:spPr>
          <a:xfrm>
            <a:off x="1523880" y="2895480"/>
            <a:ext cx="66582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4701e"/>
                </a:solidFill>
                <a:latin typeface="Arial"/>
              </a:rPr>
              <a:t>Проблеми обдарованих ді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. Неприязнь до школи часто з'являється тому, що навчальна програма нудна і нецікава для обдарованої дитини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. Обдарованим дітям подобаються складні ігри і нецікаві ті, якими захоплюються їхні ровесники, внаслідок чого дитина опиняється в ізоляції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. Заглиблення у філософські проблеми: для обдарованих дітей є характерним замислюватися над такими явищами, як смерть, потойбічне життя, релігійні вірування набагато частіше, ніж для інших дітей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4. Невідповідність між фізичним, інтелектуальним та соціальним розвитком - обдаровані діти частіше віддають перевагу спілкуванню з дітьми старшого віку. Через це їм важко бути лідерами - вони поступаються фізичним розвитком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5. Прагнення до досконалості - для обдарованих дітей характерна внутрішня потреба досконалості, вони не заспокоюються, доки не досягнуть бажаного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6. Почуття незадоволеності - вони критично ставляться до своїх досягнень, мають низьку самооцінку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7. Нереальні завдання, які вони часто ставлять перед собою, не маючи змоги виконати їх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8. Надмірна чутливість, вразливість, нетерплячість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9. Потреба в уважному ставленні дорослих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0. Зневага у ставленні до дітей, які стоять нижче від них в інтелектуальному розвитку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4701e"/>
                </a:solidFill>
                <a:latin typeface="Arial"/>
              </a:rPr>
              <a:t>Основні напрями виховання обдарованих діт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. Формування особистості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Виховання творчої особистості, здатної до діяльності в новій економічній ситуації, розвиток її обдарувань, талантів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Розвиток інтелекту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Розвиток пам'яті, мислення, спостережливості, уяви, уважності. Продовження розумової діяльності за межами заданої ситуації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Розвиток творчості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Здатність продукувати нові ідеї, гіпотези, знаходити нетрадиційні способи вирішення проблемних задач, виявляти при цьому оригінальність, винахідливість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Виховання духовності, загальнолюдської моралі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Ідеї добра, правди, краси, справедливості, совісті, людської гідності, патріотизму, любові, інших доброчинностей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4701e"/>
                </a:solidFill>
                <a:latin typeface="Arial"/>
              </a:rPr>
              <a:t>Принципи виховання обдарованих діт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 u="sng">
                <a:solidFill>
                  <a:srgbClr val="000000"/>
                </a:solidFill>
                <a:uFillTx/>
                <a:latin typeface="Arial"/>
              </a:rPr>
              <a:t> </a:t>
            </a:r>
            <a:r>
              <a:rPr b="0" i="1" lang="uk-UA" sz="2300" spc="-1" strike="noStrike" u="sng">
                <a:solidFill>
                  <a:srgbClr val="000000"/>
                </a:solidFill>
                <a:uFillTx/>
                <a:latin typeface="Arial"/>
              </a:rPr>
              <a:t>Природовідповідність виховання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 - врахування багатогранної і цілісної природи людини, вікових та індивідуальних особливостей дітей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300" spc="-1" strike="noStrike" u="sng">
                <a:solidFill>
                  <a:srgbClr val="000000"/>
                </a:solidFill>
                <a:uFillTx/>
                <a:latin typeface="Arial"/>
              </a:rPr>
              <a:t>Гуманізація виховання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 - створення умов для формування кращих якостей та здібностей дитини, джерел її життєвих сил; повага до особистості. 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300" spc="-1" strike="noStrike" u="sng">
                <a:solidFill>
                  <a:srgbClr val="000000"/>
                </a:solidFill>
                <a:uFillTx/>
                <a:latin typeface="Arial"/>
              </a:rPr>
              <a:t>Демократизація виховання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 - сприйняття особистості виховання як вищої соціальної цінності, визначення його права на свободу, на розвиток здібностей і виявлення індивідуальності. 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300" spc="-1" strike="noStrike" u="sng">
                <a:solidFill>
                  <a:srgbClr val="000000"/>
                </a:solidFill>
                <a:uFillTx/>
                <a:latin typeface="Arial"/>
              </a:rPr>
              <a:t>Безперервність виховання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 - досягнення цілісності та наступності у вихованні, перетворення його у процес, що триває впродовж усього життя людини; формування цілісної та всебічно розвиненої особистості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Диференціація та індивідуалізація виховного процесу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- врахування рівнів фізичного, психічного, соціального, духовного, інтелектуального розвитку учнів, стимулювання активності, розкриття творчої індивідуальності кожного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Послідовність, систематичність і варіативність форм і методів виховання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- свідомість, активність, самодіяльність і творча ініціатива учнів; готовність до життєвої адаптації в умовах ринкових відноси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Інтегративність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- єдність виховання школи, сім'ї, громадськості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701e"/>
                </a:solidFill>
                <a:latin typeface="Arial"/>
              </a:rPr>
              <a:t>Принципи педагогічної творчості вчителя, реалізація яких сприяє творчому розвитку особистості</a:t>
            </a:r>
            <a:r>
              <a:rPr b="0" lang="ru-RU" sz="2400" spc="-1" strike="noStrike">
                <a:solidFill>
                  <a:srgbClr val="04701e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Принцип суб'єктивності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навчання і виховання передбачає визнання слухача як суб'єкта педагогічної взаємодії, використання вчителем у процесі навчання і виховання переважно діалогічних форм комунікативної взаємодії із слухачем.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Принцип діагностики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передбачає побудову і корекцію навчально-виховного процесу на основі психолого-педагогічних діагностичних досліджень, а саме: оцінювання рівних розвитку творчих можливостей дітей і дитячих колективів, з якими педагог вступає у взаємодію.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Принцип оптимальності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передбачає роботу педагога з відбору таких дидактичних засобів, які відповідають рівню розвитку творчих можливостей більшості дітей та враховують рівень розвитку творчих можливостей меншості.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Принцип фасілітації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передбачає розуміння формування творчої особистості вихованця у навчально-виховному процесі як процес полегшення, сприяння творчій навчальній діяльності дитини, стимулювання його творчої активност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Принцип креативності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відображає необхідність виявлення можливостей змісту навчального матеріалу для посилення його орієнтації на формування творчої особистості дити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Принцип доповнення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передбачає посилення розвитку творчих можливостей дітей за рахунок реалізації додаткового змісту в організаційних формах навчально-пізнавальної діяльності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Принцип варіантності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виражає необхідність подолання одноманітності змісту, форм, методів навчання. Для ефективності взаємодії у системі "педагог-вихованець" принцип варіантності має регулятивне значення, визначає мету та стратегію проектування педагогічної взаємодії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Принцип самоорганізації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відображає особливості управління процесом формування творчої особистості дитини, які зумовлені особливостями управління нелінійними системами та орієнтують педагога на внутрішній вплив, на узгодження розвитку вихованця з власними тенденціями розвитку, а також на необхідність "збуджувати" та ініціювати творчу активність учн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4701e"/>
                </a:solidFill>
                <a:latin typeface="Arial"/>
              </a:rPr>
              <a:t>Завдання педагогів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– виявити обдарованість дитини у практичній або розумовій сферах, створивши для всіх без винятку дітей рівні можливост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4701e"/>
                </a:solidFill>
                <a:latin typeface="Arial"/>
              </a:rPr>
              <a:t>Немає необдарованих дітей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є дорослі, які не займаються розвитком дитини, адже будь-яка здібність потребує розвитку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5" descr="ekzamen"/>
          <p:cNvPicPr/>
          <p:nvPr/>
        </p:nvPicPr>
        <p:blipFill>
          <a:blip r:embed="rId1"/>
          <a:stretch/>
        </p:blipFill>
        <p:spPr>
          <a:xfrm>
            <a:off x="2971800" y="1981080"/>
            <a:ext cx="3657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4701e"/>
                </a:solidFill>
                <a:latin typeface="Times New Roman"/>
              </a:rPr>
              <a:t>Заходи </a:t>
            </a:r>
            <a:r>
              <a:rPr b="0" lang="uk-UA" sz="2800" spc="-1" strike="noStrike">
                <a:solidFill>
                  <a:srgbClr val="04701e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04701e"/>
                </a:solidFill>
                <a:latin typeface="Times New Roman"/>
              </a:rPr>
              <a:t>щодо планування роботи з обдарованими дітьм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ворити інформаційні банки даних "Обдарованість".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Банк да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озробити систему адресної підтримки обдарованих дітей, які є переможцями всеукраїнських олімпіад, конкурсів, турнірів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истематизація матеріалів періодичних видань з проблем дитячої обдарованості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ведення проблемних та навчальних семінарів з метою систематичного підвищення майстерності вчителів, які працюють з обдарованими дітьми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провадження учнівських наукових товариств. 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ведення учнівських науково-практичних конференції, конкурсів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рганізація і проведення предметних олімпіад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озробка авторських програм спецкурсів у системі факультативних занять із врахуванням індивідуальних здібностей обдарованих дітей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Формування груп для сумісного навчання обдарованих дітей на базі однієї паралелі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ідготовка до друку методичних вказівок, розроблених вчителями, які працюють з обдарованими дітьми в системі факультативних занять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рганізація і проведення творчих звітів за результатами роботи факультативів, предметних гуртків, студій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дійснення моніторингу стану здоров'я обдарованих дітей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рганізація постійно діючого семінару для класних керівників "Обдаровані діти в умовах масової школи" із залученням лікаря, психолога, спеціалістів управління освіти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безпечення участі обдарованих дітей у міських, районних, республіканських конкурсах різного напряму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досконалення діяльності гуртків за інтерес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Розробка системи діагностики рівня професійної компетенції вчителів, які працюють з обдарованими діть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Розробка системи стимулювання вчителів, які працюють з обдарованими дітьми.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Обговорення проблем організації роботи з обдарованими дітьми і визначення подальших перспектив на педраді (засіданні науково-методичної ради, засіданнях методичних об'єднань.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Розробка пам'яток, алгоритмів для обдарованих дітей, методик самостійної дослідницької діяльності.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Оформлення стенду “Організація роботи з обдарованими дітьми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Організація семінару для молодих спеціалістів, які працюють з обдарованими дітьми.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AutoShape 2"/>
          <p:cNvSpPr/>
          <p:nvPr/>
        </p:nvSpPr>
        <p:spPr>
          <a:xfrm>
            <a:off x="2057400" y="1066680"/>
            <a:ext cx="4724280" cy="1676520"/>
          </a:xfrm>
          <a:prstGeom prst="downArrowCallout">
            <a:avLst>
              <a:gd name="adj1" fmla="val 70454"/>
              <a:gd name="adj2" fmla="val 70448"/>
              <a:gd name="adj3" fmla="val 16667"/>
              <a:gd name="adj4" fmla="val 66667"/>
            </a:avLst>
          </a:prstGeom>
          <a:gradFill rotWithShape="0">
            <a:gsLst>
              <a:gs pos="0">
                <a:srgbClr val="ffffff"/>
              </a:gs>
              <a:gs pos="100000">
                <a:srgbClr val="b8cce4"/>
              </a:gs>
            </a:gsLst>
            <a:lin ang="54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БЛЕМА ПІДГОТОВКИ ПЕДАГОГА ДО РОБО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 ОБДАРОВАНИМИ УЧН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3"/>
          <p:cNvSpPr/>
          <p:nvPr/>
        </p:nvSpPr>
        <p:spPr>
          <a:xfrm>
            <a:off x="1676520" y="2743200"/>
            <a:ext cx="5790960" cy="3809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8cce4"/>
              </a:gs>
            </a:gsLst>
            <a:lin ang="54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фесійна педагогічна компетентність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4"/>
          <p:cNvSpPr/>
          <p:nvPr/>
        </p:nvSpPr>
        <p:spPr>
          <a:xfrm>
            <a:off x="1198440" y="-4100400"/>
            <a:ext cx="64008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2057400" y="3733920"/>
          <a:ext cx="5105520" cy="2408040"/>
        </p:xfrm>
        <a:graphic>
          <a:graphicData uri="http://schemas.openxmlformats.org/drawingml/2006/table">
            <a:tbl>
              <a:tblPr/>
              <a:tblGrid>
                <a:gridCol w="1701720"/>
                <a:gridCol w="1701720"/>
                <a:gridCol w="1702080"/>
              </a:tblGrid>
              <a:tr h="71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нтелектуальна компетентні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ічна компетентні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інська компетентні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дактична компетентні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лософська компетентні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чна компетентні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на компетентні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ікативна компетентні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21" name="Rectangle 23"/>
          <p:cNvSpPr/>
          <p:nvPr/>
        </p:nvSpPr>
        <p:spPr>
          <a:xfrm>
            <a:off x="533520" y="30420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од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ідготовки вчителя до роботи з обдарованими діт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AutoShape 2"/>
          <p:cNvSpPr/>
          <p:nvPr/>
        </p:nvSpPr>
        <p:spPr>
          <a:xfrm>
            <a:off x="457200" y="990720"/>
            <a:ext cx="29084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8cce4"/>
              </a:gs>
            </a:gsLst>
            <a:lin ang="54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урсова і міжкурсова робота при КВНЗ «Харківська академія неперервної осві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3"/>
          <p:cNvSpPr/>
          <p:nvPr/>
        </p:nvSpPr>
        <p:spPr>
          <a:xfrm>
            <a:off x="3581280" y="914400"/>
            <a:ext cx="20574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8cce4"/>
              </a:gs>
            </a:gsLst>
            <a:lin ang="54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ізні види методичних заход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4"/>
          <p:cNvSpPr/>
          <p:nvPr/>
        </p:nvSpPr>
        <p:spPr>
          <a:xfrm>
            <a:off x="6095880" y="990720"/>
            <a:ext cx="205740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8cce4"/>
              </a:gs>
            </a:gsLst>
            <a:lin ang="54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моосвітня робота педаго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5"/>
          <p:cNvSpPr/>
          <p:nvPr/>
        </p:nvSpPr>
        <p:spPr>
          <a:xfrm>
            <a:off x="3124080" y="1981080"/>
            <a:ext cx="1752840" cy="476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8cce4"/>
              </a:gs>
            </a:gsLst>
            <a:lin ang="54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йонні (міські) захо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6"/>
          <p:cNvSpPr/>
          <p:nvPr/>
        </p:nvSpPr>
        <p:spPr>
          <a:xfrm>
            <a:off x="4952880" y="1981080"/>
            <a:ext cx="1752840" cy="476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8cce4"/>
              </a:gs>
            </a:gsLst>
            <a:lin ang="54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Шкільні захо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7" name="AutoShape 7"/>
          <p:cNvCxnSpPr/>
          <p:nvPr/>
        </p:nvCxnSpPr>
        <p:spPr>
          <a:xfrm flipH="1">
            <a:off x="4571280" y="380520"/>
            <a:ext cx="1080" cy="337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28" name="AutoShape 8"/>
          <p:cNvCxnSpPr/>
          <p:nvPr/>
        </p:nvCxnSpPr>
        <p:spPr>
          <a:xfrm>
            <a:off x="2362320" y="685440"/>
            <a:ext cx="46346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9" name="AutoShape 9"/>
          <p:cNvSpPr/>
          <p:nvPr/>
        </p:nvSpPr>
        <p:spPr>
          <a:xfrm>
            <a:off x="4343400" y="0"/>
            <a:ext cx="485640" cy="533520"/>
          </a:xfrm>
          <a:prstGeom prst="downArrow">
            <a:avLst>
              <a:gd name="adj1" fmla="val 50000"/>
              <a:gd name="adj2" fmla="val 274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0" name="AutoShape 10"/>
          <p:cNvCxnSpPr/>
          <p:nvPr/>
        </p:nvCxnSpPr>
        <p:spPr>
          <a:xfrm>
            <a:off x="380520" y="2910960"/>
            <a:ext cx="10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31" name="AutoShape 11"/>
          <p:cNvCxnSpPr/>
          <p:nvPr/>
        </p:nvCxnSpPr>
        <p:spPr>
          <a:xfrm>
            <a:off x="2361960" y="685440"/>
            <a:ext cx="1080" cy="299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32" name="AutoShape 12"/>
          <p:cNvCxnSpPr/>
          <p:nvPr/>
        </p:nvCxnSpPr>
        <p:spPr>
          <a:xfrm>
            <a:off x="4572000" y="685440"/>
            <a:ext cx="720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33" name="AutoShape 13"/>
          <p:cNvCxnSpPr/>
          <p:nvPr/>
        </p:nvCxnSpPr>
        <p:spPr>
          <a:xfrm>
            <a:off x="7009920" y="685440"/>
            <a:ext cx="1080" cy="299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34" name="AutoShape 14"/>
          <p:cNvCxnSpPr/>
          <p:nvPr/>
        </p:nvCxnSpPr>
        <p:spPr>
          <a:xfrm>
            <a:off x="3809520" y="1676160"/>
            <a:ext cx="1080" cy="299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35" name="AutoShape 15"/>
          <p:cNvCxnSpPr/>
          <p:nvPr/>
        </p:nvCxnSpPr>
        <p:spPr>
          <a:xfrm>
            <a:off x="5257440" y="1676160"/>
            <a:ext cx="1080" cy="299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36" name="AutoShape 16"/>
          <p:cNvCxnSpPr/>
          <p:nvPr/>
        </p:nvCxnSpPr>
        <p:spPr>
          <a:xfrm flipH="1">
            <a:off x="2590200" y="2209320"/>
            <a:ext cx="456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37" name="AutoShape 17"/>
          <p:cNvCxnSpPr/>
          <p:nvPr/>
        </p:nvCxnSpPr>
        <p:spPr>
          <a:xfrm>
            <a:off x="2590560" y="2209680"/>
            <a:ext cx="1080" cy="418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38" name="AutoShape 18"/>
          <p:cNvCxnSpPr/>
          <p:nvPr/>
        </p:nvCxnSpPr>
        <p:spPr>
          <a:xfrm>
            <a:off x="7162560" y="2209680"/>
            <a:ext cx="1080" cy="418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39" name="AutoShape 19"/>
          <p:cNvCxnSpPr/>
          <p:nvPr/>
        </p:nvCxnSpPr>
        <p:spPr>
          <a:xfrm flipH="1">
            <a:off x="6705000" y="2209320"/>
            <a:ext cx="456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40" name="Rectangle 20"/>
          <p:cNvSpPr/>
          <p:nvPr/>
        </p:nvSpPr>
        <p:spPr>
          <a:xfrm>
            <a:off x="838080" y="2666880"/>
            <a:ext cx="34290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1"/>
          <p:cNvSpPr/>
          <p:nvPr/>
        </p:nvSpPr>
        <p:spPr>
          <a:xfrm>
            <a:off x="4952880" y="2666880"/>
            <a:ext cx="35053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914040" y="2920680"/>
            <a:ext cx="1050120" cy="406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8cce4"/>
              </a:gs>
            </a:gsLst>
            <a:lin ang="5400000"/>
          </a:gradFill>
          <a:ln w="12600">
            <a:solidFill>
              <a:srgbClr val="95b3d7"/>
            </a:solidFill>
            <a:miter/>
          </a:ln>
          <a:effectLst>
            <a:outerShdw dist="28496" dir="3825519" blurRad="0" rotWithShape="0">
              <a:srgbClr val="243f6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23"/>
          <p:cNvSpPr/>
          <p:nvPr/>
        </p:nvSpPr>
        <p:spPr>
          <a:xfrm>
            <a:off x="2666880" y="2819520"/>
            <a:ext cx="1295640" cy="761760"/>
          </a:xfrm>
          <a:prstGeom prst="flowChartMultidocument">
            <a:avLst/>
          </a:prstGeom>
          <a:gradFill rotWithShape="0">
            <a:gsLst>
              <a:gs pos="0">
                <a:srgbClr val="ffffff"/>
              </a:gs>
              <a:gs pos="100000">
                <a:srgbClr val="b8cce4"/>
              </a:gs>
            </a:gsLst>
            <a:lin ang="54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ворчі груп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24"/>
          <p:cNvSpPr/>
          <p:nvPr/>
        </p:nvSpPr>
        <p:spPr>
          <a:xfrm>
            <a:off x="1066680" y="3733920"/>
            <a:ext cx="1214640" cy="1143000"/>
          </a:xfrm>
          <a:prstGeom prst="flowChartMultidocument">
            <a:avLst/>
          </a:prstGeom>
          <a:gradFill rotWithShape="0">
            <a:gsLst>
              <a:gs pos="0">
                <a:srgbClr val="ffffff"/>
              </a:gs>
              <a:gs pos="100000">
                <a:srgbClr val="b8cce4"/>
              </a:gs>
            </a:gsLst>
            <a:lin ang="54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тійно діючі семіна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25"/>
          <p:cNvSpPr/>
          <p:nvPr/>
        </p:nvSpPr>
        <p:spPr>
          <a:xfrm>
            <a:off x="2743200" y="3809880"/>
            <a:ext cx="1295280" cy="838440"/>
          </a:xfrm>
          <a:prstGeom prst="flowChartMultidocument">
            <a:avLst/>
          </a:prstGeom>
          <a:gradFill rotWithShape="0">
            <a:gsLst>
              <a:gs pos="0">
                <a:srgbClr val="ffffff"/>
              </a:gs>
              <a:gs pos="100000">
                <a:srgbClr val="b8cce4"/>
              </a:gs>
            </a:gsLst>
            <a:lin ang="54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йстер-клас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26"/>
          <p:cNvSpPr/>
          <p:nvPr/>
        </p:nvSpPr>
        <p:spPr>
          <a:xfrm>
            <a:off x="914400" y="5105520"/>
            <a:ext cx="2057400" cy="1066680"/>
          </a:xfrm>
          <a:prstGeom prst="flowChartMultidocument">
            <a:avLst/>
          </a:prstGeom>
          <a:gradFill rotWithShape="0">
            <a:gsLst>
              <a:gs pos="0">
                <a:srgbClr val="ffffff"/>
              </a:gs>
              <a:gs pos="100000">
                <a:srgbClr val="b8cce4"/>
              </a:gs>
            </a:gsLst>
            <a:lin ang="54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Школи педмайстер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27"/>
          <p:cNvSpPr/>
          <p:nvPr/>
        </p:nvSpPr>
        <p:spPr>
          <a:xfrm>
            <a:off x="3124080" y="5029200"/>
            <a:ext cx="1073160" cy="990720"/>
          </a:xfrm>
          <a:prstGeom prst="flowChartMultidocument">
            <a:avLst/>
          </a:prstGeom>
          <a:gradFill rotWithShape="0">
            <a:gsLst>
              <a:gs pos="0">
                <a:srgbClr val="ffffff"/>
              </a:gs>
              <a:gs pos="100000">
                <a:srgbClr val="b8cce4"/>
              </a:gs>
            </a:gsLst>
            <a:lin ang="54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Школи ЕП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28"/>
          <p:cNvSpPr/>
          <p:nvPr/>
        </p:nvSpPr>
        <p:spPr>
          <a:xfrm>
            <a:off x="5943600" y="2666880"/>
            <a:ext cx="1523880" cy="838440"/>
          </a:xfrm>
          <a:prstGeom prst="flowChartMultidocument">
            <a:avLst/>
          </a:prstGeom>
          <a:gradFill rotWithShape="0">
            <a:gsLst>
              <a:gs pos="0">
                <a:srgbClr val="ffffff"/>
              </a:gs>
              <a:gs pos="100000">
                <a:srgbClr val="b8cce4"/>
              </a:gs>
            </a:gsLst>
            <a:lin ang="54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Ш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29"/>
          <p:cNvSpPr/>
          <p:nvPr/>
        </p:nvSpPr>
        <p:spPr>
          <a:xfrm>
            <a:off x="5105520" y="3581280"/>
            <a:ext cx="1371600" cy="914400"/>
          </a:xfrm>
          <a:prstGeom prst="flowChartMultidocument">
            <a:avLst/>
          </a:prstGeom>
          <a:gradFill rotWithShape="0">
            <a:gsLst>
              <a:gs pos="0">
                <a:srgbClr val="ffffff"/>
              </a:gs>
              <a:gs pos="100000">
                <a:srgbClr val="b8cce4"/>
              </a:gs>
            </a:gsLst>
            <a:lin ang="54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инамічні груп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30"/>
          <p:cNvSpPr/>
          <p:nvPr/>
        </p:nvSpPr>
        <p:spPr>
          <a:xfrm>
            <a:off x="7086600" y="3581280"/>
            <a:ext cx="1219320" cy="990720"/>
          </a:xfrm>
          <a:prstGeom prst="flowChartMultidocument">
            <a:avLst/>
          </a:prstGeom>
          <a:gradFill rotWithShape="0">
            <a:gsLst>
              <a:gs pos="0">
                <a:srgbClr val="ffffff"/>
              </a:gs>
              <a:gs pos="100000">
                <a:srgbClr val="b8cce4"/>
              </a:gs>
            </a:gsLst>
            <a:lin ang="54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йстер-клас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31"/>
          <p:cNvSpPr/>
          <p:nvPr/>
        </p:nvSpPr>
        <p:spPr>
          <a:xfrm>
            <a:off x="5181480" y="4648320"/>
            <a:ext cx="1295640" cy="923760"/>
          </a:xfrm>
          <a:prstGeom prst="flowChartMultidocument">
            <a:avLst/>
          </a:prstGeom>
          <a:gradFill rotWithShape="0">
            <a:gsLst>
              <a:gs pos="0">
                <a:srgbClr val="ffffff"/>
              </a:gs>
              <a:gs pos="100000">
                <a:srgbClr val="b8cce4"/>
              </a:gs>
            </a:gsLst>
            <a:lin ang="54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емінар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32"/>
          <p:cNvSpPr/>
          <p:nvPr/>
        </p:nvSpPr>
        <p:spPr>
          <a:xfrm>
            <a:off x="6858000" y="4800600"/>
            <a:ext cx="1600200" cy="914400"/>
          </a:xfrm>
          <a:prstGeom prst="flowChartMultidocument">
            <a:avLst/>
          </a:prstGeom>
          <a:gradFill rotWithShape="0">
            <a:gsLst>
              <a:gs pos="0">
                <a:srgbClr val="ffffff"/>
              </a:gs>
              <a:gs pos="100000">
                <a:srgbClr val="b8cce4"/>
              </a:gs>
            </a:gsLst>
            <a:lin ang="54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сихолого-педагогічний семіна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33"/>
          <p:cNvSpPr/>
          <p:nvPr/>
        </p:nvSpPr>
        <p:spPr>
          <a:xfrm>
            <a:off x="5105520" y="5715000"/>
            <a:ext cx="2209680" cy="914400"/>
          </a:xfrm>
          <a:prstGeom prst="flowChartMultidocument">
            <a:avLst/>
          </a:prstGeom>
          <a:gradFill rotWithShape="0">
            <a:gsLst>
              <a:gs pos="0">
                <a:srgbClr val="ffffff"/>
              </a:gs>
              <a:gs pos="100000">
                <a:srgbClr val="b8cce4"/>
              </a:gs>
            </a:gsLst>
            <a:lin ang="54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Школи педмайстер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4" descr="g_3"/>
          <p:cNvPicPr/>
          <p:nvPr/>
        </p:nvPicPr>
        <p:blipFill>
          <a:blip r:embed="rId1"/>
          <a:stretch/>
        </p:blipFill>
        <p:spPr>
          <a:xfrm>
            <a:off x="1219320" y="152280"/>
            <a:ext cx="72388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4701e"/>
                </a:solidFill>
                <a:latin typeface="Arial"/>
              </a:rPr>
              <a:t>Аспекти психолого-педагогічної характеристики обдарованої дитин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4701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4701e"/>
                </a:solidFill>
                <a:uFillTx/>
                <a:latin typeface="Arial"/>
              </a:rPr>
              <a:t>Психофізіологічний аспект:</a:t>
            </a:r>
            <a:r>
              <a:rPr b="1" lang="uk-UA" sz="3200" spc="-1" strike="noStrike" u="sng">
                <a:solidFill>
                  <a:srgbClr val="000000"/>
                </a:solidFill>
                <a:uFillTx/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фізичний розвиток;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доров'я;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ип нервової системи;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ухомість нервових процесів;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гальний розумовий розвиток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228240" y="4572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4701e"/>
                </a:solidFill>
                <a:uFillTx/>
                <a:latin typeface="Arial"/>
              </a:rPr>
              <a:t>2. Пізнавальний аспект: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нтелектуальне сприйняття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нцентрація уваги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000000"/>
                </a:solidFill>
                <a:latin typeface="Arial"/>
              </a:rPr>
              <a:t>а) самостійність мислення;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000000"/>
                </a:solidFill>
                <a:latin typeface="Arial"/>
              </a:rPr>
              <a:t>б) спритність, швидкість міркувань;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000000"/>
                </a:solidFill>
                <a:latin typeface="Arial"/>
              </a:rPr>
              <a:t>в) вдумливість, ґрунтовність осмислення;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000000"/>
                </a:solidFill>
                <a:latin typeface="Arial"/>
              </a:rPr>
              <a:t>г) критичність та гнучкість мислення;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000000"/>
                </a:solidFill>
                <a:latin typeface="Arial"/>
              </a:rPr>
              <a:t>д) узагальненість мислення;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000000"/>
                </a:solidFill>
                <a:latin typeface="Arial"/>
              </a:rPr>
              <a:t>е) швидкість та міцність засвоєння знань;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000000"/>
                </a:solidFill>
                <a:latin typeface="Arial"/>
              </a:rPr>
              <a:t>є) володіння операціями, прийомами розумової діяльності (аналіз, синтез, узагальнення, систематизація, класифікація, абстрагування);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228240" y="0"/>
            <a:ext cx="84582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нтелектуально-творчі якості мисленн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а) креативність;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б) інтуїція,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в) творче уявлення;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г) дивергентність;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д) оригінальність;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е) асоціативність;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є) інтелектуальна активність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800" spc="-1" strike="noStrike" u="sng">
                <a:solidFill>
                  <a:srgbClr val="04701e"/>
                </a:solidFill>
                <a:uFillTx/>
                <a:latin typeface="Arial"/>
              </a:rPr>
              <a:t>3. Мотиваційний аспект:</a:t>
            </a:r>
            <a:r>
              <a:rPr b="1" lang="uk-UA" sz="2800" spc="-1" strike="noStrike">
                <a:solidFill>
                  <a:srgbClr val="04701e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треба в самоактуалізації;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еобхідність у творчості;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нтелектуальна необхідність;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ізнавальна спрямованість: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отив досягнення;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треба в лідерстві. 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151920" y="-360"/>
            <a:ext cx="853452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4701e"/>
                </a:solidFill>
                <a:uFillTx/>
                <a:latin typeface="Arial"/>
              </a:rPr>
              <a:t>4. Аспект стосункі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пеціальні здібності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езалежність особистості;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ольові якості;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омунікативні якості;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рганізаційні якості;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кості вихованості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4701e"/>
                </a:solidFill>
                <a:uFillTx/>
                <a:latin typeface="Arial"/>
              </a:rPr>
              <a:t>5. Взаємодія у сім'ї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4701e"/>
                </a:solidFill>
                <a:uFillTx/>
                <a:latin typeface="Arial"/>
              </a:rPr>
              <a:t>матеріально-побутові умов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5" descr="talant"/>
          <p:cNvPicPr/>
          <p:nvPr/>
        </p:nvPicPr>
        <p:blipFill>
          <a:blip r:embed="rId1"/>
          <a:stretch/>
        </p:blipFill>
        <p:spPr>
          <a:xfrm>
            <a:off x="5715000" y="3657600"/>
            <a:ext cx="3429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4701e"/>
                </a:solidFill>
                <a:latin typeface="Arial"/>
              </a:rPr>
              <a:t>Виявлення обдарованих ді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Анкета з визначення здібностей учнів”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за методикою американських вчених </a:t>
            </a:r>
            <a:r>
              <a:rPr b="0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Хаана і Кафа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. Дана анкета допоможе визначити на основі співставлення з інтересами однолітків особливості спрямованості характеру даної особистості. </a:t>
            </a:r>
            <a:r>
              <a:rPr b="0" lang="uk-UA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Тест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Методика “Неіснуюча тварина”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допоможе визначити, наскільки в дитини розвинена творча уява, оригінальність мислення, емоційний стан. </a:t>
            </a:r>
            <a:r>
              <a:rPr b="0" lang="uk-UA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Тест 2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Методика “Віддалені асоціації”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невербальна модифікація тесту </a:t>
            </a:r>
            <a:r>
              <a:rPr b="0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А. Медніка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виявить оригінальність і гнучкість мислення, уміння перекомбінувати дані елементи в нові комбінації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етодика “Прогресивні матриці Равен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” допоможе визначити рівень аналітико-синтетичних умін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ест "Не проґав вундеркінда!"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допоможе батькам виявити та розвинути приховані здібності та задатки дитини. </a:t>
            </a:r>
            <a:r>
              <a:rPr b="0" lang="uk-UA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Тест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етодика Векслер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допоможе визначити рівень інтелектуальних здібностей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етодика Кетелл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допоможе оцінити інтелектуальні можливості дитини.  </a:t>
            </a:r>
            <a:r>
              <a:rPr b="0" lang="uk-UA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Тест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фологічний тес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омож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значити певні риси характеру учня. </a:t>
            </a:r>
            <a:r>
              <a:rPr b="0" lang="uk-UA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Тест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етодика "Особливості творчої уяви"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(В.Ф.Маценко) допоможе виявити рівень словесно-логічного мислення.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4701e"/>
                </a:solidFill>
                <a:latin typeface="Arial"/>
              </a:rPr>
              <a:t>«Шкільні» типи обдаровани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"Найкращий"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учень. Всі його люблять, робить те, що йому кажуть і як. Любить подобатись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"Бунтівник"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Сперечається, з ним важко спілкуватися. Часто виникають у нього фрустрації - стан емоційно-вольового напруження, коли щось загрожує досягненню мети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"Підпільник"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Знає, що за обдарованість не платять, а навпаки - вимагають, тому прагне не вистрибувати і бути "як всі"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"Втікач"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Випадає із шкільної системи, не може пристосуватися до вимог школи, вчителів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"Двобічний"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Відстає чи має вади (фізичні). Його бачать як слабкого, не помічають обдарованості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"Цілеспрямований"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Незалежний, знає собі ціну, знає, що хоч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6T07:57:39Z</dcterms:created>
  <dc:creator>Алина</dc:creator>
  <dc:description/>
  <dc:language>en-US</dc:language>
  <cp:lastModifiedBy>АЛЛО</cp:lastModifiedBy>
  <dcterms:modified xsi:type="dcterms:W3CDTF">2014-02-28T18:56:4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