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844-3B07-41DF-9563-527A290D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E4A-0BD1-412F-8359-D37463D3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F96-442F-41AE-B512-E8CDA8A4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437-9DD3-4767-9BB6-76B12795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6FC-7A4C-4867-98A4-60AF49F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649B-A17E-4749-9AE5-3D67730E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1D43-2352-4E8F-9644-EFD3E8C0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B9C-CD44-4DFF-9BDA-3456DCAE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7B4-7D55-4587-B01D-DAA9156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DE85-F190-4856-9DE0-34423C8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0C66-3006-4067-A77A-6A2AFD7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05C-5C39-43FE-924F-1E258D8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B2D-8DED-473C-9947-13DAA07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A0B-5B19-4761-BFAF-F3627CE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B43C-B667-4939-91A7-B485EAC3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4AF-3322-4A12-86DA-EABF618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9DB-62BE-4997-93D1-D9207E2F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71C-1B93-4F80-9743-AAFA8310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751-4D09-42D6-9825-D588EA0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51E-E5C3-4C4B-A565-1B7BCE2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173-7A4B-4BDB-99BA-19DF4F6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DC4-0EDB-47A4-B867-CCD1B443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604-C1B6-4ED8-9917-66B5265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7E3-49E9-476A-B95B-D78DF92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cf9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522B-FA4B-43A8-A18D-73C821054763}" type="slidenum">
              <a:rPr b="0" lang="ru-RU" sz="1000" spc="-1" strike="noStrike">
                <a:solidFill>
                  <a:srgbClr val="fcf9e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D49-7C64-492A-9465-AD1A32A981C2}" type="slidenum"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3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ef3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3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f3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69120" y="333360"/>
            <a:ext cx="6253920" cy="1557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обистість  учителя  в реалізації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впровадження  моделі випереджаючої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віти для  успішного розвитку 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          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обистості учня</a:t>
            </a: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73520" y="4292640"/>
            <a:ext cx="8381520" cy="1343520"/>
          </a:xfrm>
          <a:prstGeom prst="rect">
            <a:avLst/>
          </a:prstGeom>
          <a:solidFill>
            <a:srgbClr val="fef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dc6ff"/>
                </a:solidFill>
                <a:latin typeface="Arial"/>
              </a:rPr>
              <a:t>Девіз: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Хай буде вчитель дзеркалом добрих звичаїв: і чого навчає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або навчити збирається, те саме, як на зразкові, хай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показує на самому собі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uk-UA" sz="2800" spc="-1" strike="noStrike">
                <a:solidFill>
                  <a:srgbClr val="219797"/>
                </a:solidFill>
                <a:latin typeface="Monotype Corsiva"/>
              </a:rPr>
              <a:t>М. Добролюбов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52680" cy="1749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771640" y="2133720"/>
            <a:ext cx="27370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Для руху вперед</a:t>
            </a:r>
            <a:r>
              <a:rPr b="0" lang="ru-RU" sz="3200" spc="-1" strike="noStrike">
                <a:solidFill>
                  <a:srgbClr val="fef3d8"/>
                </a:solidFill>
                <a:latin typeface="Arial"/>
              </a:rPr>
              <a:t> Ви маєте не лише заглядати в майбутнє, 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а й </a:t>
            </a:r>
            <a:r>
              <a:rPr b="0" lang="ru-RU" sz="3200" spc="-1" strike="noStrike">
                <a:solidFill>
                  <a:srgbClr val="fef3d8"/>
                </a:solidFill>
                <a:latin typeface="Arial"/>
              </a:rPr>
              <a:t>жити в майбутньому.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                                       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Джорж Родриг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16720" y="90360"/>
            <a:ext cx="2232000" cy="1752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26920" y="4433760"/>
            <a:ext cx="2592720" cy="181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651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63440"/>
            <a:ext cx="2941560" cy="196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49640" y="1865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0" y="836640"/>
            <a:ext cx="4952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співпрацю!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03640" y="41497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жаю успіху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3543480"/>
            <a:ext cx="34560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50920" y="378000"/>
            <a:ext cx="8172360" cy="6373800"/>
            <a:chOff x="250920" y="378000"/>
            <a:chExt cx="8172360" cy="6373800"/>
          </a:xfrm>
        </p:grpSpPr>
        <p:sp>
          <p:nvSpPr>
            <p:cNvPr id="87" name=""/>
            <p:cNvSpPr/>
            <p:nvPr/>
          </p:nvSpPr>
          <p:spPr>
            <a:xfrm>
              <a:off x="3209400" y="2289960"/>
              <a:ext cx="2394360" cy="244368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b9132b"/>
                  </a:solidFill>
                  <a:latin typeface="Times New Roman"/>
                </a:rPr>
                <a:t>Сучасний учитель</a:t>
              </a:r>
              <a:endParaRPr b="0" lang="en-US" sz="18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920" y="1758960"/>
              <a:ext cx="2676960" cy="1167840"/>
            </a:xfrm>
            <a:prstGeom prst="irregularSeal1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сихічно врівноваже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4680" y="378000"/>
              <a:ext cx="1972440" cy="1168560"/>
            </a:xfrm>
            <a:prstGeom prst="irregularSeal1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Фізично здоро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87120" y="483840"/>
              <a:ext cx="2676240" cy="95616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амодостатні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3360" y="483840"/>
              <a:ext cx="2395800" cy="106236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Високоінте -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лектуаль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7480" y="1440360"/>
              <a:ext cx="2253960" cy="1061640"/>
            </a:xfrm>
            <a:prstGeom prst="irregularSeal1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Матеріаль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незалеж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8240" y="2502360"/>
              <a:ext cx="2113200" cy="956160"/>
            </a:xfrm>
            <a:prstGeom prst="irregularSeal1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Креатив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960" y="4095720"/>
              <a:ext cx="2535120" cy="956160"/>
            </a:xfrm>
            <a:prstGeom prst="irregularSeal1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озитив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налаштова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9400" y="5901840"/>
              <a:ext cx="2676960" cy="849960"/>
            </a:xfrm>
            <a:prstGeom prst="irregularSeal1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Відповідаль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6007680"/>
              <a:ext cx="2958480" cy="63864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исциплінова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1680" y="5370480"/>
              <a:ext cx="1831680" cy="743400"/>
            </a:xfrm>
            <a:prstGeom prst="irregularSeal1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Творчий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680" y="4733640"/>
              <a:ext cx="1831680" cy="74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міли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1680" y="3883320"/>
              <a:ext cx="1831680" cy="743400"/>
            </a:xfrm>
            <a:prstGeom prst="irregularSeal1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Активний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5960" y="3352320"/>
              <a:ext cx="2675880" cy="74340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оброзичли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0920" y="2927520"/>
              <a:ext cx="2817720" cy="849240"/>
            </a:xfrm>
            <a:prstGeom prst="irregularSeal1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амокритич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6720" y="5795640"/>
              <a:ext cx="2536560" cy="95616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рофесій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успіш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04120" y="5052240"/>
              <a:ext cx="2818080" cy="744120"/>
            </a:xfrm>
            <a:prstGeom prst="irregularSeal1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емократич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2504520" y="1334160"/>
              <a:ext cx="70488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195800" y="1333800"/>
              <a:ext cx="72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5040" y="2183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9920" y="1334160"/>
              <a:ext cx="140724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181840" y="2183400"/>
              <a:ext cx="98604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63360" y="2927520"/>
              <a:ext cx="704520" cy="3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4120" y="3777120"/>
              <a:ext cx="28224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840" y="4308120"/>
              <a:ext cx="84528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17720" y="4414320"/>
              <a:ext cx="141084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5800" y="4733640"/>
              <a:ext cx="183168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5800" y="4733640"/>
              <a:ext cx="0" cy="127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23360" y="4308120"/>
              <a:ext cx="155016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800360" y="4308120"/>
              <a:ext cx="1972440" cy="13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41120" y="3883320"/>
              <a:ext cx="126756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27880" y="324612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504160" y="2714040"/>
              <a:ext cx="126900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78520" y="1341000"/>
            <a:ext cx="54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Завдання науково-практичної конференції –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визначення, проблем,розв</a:t>
            </a:r>
            <a:r>
              <a:rPr b="0" lang="ru-RU" sz="1800" spc="-1" strike="noStrike">
                <a:solidFill>
                  <a:srgbClr val="fef3d8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язання яких потребує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спільної творчої діяльності педагогів: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142080"/>
            <a:ext cx="539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Визначення пріоритетних компетентностей педагога в реалізації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Формування системи психолого-педагогічних впливів, що стимулюють процес успішної творчої самореалізації особистості вчител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утвердження ключової ролі педагога-демократа в забезпеченні ефективного впровадження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22" name="Рисунок 3" descr="http://nsc.1september.ru/2006/09/7.gif"/>
          <p:cNvPicPr/>
          <p:nvPr/>
        </p:nvPicPr>
        <p:blipFill>
          <a:blip r:embed="rId2"/>
          <a:stretch/>
        </p:blipFill>
        <p:spPr>
          <a:xfrm>
            <a:off x="395280" y="1916280"/>
            <a:ext cx="280656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808000"/>
                </a:solidFill>
                <a:uFillTx/>
                <a:latin typeface="Arial Black"/>
              </a:rPr>
              <a:t>Критерії створення портрета педагога у світлі нової парадигми освіти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Методи та форми навчання, які застосовує вчитель на уроці й ефективність їх застосування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оль учителя в роботі на уроці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Сприйняття педагогом активності школярів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еакція вчителя на успішні дії дитини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еакція вчителя на помилку або негативний вчинок учня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Загальні аспекти поведінки педагога: постава, міміка, жести, тон голосу, найуживаніші фрази і т. ін..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26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1944720" cy="1450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08000"/>
                </a:solidFill>
                <a:latin typeface="Arial Black"/>
              </a:rPr>
              <a:t>Авторитарний педагог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Вважає, що на уроці домінувати повинен учитель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Застосовує стандартні форми роботи (лекція з елементами бесіди, індивідуальне опитування, розповідь, виконання вправ під керівництвом вчителя та ін..)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Демонструє свою владу над учнями; не допускає протиріч; контролює, що, коли і як зобов’язані робити учні; не сприймає виявів творчості й індивідуальності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Пригнічує будь-яку активність; дуже стримано реагує на успіх дитини, помилка ж навпаки, викликає бурхливу реакцію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Рідко посміхається; часто буває невдоволений будь-чим; жести різкі – у мовленні переважають фрази «я сказав», «по-моєму», «ви повинні», «вам необхідно»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416400">
            <a:off x="7308720" y="404640"/>
            <a:ext cx="18352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8000"/>
                </a:solidFill>
                <a:latin typeface="Arial Black"/>
              </a:rPr>
              <a:t>Ліберальний педагог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е повною мірою зосереджений на процесі навчання та вихованн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Даючи завдання часто не перевіряє їх виконанн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а уроках переважає самостійна робота учнів з підручником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Учитель майже  не втручається у процес здобуття знань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Активність учнів може переходити в неконтрольовану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Перевірку рівня засвоєння знань здійснює через самостійні письмові роботи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изькі оцінки – рідкість, оскільки завжди дає змогу виправити отриманий результат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Успіх дитини сприймає стримано-відчуждено, так само як і помилку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Рідко конфліктує, погоджуючись з будь-якою точкою зору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762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9250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8000"/>
                </a:solidFill>
                <a:latin typeface="Arial Black"/>
              </a:rPr>
              <a:t>Педагог-гуманіст</a:t>
            </a: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дто «опікає» своїх вихованців;         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Старанно готується до кожного уроку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магається всю роботу виконувати сам, щоб «не перевантажувати» дітей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Кілька разів повторює прох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Дуже докладно роз</a:t>
            </a:r>
            <a:r>
              <a:rPr b="0" lang="ru-RU" sz="1600" spc="-1" strike="noStrike">
                <a:solidFill>
                  <a:srgbClr val="fef3d8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яснює завд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 уроках переважно пояснює сам, вступаючи в бесіду з учнями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Практикує колективні форми роботи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Докладно аналізує результати контрольних видів робіт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е дає змогу учням проявити ініціативу і творчіст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Успіх і невдалі дії школярів переживає немов власні, бурхливо реагуючи на них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Має стомлений вигляд, опущені плеч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У мовленні переважають фрази, насичені словами «ввічливості».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72360" y="287280"/>
            <a:ext cx="24476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586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9132b"/>
                </a:solidFill>
                <a:latin typeface="Arial Black"/>
              </a:rPr>
              <a:t>Демократичний педагог 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Активно впроваджує інтерактивні форми і методи навч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керує роботою учнів, контролює і спрямовує їхню діяльніст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Вимогливий і справедливий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Уважно вислуховує думку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Стисло аналізує відповід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Вимагає узагальнен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керує роботою учнів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Завдання дає учням різного характеру, часто – творч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сприяє здоровій активності кожного уч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Успіх дитини сприймає стримано-позитивно, вказуючи на потенціал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Помилку учня не виставляє на «загал», допомагає знайти шляхи її виправле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Стриманий, привітний доброзичливий.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0914800">
            <a:off x="7524720" y="259920"/>
            <a:ext cx="146520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1052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8000"/>
                </a:solidFill>
                <a:latin typeface="Arial"/>
              </a:rPr>
              <a:t>намагається  «йти в ногу з часом»:</a:t>
            </a:r>
            <a:r>
              <a:rPr b="1" lang="uk-UA" sz="24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8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8000"/>
                </a:solidFill>
                <a:latin typeface="Arial Black"/>
              </a:rPr>
              <a:t>Вирішення проблеми</a:t>
            </a:r>
            <a:r>
              <a:rPr b="0" lang="ru-RU" sz="40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Що заважає педагогам працювати на  гуманістичних засадах і бути демократами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Що може сприяти моральному та професійному зростанню педагога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Чи сприяють інноваційні форми навчання демократизації стосунків між учителем та учнями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Якщо так, то якою мірою?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214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3:53Z</dcterms:created>
  <dc:creator>User</dc:creator>
  <dc:description/>
  <cp:keywords/>
  <dc:language>en-US</dc:language>
  <cp:lastModifiedBy>User</cp:lastModifiedBy>
  <dcterms:modified xsi:type="dcterms:W3CDTF">2010-12-19T13:59:4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