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88BA-2B7A-4CC6-A3D6-DB50F2E0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EF5-14F2-4491-BBD2-6F5E6CE8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7D58-F938-4638-A700-9ECACF8B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9E4-BB79-4CFE-A461-44999493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5AEE-EE1D-409C-9D2A-0F82F4CC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A2D0-2179-4A27-B6C5-E8761F68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2A68-33F2-424F-9808-19DDBAE4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C646-3A73-4ABD-AF0C-78254D7E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9A66-C739-4E0E-BBD2-1166751E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7977-B6EA-4AD0-845F-BA39033B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E870-2DC0-4C1B-93C4-6F27DEBB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26B-FEB9-44B1-9EEC-FC6DF0BE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F94F-2C63-4F2F-8FD2-229343F0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372B-8664-446C-89C7-4FF58166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52F5-BC13-48B3-8BE6-146A5FE0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88FE-BB9C-4668-A244-6F9979E0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A1D5-3546-4F7B-BAD9-D6FCCF5B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C80-D832-4693-B6EF-47431B84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FD55-590F-4B30-A840-D88AB925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B764-EE09-4CF3-A28E-82DD229A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5C0-1A7E-4E3F-91E3-AAD931B4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2F1-38BF-4B05-934E-675D7DD5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A56E-0157-43BC-8171-E62B095E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63A-CFC3-4BD1-8504-2D338C96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3AD7-0B8D-44D8-A47F-0F71EFE9B8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1F0E-3505-4469-8377-F0FE7A8552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94160" y="260280"/>
            <a:ext cx="66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уроку: Д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давання і віднімання раціональни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2000" y="692280"/>
            <a:ext cx="766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евіз уроку: Не має жодної галузі математики,якою 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бстрактною вона не була, що коли – небу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 виявиться  застосованою для явищ дійсного сві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.І. Лобачевсь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84360" y="2019240"/>
            <a:ext cx="3786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Щоб урок цікаво розпоча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Загадку дам вам відгад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аук цариця недосяж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Могутня, щедра і прекра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Блискуче розум розвиває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Мислити правильно навчає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еперевершена її крас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Чудова логіка стру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у, друзі, хто ж вона та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Звичайно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5013360"/>
            <a:ext cx="1633320" cy="1274760"/>
          </a:xfrm>
          <a:prstGeom prst="smileyFace">
            <a:avLst>
              <a:gd name="adj" fmla="val 9282"/>
            </a:avLst>
          </a:prstGeom>
          <a:solidFill>
            <a:srgbClr val="d1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5040" y="6237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атема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748600" y="6397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ьогодні на уроці я дізнався 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 навчився 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умаю, що контрольну напишу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ні хочеться і далі вчитися, тому що 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3440" y="2492280"/>
            <a:ext cx="54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ий у вас настрій перед контрольною робото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3789360"/>
            <a:ext cx="1706400" cy="1417680"/>
          </a:xfrm>
          <a:prstGeom prst="smileyFace">
            <a:avLst>
              <a:gd name="adj" fmla="val 9282"/>
            </a:avLst>
          </a:prstGeom>
          <a:solidFill>
            <a:srgbClr val="a4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35280" y="3933720"/>
            <a:ext cx="1851120" cy="1562040"/>
          </a:xfrm>
          <a:prstGeom prst="smileyFace">
            <a:avLst>
              <a:gd name="adj" fmla="val 778"/>
            </a:avLst>
          </a:prstGeom>
          <a:solidFill>
            <a:srgbClr val="a4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16720" y="3933720"/>
            <a:ext cx="1633680" cy="1562040"/>
          </a:xfrm>
          <a:prstGeom prst="smileyFace">
            <a:avLst>
              <a:gd name="adj" fmla="val -4652"/>
            </a:avLst>
          </a:prstGeom>
          <a:solidFill>
            <a:srgbClr val="a4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0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2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4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1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3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5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97440" y="1484280"/>
            <a:ext cx="487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Бажаю всім присутні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 успіхів, удач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риходьте на уро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зуйте задач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00160" y="219960"/>
            <a:ext cx="87454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ff"/>
                </a:solidFill>
                <a:latin typeface="Arial"/>
              </a:rPr>
              <a:t>І рі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– 4; 0; 2.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2. – 5 &lt; 2;    3. /-7/ = 7;  4. – 15 + 8 = -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5. – 8 + ( - 15 ) = - 23 ;  6. – 11 – 8 = - 1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ff"/>
                </a:solidFill>
                <a:latin typeface="Arial"/>
              </a:rPr>
              <a:t>ІІ рі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7. – 27 + 40 – (- 11) = - 27 +40 +11 = 2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8. – 37 – (15 - 23) = - 37 – 15 + 23 = - 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9. (14 -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) – (- 21 -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) = 14 </a:t>
            </a:r>
            <a:r>
              <a:rPr b="1" lang="uk-UA" sz="1600" spc="-1" strike="noStrike" u="sng">
                <a:solidFill>
                  <a:srgbClr val="ff3300"/>
                </a:solidFill>
                <a:uFillTx/>
                <a:latin typeface="Arial"/>
              </a:rPr>
              <a:t>– </a:t>
            </a:r>
            <a:r>
              <a:rPr b="1" i="1" lang="uk-UA" sz="1600" spc="-1" strike="noStrike" u="sng">
                <a:solidFill>
                  <a:srgbClr val="ff3300"/>
                </a:solidFill>
                <a:uFillTx/>
                <a:latin typeface="Arial"/>
              </a:rPr>
              <a:t>а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+ 21 </a:t>
            </a:r>
            <a:r>
              <a:rPr b="1" i="1" lang="uk-UA" sz="1600" spc="-1" strike="noStrike" u="sng">
                <a:solidFill>
                  <a:srgbClr val="ff3300"/>
                </a:solidFill>
                <a:uFillTx/>
                <a:latin typeface="Arial"/>
              </a:rPr>
              <a:t>+ а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= 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cc00"/>
                </a:solidFill>
                <a:latin typeface="Arial"/>
              </a:rPr>
              <a:t>ІІІ рі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0. а) – 2, 9 + 1,8 = (- 11,1) - /- 7,2/ = - 2,9 + 1,8 – 11,1 – 7,2 = - 21,2 + 1,8 = - 19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б) – 5,4 – (- 10 – 5,4 + 4,7) =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- 5,4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+ 10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+ 5,4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– 4,7 = 5,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1. а)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 = 7,3 – (- 1,2)          б) х + 1,2 – 1,9 = - 2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= 7,3 + 1,2                    х – 0,7 = - 2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 = 8,5                           х = - 2,4 + 0,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 = - 1,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І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 рів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3. всі числа від – 3,5 до 3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4. а)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– 2,9 – (х – 3,7) = - 2       б) /х/ = 3 + 2,1            в) /4 - х/ =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- 2,9 – х + 3,7 = - 2             х1 = 5,1                      4 – х = 9       або 4 – х = -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0,8 – х = - 2                       х2 = - 5,1                     х = 4 – 9     або  х = 4 – (-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= 0,8 – (- 2)                                                         х1 = - 5      або  х2 =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= 0,8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= 2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5   /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 - 3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/ =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– 3 = 6 або х – 3 = -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х1 = 9     або х2 = -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Відповідь: С (9) і С (- 3)       Задача має два розв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я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26920" y="923760"/>
            <a:ext cx="7705800" cy="4057920"/>
          </a:xfrm>
          <a:prstGeom prst="rect">
            <a:avLst/>
          </a:prstGeom>
          <a:solidFill>
            <a:srgbClr val="a4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а)сума двох від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ємних чисел число </a:t>
            </a:r>
            <a:r>
              <a:rPr b="1" i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від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’</a:t>
            </a:r>
            <a:r>
              <a:rPr b="1" i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єм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б) щоб знайти модуль суми тре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додати модулі доданк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2. а) щоб додати два числа з різними знаками треба від більшого модуля </a:t>
            </a:r>
            <a:r>
              <a:rPr b="1" i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відняти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 меньший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б) у сумі поставити знак </a:t>
            </a:r>
            <a:r>
              <a:rPr b="1" i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більшого моду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3.1) до зменшуваного </a:t>
            </a:r>
            <a:r>
              <a:rPr b="1" i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додати число протилежне від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’</a:t>
            </a:r>
            <a:r>
              <a:rPr b="1" i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ємни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4. 1) – якщо „+”, то </a:t>
            </a:r>
            <a:r>
              <a:rPr b="1" i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всі доданки у дужках залишити зі своїми зна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2) – якщо „- ”, то  </a:t>
            </a:r>
            <a:r>
              <a:rPr b="1" i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у всіх доданків у дужках поміняти знак на протилеж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58920" y="620640"/>
            <a:ext cx="5691240" cy="3095640"/>
          </a:xfrm>
          <a:prstGeom prst="cloudCallout">
            <a:avLst>
              <a:gd name="adj1" fmla="val 17055"/>
              <a:gd name="adj2" fmla="val 8702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Правила роботи з тест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Уважно прочитай пит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Вибери один з наведених варіантів відповідей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92560" y="5176800"/>
            <a:ext cx="2035080" cy="459720"/>
          </a:xfrm>
          <a:prstGeom prst="rect">
            <a:avLst/>
          </a:prstGeom>
          <a:solidFill>
            <a:srgbClr val="a4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77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770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9640" y="-100440"/>
            <a:ext cx="78487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атуральні числа, протилежні їм числа 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Число нуль називаються ……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Ціл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ам ці числа вже відом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Цілі і дробові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ід’ємні і додатні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І звуться вони …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(раціональні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ам ці числа треба зна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Щоб від двох п’ятьсот відн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З ними дія додаванн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Це суцільне здив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се одно вони приємні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Числа на і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я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(від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ємн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Загадкове, нам знайом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 ньому  є щось невідом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Його треба розв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яза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Тобто корінь відшук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Кожен легко, без ваг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ідповість, що це - 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(рівняння)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9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9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9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9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900" fill="hold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900" fill="hold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900" fill="hold"/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900" fill="hold"/>
                                        <p:tgtEl>
                                          <p:spTgt spid="2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2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2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78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097440" cy="3743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148360" y="2522520"/>
            <a:ext cx="399564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6551640" cy="49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Microsoft Photo Editor 3.0 Picture"/>
          <p:cNvPicPr/>
          <p:nvPr/>
        </p:nvPicPr>
        <p:blipFill>
          <a:blip r:embed="rId1"/>
          <a:stretch/>
        </p:blipFill>
        <p:spPr>
          <a:xfrm>
            <a:off x="539640" y="692280"/>
            <a:ext cx="7920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26920" y="525600"/>
            <a:ext cx="7777440" cy="5064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15600" y="5734080"/>
            <a:ext cx="80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кмети Зловмисника; кругле обличчя, блакитні очі, руде волос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ямий ніс, вузьки губи, чорні в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8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5:52:47Z</dcterms:created>
  <dc:creator>1</dc:creator>
  <dc:description/>
  <dc:language>en-US</dc:language>
  <cp:lastModifiedBy>1</cp:lastModifiedBy>
  <dcterms:modified xsi:type="dcterms:W3CDTF">2010-02-16T18:37:56Z</dcterms:modified>
  <cp:revision>3</cp:revision>
  <dc:subject/>
  <dc:title>Слайд 1</dc:title>
</cp:coreProperties>
</file>