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7DD-A72F-4CBE-83C7-944A9DC6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F88-8B17-459B-B54B-1EB37E2A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00D-E5CB-4C40-9831-486133EC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AD1-ADEC-4200-9E81-C52AE424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C62F-51F5-4967-BEE4-FA02E106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DD6D-8F98-4118-8C35-46BFB979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63C8-021A-4DE8-B8CE-F7787769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0399-F3A1-4A1B-AF5B-DAD914AF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88FF-6FFF-4C87-A880-98D29885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0BBF-844F-493C-92E4-CEF453E1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1DC4-DC7F-4B0E-A12B-032ACBCB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C3A-93EF-4749-86EB-E9A5EA08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8A56-2243-4015-A255-B8A49EEE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CDD2-CE6B-43D5-9C44-D310E96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C0D5-FCF0-43B9-8C00-13B99683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AB6E-6EB3-4336-8771-6AA52154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8DCA-F0C1-4CB1-A9D4-CFF0D606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73A-D92F-4E8D-9D95-0716EFD2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D02-E795-4CE4-AB31-B4C47375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746-C48A-4CDC-A9F6-DA23924F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300-F4E9-4216-9802-07805A07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B8D-3739-4B3D-9D9E-6AD8D40B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79F-62D7-41AD-9B31-C831F86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CCD-EF6F-436B-8B85-9A6898BA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F49D-03E1-4D5A-B2D0-36707DFE0F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B579-4AF4-4EEE-A6B5-A081FC5F1C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94160" y="260280"/>
            <a:ext cx="66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уроку: Д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давання і віднімання раціональни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2000" y="692280"/>
            <a:ext cx="766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евіз уроку: Не має жодної галузі математики,якою 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бстрактною вона не була, що коли – небу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 виявиться  застосованою для явищ дійсного сві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.І. Лобачевс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2019240"/>
            <a:ext cx="3786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Щоб урок цікаво розпоча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агадку дам вам відгад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аук цариця недосяж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огутня, щедра і прекра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Блискуче розум розвиває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ислити правильно навч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еперевершена її кра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Чудова логіка стру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у, друзі, хто ж вона та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вичайно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5013360"/>
            <a:ext cx="1633320" cy="1274760"/>
          </a:xfrm>
          <a:prstGeom prst="smileyFace">
            <a:avLst>
              <a:gd name="adj" fmla="val 9282"/>
            </a:avLst>
          </a:prstGeom>
          <a:solidFill>
            <a:srgbClr val="d1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5040" y="6237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748600" y="6397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ьогодні на уроці я дізнався 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 навчився 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маю, що контрольну напишу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ні хочеться і далі вчитися, тому що 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3440" y="2492280"/>
            <a:ext cx="54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ий у вас настрій перед контрольною робото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3789360"/>
            <a:ext cx="1706400" cy="1417680"/>
          </a:xfrm>
          <a:prstGeom prst="smileyFace">
            <a:avLst>
              <a:gd name="adj" fmla="val 9282"/>
            </a:avLst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5280" y="3933720"/>
            <a:ext cx="1851120" cy="1562040"/>
          </a:xfrm>
          <a:prstGeom prst="smileyFace">
            <a:avLst>
              <a:gd name="adj" fmla="val 778"/>
            </a:avLst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6720" y="3933720"/>
            <a:ext cx="1633680" cy="1562040"/>
          </a:xfrm>
          <a:prstGeom prst="smileyFace">
            <a:avLst>
              <a:gd name="adj" fmla="val -4652"/>
            </a:avLst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4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3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5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97440" y="1484280"/>
            <a:ext cx="487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ажаю всім присутн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успіхів, удач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иходьте на уро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зуйте задач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0160" y="219960"/>
            <a:ext cx="87454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Arial"/>
              </a:rPr>
              <a:t>І рі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4; 0; 2.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2. – 5 &lt; 2;    3. /-7/ = 7;  4. – 15 + 8 = -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. – 8 + ( - 15 ) = - 23 ;  6. – 11 – 8 = - 1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Arial"/>
              </a:rPr>
              <a:t>ІІ рі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7. – 27 + 40 – (- 11) = - 27 +40 +11 = 2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8. – 37 – (15 - 23) = - 37 – 15 + 23 = -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9. (14 -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) – (- 21 -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) = 14 </a:t>
            </a:r>
            <a:r>
              <a:rPr b="1" lang="uk-UA" sz="1600" spc="-1" strike="noStrike" u="sng">
                <a:solidFill>
                  <a:srgbClr val="ff3300"/>
                </a:solidFill>
                <a:uFillTx/>
                <a:latin typeface="Arial"/>
              </a:rPr>
              <a:t>– </a:t>
            </a:r>
            <a:r>
              <a:rPr b="1" i="1" lang="uk-UA" sz="1600" spc="-1" strike="noStrike" u="sng">
                <a:solidFill>
                  <a:srgbClr val="ff3300"/>
                </a:solidFill>
                <a:uFillTx/>
                <a:latin typeface="Arial"/>
              </a:rPr>
              <a:t>а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+ 21 </a:t>
            </a:r>
            <a:r>
              <a:rPr b="1" i="1" lang="uk-UA" sz="1600" spc="-1" strike="noStrike" u="sng">
                <a:solidFill>
                  <a:srgbClr val="ff3300"/>
                </a:solidFill>
                <a:uFillTx/>
                <a:latin typeface="Arial"/>
              </a:rPr>
              <a:t>+ а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= 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cc00"/>
                </a:solidFill>
                <a:latin typeface="Arial"/>
              </a:rPr>
              <a:t>ІІІ рі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0. а) – 2, 9 + 1,8 = (- 11,1) - /- 7,2/ = - 2,9 + 1,8 – 11,1 – 7,2 = - 21,2 + 1,8 = - 1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) – 5,4 – (- 10 – 5,4 + 4,7) =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- 5,4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+ 10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+ 5,4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– 4,7 = 5,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1. а)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 = 7,3 – (- 1,2)          б) х + 1,2 – 1,9 = - 2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= 7,3 + 1,2                    х – 0,7 = - 2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 = 8,5                           х = - 2,4 + 0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 = - 1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І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 рів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3. всі числа від – 3,5 до 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4. а)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– 2,9 – (х – 3,7) = - 2       б) /х/ = 3 + 2,1            в) /4 - х/ =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- 2,9 – х + 3,7 = - 2             х1 = 5,1                      4 – х = 9       або 4 – х = -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0,8 – х = - 2                       х2 = - 5,1                     х = 4 – 9     або  х = 4 – (-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= 0,8 – (- 2)                                                         х1 = - 5      або  х2 =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= 0,8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= 2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5   /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 - 3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/ =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– 3 = 6 або х – 3 = -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1 = 9     або х2 = -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Відповідь: С (9) і С (- 3)       Задача має два розв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я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26920" y="923760"/>
            <a:ext cx="7705800" cy="4057920"/>
          </a:xfrm>
          <a:prstGeom prst="rect">
            <a:avLst/>
          </a:pr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а)сума двох від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ємних чисел число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від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’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єм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б) щоб знайти модуль суми тре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додати модулі додан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2. а) щоб додати два числа з різними знаками треба від більшого модуля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відняти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меньший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б) у сумі поставити знак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більшого мод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3.1) до зменшуваного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додати число протилежне від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’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ємни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4. 1) – якщо „+”, то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всі доданки у дужках залишити зі своїми зна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2) – якщо „- ”, то 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у всіх доданків у дужках поміняти знак на протилеж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58920" y="620640"/>
            <a:ext cx="5691240" cy="3095640"/>
          </a:xfrm>
          <a:prstGeom prst="cloudCallout">
            <a:avLst>
              <a:gd name="adj1" fmla="val 17055"/>
              <a:gd name="adj2" fmla="val 8702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авила роботи з тес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Уважно прочитай пит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Вибери один з наведених варіантів відповідей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92560" y="5176800"/>
            <a:ext cx="2035080" cy="459720"/>
          </a:xfrm>
          <a:prstGeom prst="rect">
            <a:avLst/>
          </a:pr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9640" y="-100440"/>
            <a:ext cx="7848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атуральні числа, протилежні їм числа 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Число нуль називаються ……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Ціл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ам ці числа вже відом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Цілі і дробові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ід’ємні і додатні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І звуться вони 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(раціональн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ам ці числа треба зна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Щоб від двох п’ятьсот відн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 ними дія додаванн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Це суцільне здив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се одно вони приємні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Числа на і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я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(від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ємн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агадкове, нам знайом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 ньому  є щось невідом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Його треба роз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яза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Тобто корінь відшук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Кожен легко, без ваг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ідповість, що це - 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(рівняння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9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 fill="hold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78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097440" cy="3743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48360" y="2522520"/>
            <a:ext cx="399564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655164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Microsoft Photo Editor 3.0 Picture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26920" y="525600"/>
            <a:ext cx="7777440" cy="5064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15600" y="5734080"/>
            <a:ext cx="80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кмети Зловмисника; кругле обличчя, блакитні очі, руде волос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ямий ніс, вузьки губи, чорні в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5:52:47Z</dcterms:created>
  <dc:creator>1</dc:creator>
  <dc:description/>
  <dc:language>en-US</dc:language>
  <cp:lastModifiedBy>1</cp:lastModifiedBy>
  <dcterms:modified xsi:type="dcterms:W3CDTF">2010-02-16T18:37:56Z</dcterms:modified>
  <cp:revision>3</cp:revision>
  <dc:subject/>
  <dc:title>Слайд 1</dc:title>
</cp:coreProperties>
</file>