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757-C788-4313-A333-1C210899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A07-10DF-40C7-8203-C366CAE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9C4-D957-45A9-95B1-08173EA6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149-0FBE-4146-8492-C038F25F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CA6-5DE4-4702-9567-ECA2DE5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C49-67FF-4BE8-818F-383B513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EFB-8009-436E-B023-9D324DF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3AD-7801-4ADD-BC92-DC1F762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D4A-467D-49D4-8C4E-BC14CBF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0DF-71C7-49B5-BDCA-FDBFF55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863-3BFD-40A9-A797-20AE3B3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A3F-06DA-4C2F-918B-0D2F5357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55C-41F0-4C2F-9AF2-B8DD722D96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Нарада при заступнику директора з навчально – вихов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000160"/>
            <a:ext cx="73040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Організація трудового виховання дошкільників за Базовою програм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Я у Світі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Оздоєва О.М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заступник директора 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навчально – виховної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Подвірського НВ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539640" y="333360"/>
            <a:ext cx="8136000" cy="1800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кінці молодшого дошкільного віку вихователь починає залуч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анців до виконання деяких обов'язків чергових у їдаль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чинаючи з середнього дошкільного віку, діти чергують система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їдальні, на заняттях, у куточку живої природи тощ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84360" y="2205000"/>
            <a:ext cx="8064360" cy="2808360"/>
          </a:xfrm>
          <a:prstGeom prst="horizontalScroll">
            <a:avLst>
              <a:gd name="adj" fmla="val 12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 дорослішанням дошкільників поступово ускладнюються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учення за змістом роботи, формами об'єднання дітей, вим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амостійності й самоорганізованості.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лежно від мети, я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лідує педагог, для чергувань об'єднують дітей з однаков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внем трудових умінь, працелюбства, почуття відповід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(для вдосконалення навичок взаємодії у колективній роботі) або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зним, але не дуже контрастним рівнем трудових умінь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мостійності (з метою вирівнювання розвит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0" y="4869000"/>
            <a:ext cx="8675640" cy="1989000"/>
          </a:xfrm>
          <a:custGeom>
            <a:avLst/>
            <a:gdLst>
              <a:gd name="textAreaLeft" fmla="*/ 1980360 w 8675640"/>
              <a:gd name="textAreaRight" fmla="*/ 6695280 w 8675640"/>
              <a:gd name="textAreaTop" fmla="*/ 453960 h 1989000"/>
              <a:gd name="textAreaBottom" fmla="*/ 153504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АГА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безпечення психологічної суміс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ітей під час колективних чергувань педагог має добре знати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дивідуальні особливості, з урахуванням яких розподіл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і дорученн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пільна трудова діяльність дітей (форма організації трудової діяльності дітей  у старшому дошкільному віці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42920" y="1125360"/>
            <a:ext cx="684216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лекти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об'єднує  всіх дітей груп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372360" y="4797360"/>
            <a:ext cx="2520720" cy="1511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е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ь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у груп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яких нале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активніші діти висо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 розвитку взаєми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1989000"/>
            <a:ext cx="820728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ластивості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а мета, відповідальність за результ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оділ праці між учасниками, залежність їх один від одно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395280" y="2924280"/>
            <a:ext cx="8353440" cy="79200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фективн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іс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ить ві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яв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свіду співробітниц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жного оволодіння навичками конкретних видів прац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28760" y="3929040"/>
            <a:ext cx="8280360" cy="576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нання індивідуальних особливостей дітей дає з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б'єднувати їх у групи різних рівнів співробітництва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395280" y="4724280"/>
            <a:ext cx="223200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95280" y="4724280"/>
            <a:ext cx="273672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літка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симпатизу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одн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3419640" y="4724280"/>
            <a:ext cx="2520720" cy="1656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о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ь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ї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патизують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и організації спільної трудової діяль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32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500040" y="1285920"/>
            <a:ext cx="1943280" cy="1439640"/>
          </a:xfrm>
          <a:prstGeom prst="rightArrow">
            <a:avLst>
              <a:gd name="adj1" fmla="val 50000"/>
              <a:gd name="adj2" fmla="val 337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ця пору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2997360"/>
            <a:ext cx="2087640" cy="1511280"/>
          </a:xfrm>
          <a:prstGeom prst="rightArrow">
            <a:avLst>
              <a:gd name="adj1" fmla="val 50000"/>
              <a:gd name="adj2" fmla="val 345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68360" y="4653000"/>
            <a:ext cx="1942920" cy="1512720"/>
          </a:xfrm>
          <a:prstGeom prst="rightArrow">
            <a:avLst>
              <a:gd name="adj1" fmla="val 50000"/>
              <a:gd name="adj2" fmla="val 32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і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484360" y="1341360"/>
            <a:ext cx="6264360" cy="136692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іти незалежно один від одного, одночасно виконують індивідуаль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дання.  процесі роботи поруч виникає безпосереднє спілкуван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часто спонукає дітей до надання допомоги одне одн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ворює сприятливі умови для виховання доброзичливих стосунк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й спосіб організації трудової діяльності є проміжним етап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колективної праці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627280" y="2997360"/>
            <a:ext cx="6048360" cy="13683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из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ільною метою і результа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ий процес розгортається як індивідуальний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ущість кожного окремого результату і зв'язок й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 іншими виявляється тільки після закінчення всь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у діяльності.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411280" y="4508640"/>
            <a:ext cx="6264360" cy="1657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бачає досягнення спільного результату шля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нання послідовних трудових дій над певним об'єктом, я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ить від одного учасника трудового процесу до інш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і трудові дії при цьому мають певну завершені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ристовують у старшому дошкільному віц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 та виховне значення праці ді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25000"/>
            <a:ext cx="8229600" cy="5000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500040" y="1000080"/>
            <a:ext cx="7993080" cy="647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бслугов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68360" y="2060640"/>
            <a:ext cx="4103640" cy="1257120"/>
          </a:xfrm>
          <a:prstGeom prst="wedgeRectCallout">
            <a:avLst>
              <a:gd name="adj1" fmla="val -25513"/>
              <a:gd name="adj2" fmla="val 753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ується спрямованость на задоволення повсякденних особистих потреб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932360" y="1989000"/>
            <a:ext cx="3743280" cy="1224000"/>
          </a:xfrm>
          <a:prstGeom prst="wedgeRectCallout">
            <a:avLst>
              <a:gd name="adj1" fmla="val -19421"/>
              <a:gd name="adj2" fmla="val 79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тина привчається до порядку й організованої поведінки, оволодіває всіма компонентами трудової діяль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684360" y="3933720"/>
            <a:ext cx="3671640" cy="1473480"/>
          </a:xfrm>
          <a:prstGeom prst="wedgeRectCallout">
            <a:avLst>
              <a:gd name="adj1" fmla="val -25787"/>
              <a:gd name="adj2" fmla="val 778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ово формується вміння бачити результат праці, встановлювати зв´язок між метою, трудовими діями і кінцевим результа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59280" y="3933720"/>
            <a:ext cx="3672000" cy="1511280"/>
          </a:xfrm>
          <a:prstGeom prst="wedgeRectCallout">
            <a:avLst>
              <a:gd name="adj1" fmla="val -20083"/>
              <a:gd name="adj2" fmla="val 779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є самостійною, починає усвідомлювати, що праця є першою умовою виховання вільної і незалежної особист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Господарсько-побутова прац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999720"/>
            <a:ext cx="8663040" cy="566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9694"/>
                </a:solidFill>
                <a:latin typeface="Arial"/>
              </a:rPr>
              <a:t>Ме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ідтримання чистоти і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міщенні, на інших територіях життєдіяльності дити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мога дорослим в організації режимних процес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5280" y="2276640"/>
            <a:ext cx="842472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8360" y="2205000"/>
            <a:ext cx="8424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раннь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ивчає дітей виконувати прості трудові дії з близь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часі результатом (допомагати помічникові вихователя накривати на стіл; вихова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ідготовці до заняття, підтримувати порядок на столі під час заняття, піс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ього — прибирати матеріали, складати на місце іграшки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4000" y="3716280"/>
            <a:ext cx="8496000" cy="11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молодшем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одовжує формувати у ді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інтерес і бажання виконувати завдання дорослих якісно, старанно, охоч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ст  праці ускладнюється; вихователь має допомогти дитині з´ясувати м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ти, послідовність трудових ді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50920" y="5157720"/>
            <a:ext cx="86407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старшому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и починають розуміти працю як потрібну 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йозну справу, а інтерес до трудового процесу поєднувати з інтересом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ого результатів. Значно складнішими стають для них трудові завдання. Праця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ьому віці все більше відокремлюється від гри, а епізодичні труд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учення набувають для них значущості постійних обов´язк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55188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Організовуючи господарсько-побутову працю, вих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використовує різноманітні методичні прийо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виконання кожної елементарної дії та послідовності ді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роводжуваний детальними пояснен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осередню допомогу у виконанні трудових д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истий прикла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ійне нагадування про послідовність д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ористання дидактичних ігор та прийомів, створення ігрових ситуац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хочення з урахуванням індивідуальних особливостей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ливостей ді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інку результатів виконаної роботи, аналіз конкретних суспі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ущих учинків тощ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жди 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аєм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!!!   У старших дошкільників поступово згасає інтерес до того виду праці, який стає звичним, повсякденним. Тому для віднов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інтересу до неї слід збагачувати її елементами новизни(конкурс “Хто краще накриє стіл до обіду”,колективні обговорення творчого виконання обов´язків черговими у групі та ін.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Праця в природі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68360" y="1052640"/>
            <a:ext cx="8136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иховне завданн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облення у дітей інтересу, дбайливого ставлення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ї природи, формування вмінь і навичок з догляду за рослинами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аринами, вміння правильно користуватися знаряддями прац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2637000"/>
            <a:ext cx="820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упний дітям дошкільного віку вид продуктивної трудової діяль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інцева мета, її результати конкретні та зрозумілі, однак їх немож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швидко досягти. Віддаленість результату вимагає від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ривалих фізичних і розумових зусиль, повсякденної копі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ї роботи, терп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7120" y="4572000"/>
            <a:ext cx="8280360" cy="163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ільшість дітей охоче працює з живими об´єктами, радо доглядає за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ізнаючи світ живої природи, розкриваючи свої нові можливо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ховуючи в собі дбайливе ставлення до всього жи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Однак у них ще мало досвіду, умінь, тому дорослі мають разом із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робити чіткі правила їх поведінки і діяльності у природ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учна (художня) прац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564336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500040" y="1000080"/>
            <a:ext cx="8072640" cy="1857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Функціональна мета для ді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виробів з паперу, картону, тканини: іграшок-саморобок, вітальних листівок, ялинкових прикрас, персонажів і декорацій лялькового театру, букетів із засушених рослин, килимків для ляльок, серветок тощ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подарунків рідним і друзям справляє великий вплив на моральну свідомість дитини (привчає виявляти увагу до оточуючих, працювати заради того, щоб зробити їм приємн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571680" y="2857680"/>
            <a:ext cx="2357280" cy="3714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озвиває уяву, спостереж-ливість, худож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слення, естетичне чуття, конструктивні здібності, моторні навички ді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3000240" y="2928960"/>
            <a:ext cx="3357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езультати здебільшого викликають позитивні емоції, захоплення дорослих, що посилює ефект самопізнання, самоусвідомлення, самоствердження дитини, збуджують у ній здорове честолюб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6429240" y="2928960"/>
            <a:ext cx="2214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иховує у дитини усвідомлення своїх здібностей, таланту, виношування мрії на все житт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исно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504d"/>
                </a:solidFill>
                <a:latin typeface="Calibri"/>
              </a:rPr>
              <a:t>Праця — один із провідних чинників усебічного розвитку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рисна для здоров'я дитини, якщо вона посильна і правильно організова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и дитини, яка володіє трудовими навичками, більш точні та впевнені, вона ліпше орієн­тується у просторі, їй зрозуміліший плин ча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зумовому розвит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овує допитливість: діти дізнаються про властивості матеріалів, з якими працюють, про призначення засобів праці, інструментів, якими вони користую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звиває всі пізнавальні процеси — активне  сприймання, уяву, увагу, пам'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боті мислення, адже дитині потрібно порівнювати, зіставляти предмети, з якими вона працює, встановлювати найпростіші закономірності явищ тощ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є  неоціненне значення праця для морального виховання дитини, адже під час роботи виховуються такі якості особистості, як здатність до подолання перешкод, спостережливість, зосередженість, старанність, дисциплінованість, самостійність, ініціа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8008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Практична частина</a:t>
            </a:r>
            <a:br>
              <a:rPr sz="2500"/>
            </a:b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Завдання. Обери правильну відповід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. Трудові доручення спрямов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на викон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на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2. Чергування стимул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конанні дитиною трудових обов'язків стосовно своїх одногрупн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озвиток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3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пільна трудова діяльність дітей можли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у люб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 старшому дошкільн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Виховне  значення  самообслуговування полягає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прямованості на задоволення повсякденних особистих потреб дит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виконанні трудових доруч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5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Головною метою господарсько-побутової праці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езультат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ідтримання чистоти і порядку в приміщенні, на інших територіях життєдіяльності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Завдання трудового виховання</a:t>
            </a: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ді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Формування мотивації (потреб, інтересу, почуття обов´язку і відповідальності), позитивно-емоційного ціннісного ставлення до праці як до форми буття і способу самореалізації людини. 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Формування системи знань, необхідних для трудової діяльності, вибору професії, соціального, професійного і життєвого самовизначення.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Формування досвіду суспільно корисної виробничої діяльності, вміння використовувати теоретичні знання на практиці, здатності до творчості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Особливість праця в природі полягає в тому, щ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іти мають справу з об´єктами живої приро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іти виконують певні доруче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Ручна (художня) праця допомага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стимулює виконання дитиною трудових обов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яз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свідомлювати свої здібності, тал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Трудове виховання дітей дошкільного віку, будучи спрямованим на особистісний розвиток дит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ов´язане з фізичним, моральним, розумовим вихованн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в´язане тільки з розумовим вихованн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9. Одним з основних завдань дошкільного закладу та родини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залучення до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иховання у дітей самостійності, правильного ставлення до прац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0. Праця корисна для здоров'я дитини, як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она посильна і правильно організова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дитина працює разом з доросл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1517760" y="1816200"/>
            <a:ext cx="608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Calibri"/>
              </a:rPr>
              <a:t>Забезпечу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alibri"/>
              </a:rPr>
              <a:t>1. Виховання інтересу до праці дорослих, бережливого ставлення до їх результатів, поваги до людини-трудів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Формування навичок трудової діяльності. Уже в дошкільному віці діти намагаються наслідувати працю доросли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3. Виховання особистості дитини у процесі її трудової діяльності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дагог повинен пам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тати !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рішення ціх завдань відбувається у процесі загальноосвітньої підготовки, трудового навчання, різноманітної за змістом і формою трудової діяль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ими формами організації праці дітей дошкільного ві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ові доруче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г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ективна прац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71680" y="285840"/>
            <a:ext cx="71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ристання різних форм організації трудової діяльності дітей збуджує у них «прагнення серйозної праці», без якої життя людини «не може бути ні гідним, ні щасливим.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(К. Ушинський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оступнішою і найпоширенішою формою організації дитячої праці є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удові доруч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276640"/>
            <a:ext cx="3031920" cy="360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ність ї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гає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аданні на індиві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у певних обов'язк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ння пев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ни мають чі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ямова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349360"/>
            <a:ext cx="4248000" cy="1150920"/>
          </a:xfrm>
          <a:prstGeom prst="wedgeRoundRectCallout">
            <a:avLst>
              <a:gd name="adj1" fmla="val -55472"/>
              <a:gd name="adj2" fmla="val 32166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шим дошкільникам вихователь дає прості доручення, які є епізодичними, короткочасними (наприклад, покласти на місце іграшку, принести стілець та ін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140360" y="4365720"/>
            <a:ext cx="4824360" cy="1511280"/>
          </a:xfrm>
          <a:prstGeom prst="wedgeRoundRectCallout">
            <a:avLst>
              <a:gd name="adj1" fmla="val -55986"/>
              <a:gd name="adj2" fmla="val 274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инаючи з середнього дошкільного віку дітям доручають складніші і триваліші справи, які можуть бути пов'язаними з проханням або звертанням до інших осіб, прибиранням і підтриманням порядку в ігровому куточку, доглядом за тваринами у куточку живої природи тощо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419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564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49236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419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3492360" y="3284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341964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3419640" y="4869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189000"/>
            <a:ext cx="4752720" cy="6119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конання дору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ховує у дошкіль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в'язков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повідальні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чає їх до вия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о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силь що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іяльності за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ягнення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 для цього важ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б діти усвідомлю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іль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ущ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загальної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них доруч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716360" y="333360"/>
            <a:ext cx="4176720" cy="5904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ам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ят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учаючи дити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ійну спр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х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су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іаль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ніка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тини, рекомендую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в'язку з ц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іональні способи ї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он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3024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им щодо цього може бути ознайомлення дитини з таким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авилами виконання дору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-  отримавши доручення, подумай, чи правильно ти зрозумів, що потрібно робити;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-  сплануй, як виконати цю роботу;</a:t>
            </a: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- працюй не поспішаючи, щоб результат приніс задоволення і користь;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проінформуй про завершення справи того, хто доручив її тобі;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-  проаналізуй, чи не потрібно зробити ще щ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ВАГА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ільки зацікавлений у вихованні самодостатніх особистостей педагог заохочуватиме ініціативу дошкільнят у прийнятті і виконанні доручен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4064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иконання групових дору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вчає дітей до узгодження своїх ді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багачує їх досвідом співробітниц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ищеплює гуманістичні почутт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виховує вміння бути уважними одне до одного, допомагати одне одн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орма дорученн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 чергу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лягає у систематичному виконанні дитиною трудових обов'язків стосовно своїх одногрупників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Calibri"/>
              </a:rPr>
              <a:t>суттєво стимулюють розвиток дитини, адже вони вимагають немалих зусиль і напружень, що зумовлює її фізичне зміцнення, набуття знань про властивості та якості різних предме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иробляє усвідомлення значущості своєї праці, навички роботи на конкретний результ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є  дієвим засобом виховання почуття відповідальності у дошкільників, формування самостійності, працелюбства, взаємодії у колективній роботі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9:56:32Z</dcterms:created>
  <dc:creator>1</dc:creator>
  <dc:description/>
  <dc:language>en-US</dc:language>
  <cp:lastModifiedBy>User</cp:lastModifiedBy>
  <dcterms:modified xsi:type="dcterms:W3CDTF">2006-01-01T08:26:25Z</dcterms:modified>
  <cp:revision>35</cp:revision>
  <dc:subject/>
  <dc:title>Нарада при заступнику директора з навчально – виховної роботи</dc:title>
</cp:coreProperties>
</file>