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0D6-32CD-4ADD-8E98-FFD955B8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7C7-BA21-49FD-B5BA-CD2A0480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02A-4870-4E00-B6AC-9B8C0585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376-08FD-483F-B044-F17F9F92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519-ED4D-4C39-8AE2-8C2E0E34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A62-19C7-4383-8818-1031D59E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ACB-6F14-40A1-B813-16CC9E22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217-AAE2-4744-968C-98BC2B55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A1F-C1D3-421B-AD1F-8E7814BE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599-0079-4EE7-A195-D4D4C67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524-3A91-44DF-82FB-A275956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A90-F414-4716-993E-707067B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4811-9023-4BE0-88FC-49F99586A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692360" y="1125360"/>
            <a:ext cx="7165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2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Заголовок 1"/>
          <p:cNvSpPr/>
          <p:nvPr/>
        </p:nvSpPr>
        <p:spPr>
          <a:xfrm>
            <a:off x="1692360" y="62064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УНКТИ РЕЄСТРАЦІ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1413000"/>
            <a:ext cx="662472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Харківській області створено 23 пункти реєстрації на базі вищих навчальних закладів І-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.а. (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ерелік пунктів реєстрації на сайті ХРЦОЯ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ункти реєстрації працюють 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01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 д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.02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жим роботи пункту реєстрації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неділок – п’ятниця з 9:00 до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7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ЗНО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переліку предметів, які необхідні для вступу у ВНЗ (за вибором абітурієнта) додано ЗНО з всесвітньої історії за напря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іжнародні відносини: всі спеціальності, крім міжнародних економічних відно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іально-політичні науки: спеціальність - політологі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манітарні науки: спеціальність - істор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ання можливості складання тестів не більше як із 4-х предме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ідвищення мінімальної кількості балів з профільних предметів до 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ня тестувань з української мови та літератури, математики та історії України у 2 се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чення терміну реєст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7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ПРОВЕДЕ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реєстраційних документ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1.01. - 20.02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ім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7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1.05, 22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оземні мов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6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8.05, 2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5, 01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5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7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0.05 – 01.07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8.06 - 23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00" y="249228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ЄСТРАЦІ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4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Заголовок 1"/>
          <p:cNvSpPr/>
          <p:nvPr/>
        </p:nvSpPr>
        <p:spPr>
          <a:xfrm>
            <a:off x="1908000" y="189000"/>
            <a:ext cx="68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ЄСТРАЦІЯ НА ЗНО-2012 :</a:t>
            </a:r>
            <a:br>
              <a:rPr sz="2400"/>
            </a:b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орядок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979640" y="1341360"/>
            <a:ext cx="6624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штова реєстрація з використанням інформаційних технологі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рмін реєстрації –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0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еререєстрація –   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05.03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698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 (01.01-20.02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20"/>
          <p:cNvSpPr/>
          <p:nvPr/>
        </p:nvSpPr>
        <p:spPr>
          <a:xfrm>
            <a:off x="1908000" y="83664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ідготува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і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пор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відоцтва про народже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від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з навчального закладу за визначеною форм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пію атестат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токар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зміром 3х4 с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копіях написати Із оригіналом згід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без лапок)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ставити підпи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начити прізвище, ініціали та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1979640" y="2924280"/>
            <a:ext cx="6967440" cy="20080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Скачати із сайт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ХРЦОЯО програму для реєст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Попрацювати із програмо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поля у програ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Заяву-реєстраційну кар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внити верхню частину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клеї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фотокар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Контрольно-інформаційний 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берігаєть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* Самостійно або у пункті реєстраці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1979640" y="5084640"/>
            <a:ext cx="6985080" cy="576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діслати поштою комплект докумен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1979640" y="5805360"/>
            <a:ext cx="6985080" cy="648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тримати поштою </a:t>
            </a: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Сертифі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41400" y="543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806400"/>
            <a:ext cx="687384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184480" y="907920"/>
            <a:ext cx="1235160" cy="154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27440" y="2092320"/>
            <a:ext cx="1106280" cy="61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0760" y="1523880"/>
            <a:ext cx="893880" cy="29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1512720"/>
            <a:ext cx="87804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ЗРАЗОК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ЕРТИФІКАТА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СОНАЛЬ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1835280" y="1577880"/>
            <a:ext cx="698472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юється на сайті УЦОЯ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сля закінч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pin-кодом, указаним у нь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/>
          <p:cNvSpPr/>
          <p:nvPr/>
        </p:nvSpPr>
        <p:spPr>
          <a:xfrm>
            <a:off x="1846440" y="3943440"/>
            <a:ext cx="7046640" cy="2438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ку із зазнач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сця розташування пункту тестування та часу почат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можна роздрукувати самостій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у картку із результа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необхідно роздрукувати самостій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ВТОРНА РЕЄСТРАЦІЯ             (до 05.03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20"/>
          <p:cNvSpPr/>
          <p:nvPr/>
        </p:nvSpPr>
        <p:spPr>
          <a:xfrm>
            <a:off x="1908000" y="4005360"/>
            <a:ext cx="6985080" cy="259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в реєстрації (за рі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ламентної комісії – подання не всіх документів а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належне оформлення комплекту документів тощ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документів, усунувши причини, що с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ставою для від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1908000" y="170028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іслати крім комплекту документів Сертифіка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риманий ран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Prime Auditor</cp:lastModifiedBy>
  <dcterms:modified xsi:type="dcterms:W3CDTF">2011-12-14T12:34:32Z</dcterms:modified>
  <cp:revision>77</cp:revision>
  <dc:subject/>
  <dc:title>Слайд 1</dc:title>
</cp:coreProperties>
</file>