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C6EF-8799-421F-A6B4-440734961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86FC-4457-41A0-B60D-1A8B543EB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AA1C-A40E-4093-A7AA-515BE5B45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0C16-58E0-4B05-9A94-2D8923E02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317D-3A0F-4E78-BB2D-5DABFBC33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2C9D-6F59-4747-8C43-679776A82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33DA-39B2-4E43-9A37-030A80263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9D64-6120-4492-BE63-34F51078C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D74B-DA8F-45D4-B4AB-04A74FB8D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C705-6CF3-4B31-BFAA-B8E97BE1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F202-CA6A-402D-97D3-946684AE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876A-FC48-41F7-8ED1-61C76BC3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FD778-6EA0-4CD8-AC9A-A5802E7ED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42" name="Picture 3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5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Заголовок 1"/>
          <p:cNvSpPr/>
          <p:nvPr/>
        </p:nvSpPr>
        <p:spPr>
          <a:xfrm>
            <a:off x="1692360" y="1125360"/>
            <a:ext cx="71658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ЗОВНІШНЄ НЕЗАЛЕЖНЕ ОЦІНЮВАННЯ  </a:t>
            </a:r>
            <a:r>
              <a:rPr b="0" lang="en-US" sz="6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2012</a:t>
            </a:r>
            <a:r>
              <a:rPr b="0" lang="uk-UA" sz="6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рок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Заголовок 1"/>
          <p:cNvSpPr/>
          <p:nvPr/>
        </p:nvSpPr>
        <p:spPr>
          <a:xfrm>
            <a:off x="1692360" y="620640"/>
            <a:ext cx="734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ПУНКТИ РЕЄСТРАЦІЇ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79640" y="1413000"/>
            <a:ext cx="6624720" cy="49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 Харківській області створено 23 пункти реєстрації на базі вищих навчальних закладів І-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р.а. (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перелік пунктів реєстрації на сайті ХРЦОЯО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ункти реєстрації працюють з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3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.01.2012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року до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20.02.2012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ро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ежим роботи пункту реєстрації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800"/>
            </a:b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понеділок – п’ятниця з 9:00 до 17: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3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110" name="Picture 4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6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 Box 8"/>
          <p:cNvSpPr/>
          <p:nvPr/>
        </p:nvSpPr>
        <p:spPr>
          <a:xfrm>
            <a:off x="1908000" y="765000"/>
            <a:ext cx="7236000" cy="54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Телефон інформаційної служб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3300"/>
                </a:solidFill>
                <a:latin typeface="Times New Roman"/>
              </a:rPr>
              <a:t>(057)705-06-56, 705-07-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Фак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3300"/>
                </a:solidFill>
                <a:latin typeface="Times New Roman"/>
              </a:rPr>
              <a:t>(057)705-15-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Електронна пошт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office@zno-kharkiv.org.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Сай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форум:</a:t>
            </a: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www.zno-kharkiv.org.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Адрес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3300"/>
                </a:solidFill>
                <a:latin typeface="Times New Roman"/>
              </a:rPr>
              <a:t>майдан Свободи, 6, офіс 463, м. Харків, 610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34920" y="259920"/>
            <a:ext cx="70578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ОСОБЛИВОСТІ ЗНО-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834920" y="1267920"/>
            <a:ext cx="7019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о переліку предметів, які необхідні для вступу у ВНЗ (за вибором абітурієнта) додано ЗНО з всесвітньої історії за напряма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іжнародні відносини: всі спеціальності, крім міжнародних економічних відноси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оціально-політичні науки: спеціальність - політологі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Гуманітарні науки: спеціальність - історі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дання можливості складання тестів не більше як із 4-х предмет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ідвищення мінімальної кількості балів з профільних предметів до 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ведення тестувань з української мови та літератури, математики та історії України у 2 сес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корочення терміну реєстрац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34920" y="259920"/>
            <a:ext cx="70578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КАЛЕНДАР ПРОВЕДЕНН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834920" y="1196640"/>
            <a:ext cx="7019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одання реєстраційних документів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01.01. - 20.02.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роведення пробного ЗНО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24.03.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31.03.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роведення ЗН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хімія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15.05.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російська мова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17.05.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географія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19.05.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математика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21.05, 22.05.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сесвітня історія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24.05.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іноземні мови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26.05.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українська мова і література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28.05, 29.05.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історія України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31.05, 01.06.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фізика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05.06.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біологія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07.06.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Оголошення результатів ЗНО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30.05 – 01.07.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роведення додаткової сесії ЗНО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18.06 - 23.06.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08000" y="2492280"/>
            <a:ext cx="70581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РЕЄСТРАЦІ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64" name="Picture 3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5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Заголовок 1"/>
          <p:cNvSpPr/>
          <p:nvPr/>
        </p:nvSpPr>
        <p:spPr>
          <a:xfrm>
            <a:off x="1908000" y="189000"/>
            <a:ext cx="6840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РЕЄСТРАЦІЯ НА ЗНО-2012 :</a:t>
            </a:r>
            <a:br>
              <a:rPr sz="2400"/>
            </a:b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порядок реєстраці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1979640" y="1341360"/>
            <a:ext cx="662472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Поштова реєстрація з використанням інформаційних технологі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Термін реєстрації –             з 01.01.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до 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.02.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Перереєстрація –                з 01.01.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до 05.03.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35280" y="0"/>
            <a:ext cx="69847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РЕЄСТРАЦІЯ (01.01-20.02.201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AutoShape 20"/>
          <p:cNvSpPr/>
          <p:nvPr/>
        </p:nvSpPr>
        <p:spPr>
          <a:xfrm>
            <a:off x="1908000" y="836640"/>
            <a:ext cx="6985080" cy="18716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ідготуват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пію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аспорт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свідоцтва про народженн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відку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із навчального закладу за визначеною формо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копію атестата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ві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отокартк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розміром 3х4 с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а копіях написати Із оригіналом згідно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без лапок),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поставити підпис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зазначити прізвище, ініціали та да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23"/>
          <p:cNvSpPr/>
          <p:nvPr/>
        </p:nvSpPr>
        <p:spPr>
          <a:xfrm>
            <a:off x="1979640" y="2924280"/>
            <a:ext cx="6967440" cy="20080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* Скачати із сайту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ХРЦОЯО програму для реєстрації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* Попрацювати із програмою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заповнити поля у програм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здрукувати Заяву-реєстраційну картк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повнити верхню частину Заяв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наклеїти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ві фотокарт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здрукувати Контрольно-інформаційний лист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зберігаєтьс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* Самостійно або у пункті реєстрації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9"/>
          <p:cNvSpPr/>
          <p:nvPr/>
        </p:nvSpPr>
        <p:spPr>
          <a:xfrm>
            <a:off x="1979640" y="5084640"/>
            <a:ext cx="6985080" cy="576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Надіслати поштою комплект документі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на адресу ХРЦОЯ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9"/>
          <p:cNvSpPr/>
          <p:nvPr/>
        </p:nvSpPr>
        <p:spPr>
          <a:xfrm>
            <a:off x="1979640" y="5805360"/>
            <a:ext cx="6985080" cy="64800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Отримати поштою </a:t>
            </a:r>
            <a:r>
              <a:rPr b="1" lang="uk-UA" sz="1800" spc="-1" strike="noStrike">
                <a:solidFill>
                  <a:srgbClr val="ff3300"/>
                </a:solidFill>
                <a:latin typeface="Tahoma"/>
              </a:rPr>
              <a:t>Сертифік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541400" y="543240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979640" y="806400"/>
            <a:ext cx="6873840" cy="4789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0" name=""/>
          <p:cNvSpPr/>
          <p:nvPr/>
        </p:nvSpPr>
        <p:spPr>
          <a:xfrm>
            <a:off x="2184480" y="907920"/>
            <a:ext cx="1235160" cy="15433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827440" y="2092320"/>
            <a:ext cx="1106280" cy="6159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630760" y="1523880"/>
            <a:ext cx="893880" cy="295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924680" y="1512720"/>
            <a:ext cx="878040" cy="314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1547640" y="0"/>
            <a:ext cx="74170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ЗРАЗОК</a:t>
            </a:r>
            <a:r>
              <a:rPr b="1" lang="uk-UA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СЕРТИФІКАТА З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41708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3300"/>
                </a:solidFill>
                <a:latin typeface="Arial"/>
                <a:ea typeface="Times New Roman"/>
              </a:rPr>
              <a:t>ПЕРСОНАЛЬНА СТОРІ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20"/>
          <p:cNvSpPr/>
          <p:nvPr/>
        </p:nvSpPr>
        <p:spPr>
          <a:xfrm>
            <a:off x="1835280" y="1577880"/>
            <a:ext cx="6984720" cy="19940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творюється на сайті УЦОЯ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ісля закінченн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еєстраці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доступ здійснюється за номером Сертифіката 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pin-кодом, указаним у ньо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20"/>
          <p:cNvSpPr/>
          <p:nvPr/>
        </p:nvSpPr>
        <p:spPr>
          <a:xfrm>
            <a:off x="1846440" y="3943440"/>
            <a:ext cx="7046640" cy="24382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озміщується інформація щодо реєстраційних дан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озміщується Запрошення-перепуску із зазначення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місця розташування пункту тестування та часу початк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НО, яку можна роздрукувати самостій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озміщується Інформаційну картку із результата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НО, яку необхідно роздрукувати самостійн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93" name="" descr=""/>
            <p:cNvPicPr/>
            <p:nvPr/>
          </p:nvPicPr>
          <p:blipFill>
            <a:blip r:embed="rId3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41708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ПОВТОРНА РЕЄСТРАЦІЯ             (до 05.03.201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AutoShape 20"/>
          <p:cNvSpPr/>
          <p:nvPr/>
        </p:nvSpPr>
        <p:spPr>
          <a:xfrm>
            <a:off x="1908000" y="4005360"/>
            <a:ext cx="6985080" cy="25923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у разі відмови в реєстрації (за рішення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егламентної комісії – подання не всіх документів аб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еналежне оформлення комплекту документів тощ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еобхідно повторно пройти реєстрацію та надісла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комплект документів, усунувши причини, що ста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ідставою для відмо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20"/>
          <p:cNvSpPr/>
          <p:nvPr/>
        </p:nvSpPr>
        <p:spPr>
          <a:xfrm>
            <a:off x="1908000" y="1700280"/>
            <a:ext cx="6985080" cy="187164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разі внесення змін до реєстраційних дан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еобхідно повторно пройти реєстрацію 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адіслати крім комплекту документів Сертифіка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триманий раніш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4T08:13:26Z</dcterms:created>
  <dc:creator>N.Rusanova</dc:creator>
  <dc:description/>
  <dc:language>en-US</dc:language>
  <cp:lastModifiedBy>Prime Auditor</cp:lastModifiedBy>
  <dcterms:modified xsi:type="dcterms:W3CDTF">2011-12-14T12:34:32Z</dcterms:modified>
  <cp:revision>77</cp:revision>
  <dc:subject/>
  <dc:title>Слайд 1</dc:title>
</cp:coreProperties>
</file>