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D42-9546-4921-93C4-5F3D9321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F1D-3946-4ACF-BD03-7CE8ACC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4A-3FF4-4D26-9E43-04FC0272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C6D-1E94-4FD2-BA1E-01868AC5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FC35-A24F-45D7-97FC-3499212D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7D88-B00A-4172-9E38-631A873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6510-170B-4340-8BE1-0716AA2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D8A-AC68-4C31-9303-B46BEC2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31A0-9997-4A71-A6D9-3734116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D360-1BD9-4386-ADFE-7E1985E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561-E4FC-4AF7-9348-AF20043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35E-0202-4D16-8AF4-BA23C5A4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E09F-28E8-4A21-AC82-53AF165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DA5-BB8C-4CC3-8BF9-F3E0AB4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CEE-19C1-454B-A606-A5E3FF9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E23-2A10-4087-B756-2FA654E7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F5D-5355-4744-94D8-84860E91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9405-AC69-4FDB-A54E-095A534D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57FC-F1C9-41A9-A3B0-90366131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1462-D04A-473E-912D-4E149A13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F7C9-C860-43A8-898B-4D3AACC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8450-333C-4E56-BB7C-8932FDA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E8A-73B8-4F4E-B4AD-DAC91A1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D392-06B3-40DD-857E-4124E804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DD00-FA65-46F6-ACA1-4E4F5373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0595-FEC0-4A7C-874B-819C3CA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EF32-B5D1-4E51-82FC-F576A83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A032-9DC3-4595-B4C4-3ECC2D6C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7427-19AA-4C81-AD58-0EC8039E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2B56-CD0C-4CC8-A115-88256644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B23D-AB8C-4EDF-9675-FEB931BF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6B18-EC03-4DBB-90F4-E6D65764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86AF-8768-490D-B776-711B838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E97-E980-4688-9677-39E65DB5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E4FD-C518-434B-B46B-C63E6D30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96EF-CF94-487D-8F91-047B3BAF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BD88-811B-43F2-B4B6-8C968B1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0421-9EDB-4A56-96BD-86F516C0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BF1E-24B2-4F1D-8A08-DDF68B1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11B8-8BC0-44A6-AAE9-54668C4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EF36-A31C-450F-8D7A-D85369E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0536-7128-4B71-BB9C-750B841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1523-51C8-428E-A9BC-B5A6D8D8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9C0C-11FF-441A-88CA-4D4A7EB4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AE2-FCF7-40A9-87FA-7487D266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5A36-59EA-48FF-8B36-9B2A0F47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E031-43D6-4E46-90FF-AFBD8DAB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A9237-4FA9-43B9-BA18-13ECA405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578E-1E5A-42F5-A603-45F3A48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88F1-4F1B-4BDF-8230-44E5FC76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72254-4EA4-44A4-A25D-49770F6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3EFA-41D5-4B40-B7C2-0C4B0A3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B0C5-D006-44C7-93FB-CB5E9DA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7DA2-5953-4089-9853-1ABF5F15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9CB1-A5A7-4F1A-9510-39D075FD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9B5-87A6-4C19-B1BC-B505F402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31A0-F912-42B8-A8FE-3DFCE8C3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AAFD-45B6-40BB-A471-98D8B7F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BC8D-74FD-4274-A392-5A15EF5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28831-D38C-40B7-AF1B-2212323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C683-4612-460D-A29B-685CB69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56F5-9F7B-479D-9FFE-80B6611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6AC5-94B5-4FFF-8F3F-83A3A07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45EE-F4F4-47BD-B61A-DEBF1EDC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E9D0-FE73-4763-AD87-9E71960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E0B5-9BC7-42EE-B57D-CCC90B1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C22-EAE6-4F45-A182-67AD78F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3A41-61B8-4C42-BE07-8542F25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69D4-756A-429C-8D24-F9574D40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0E62-2772-40E6-9F3F-0824C0CE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F5F3-30A5-4CF8-9E77-A2E19D0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A761-CD58-4263-8B2E-C35E78F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E388-A1DB-4127-ABE2-C11A6DD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8AAE-0A11-4C28-A384-8111C3EB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4659-D46F-42AD-987E-C226150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903D-EF29-4EF6-8B6E-EDBAD7FD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11FB-B351-41D7-8270-DF4BA704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A7F-E632-4130-8A48-6C208F16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FC1D-EBBF-45F1-BB74-E1F16D2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E932-7EF1-40C1-98BF-6C8058A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A865-C290-4076-B2C0-A1534A45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78AAC-073C-4FEF-ADB8-B416E654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7D284-FA82-4686-81B1-DA06F819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32438-4590-46CE-883C-29C2A315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7C2644-4C08-4758-A68B-896A6938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6DCFF-55AB-4257-8E35-17A3D8F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A3040-0C10-4AE9-A3F8-7DB332F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473ED-7C75-4617-ACE8-5FDA20E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D90-6930-4284-B421-C3F23C2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4FFA8-0E9F-4A98-8114-D8BFC2A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364F0-76EB-4D45-8B71-AFFC763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891EB-4DE2-4F69-9E1C-2BC43CFA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F451D-5B24-4702-AED5-3199FC7D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136D65-5185-4AE8-9C5F-736A296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100BF-322C-44C6-9938-CA8042AE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03878-38E2-4A49-BC87-E582534E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398-5CB5-482C-B25C-D94B0CE600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2B9D-3800-4C30-BC66-D54D278B21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240" y="60134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E5C-58DE-47F1-A64A-5E705B2F532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24B-779F-41D8-908E-78CD5B3068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E6F-82D8-489F-A69F-60174898A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DF6F-6590-474B-8B5A-C64834E6D34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D4C-5D27-4416-9740-CD33071CA43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18A1-C29B-45D9-8904-21F6336720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5"/>
          <p:cNvSpPr txBox="1"/>
          <p:nvPr/>
        </p:nvSpPr>
        <p:spPr>
          <a:xfrm>
            <a:off x="3727440" y="2819520"/>
            <a:ext cx="4986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ff"/>
                    </a:gs>
                    <a:gs pos="50000">
                      <a:srgbClr val="ff99ff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а лабораторі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ff"/>
                  </a:gs>
                  <a:gs pos="50000">
                    <a:srgbClr val="ff99ff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1905120" y="4724280"/>
            <a:ext cx="4419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Вчителя англійської м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Подвірського НВ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«ЗОШ 1-3 ступенів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дошкільний закла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Глущенко Тамари Олександрі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Параметри оцінювання проект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Значущість і актуальність пробле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Активність кожного учасн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Характер спілкування, взаємодопомог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Залучення знань з інших предмет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Лаконічність, аргументованість кожного висновк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Місце для вмісту 3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E:\уроки проекти\P2140359.JPG"/>
          <p:cNvPicPr/>
          <p:nvPr/>
        </p:nvPicPr>
        <p:blipFill>
          <a:blip r:embed="rId1"/>
          <a:stretch/>
        </p:blipFill>
        <p:spPr>
          <a:xfrm>
            <a:off x="0" y="22320"/>
            <a:ext cx="4394160" cy="3295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E:\уроки проекти\P2140362.JPG"/>
          <p:cNvPicPr/>
          <p:nvPr/>
        </p:nvPicPr>
        <p:blipFill>
          <a:blip r:embed="rId2"/>
          <a:stretch/>
        </p:blipFill>
        <p:spPr>
          <a:xfrm>
            <a:off x="4394160" y="34920"/>
            <a:ext cx="4749840" cy="32828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E:\уроки проекти\P2140368.JPG"/>
          <p:cNvPicPr/>
          <p:nvPr/>
        </p:nvPicPr>
        <p:blipFill>
          <a:blip r:embed="rId3"/>
          <a:stretch/>
        </p:blipFill>
        <p:spPr>
          <a:xfrm>
            <a:off x="0" y="3317760"/>
            <a:ext cx="4719600" cy="3540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E:\уроки проекти\P2140373.JPG"/>
          <p:cNvPicPr/>
          <p:nvPr/>
        </p:nvPicPr>
        <p:blipFill>
          <a:blip r:embed="rId4"/>
          <a:stretch/>
        </p:blipFill>
        <p:spPr>
          <a:xfrm>
            <a:off x="4572000" y="3317760"/>
            <a:ext cx="4572000" cy="35402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кутник 1" descr=""/>
          <p:cNvPicPr/>
          <p:nvPr/>
        </p:nvPicPr>
        <p:blipFill>
          <a:blip r:embed="rId5"/>
          <a:stretch/>
        </p:blipFill>
        <p:spPr>
          <a:xfrm>
            <a:off x="-274680" y="-195120"/>
            <a:ext cx="97426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E:\уроки проекти\P2140365.JPG"/>
          <p:cNvPicPr/>
          <p:nvPr/>
        </p:nvPicPr>
        <p:blipFill>
          <a:blip r:embed="rId1"/>
          <a:stretch/>
        </p:blipFill>
        <p:spPr>
          <a:xfrm>
            <a:off x="9360" y="12600"/>
            <a:ext cx="4714920" cy="3359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E:\уроки проекти\P2140382.JPG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E:\уроки проекти\P2140383.JPG"/>
          <p:cNvPicPr/>
          <p:nvPr/>
        </p:nvPicPr>
        <p:blipFill>
          <a:blip r:embed="rId3"/>
          <a:stretch/>
        </p:blipFill>
        <p:spPr>
          <a:xfrm>
            <a:off x="0" y="3371760"/>
            <a:ext cx="4495680" cy="3468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E:\уроки проекти\P2180394.JPG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upload.wikimedia.org/wikipedia/commons/thumb/8/85/Smiley.svg/200px-Smiley.svg.png"/>
          <p:cNvPicPr/>
          <p:nvPr/>
        </p:nvPicPr>
        <p:blipFill>
          <a:blip r:embed="rId1"/>
          <a:stretch/>
        </p:blipFill>
        <p:spPr>
          <a:xfrm>
            <a:off x="5373720" y="3048120"/>
            <a:ext cx="3465360" cy="3465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кутник 1" descr=""/>
          <p:cNvPicPr/>
          <p:nvPr/>
        </p:nvPicPr>
        <p:blipFill>
          <a:blip r:embed="rId2"/>
          <a:stretch/>
        </p:blipFill>
        <p:spPr>
          <a:xfrm>
            <a:off x="-152280" y="1689120"/>
            <a:ext cx="7089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267080" y="4038480"/>
            <a:ext cx="4724640" cy="24940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ffccff">
                  <a:alpha val="18039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4"/>
          <p:cNvSpPr txBox="1"/>
          <p:nvPr/>
        </p:nvSpPr>
        <p:spPr>
          <a:xfrm>
            <a:off x="3809880" y="228600"/>
            <a:ext cx="5038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блема над якою працюва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309560" y="4141800"/>
            <a:ext cx="4681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« Впровадж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проектної технологі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на уроках               англійської мо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33520" y="380880"/>
            <a:ext cx="8305560" cy="594360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ffccff">
                  <a:alpha val="47058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9480" y="457200"/>
            <a:ext cx="8229600" cy="586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ahoma"/>
              </a:rPr>
              <a:t>Мое кредо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« Все творчо-інакше навіщо.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Чому звернулась до цієї теми?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i="1" lang="uk-UA" sz="2600" spc="-1" strike="noStrike">
                <a:solidFill>
                  <a:srgbClr val="ffff00"/>
                </a:solidFill>
                <a:latin typeface="Tahoma"/>
              </a:rPr>
              <a:t>Хочу щоб мої учні  були творчими, талановитими, щоб у них був стимул і мотивація до  навчання, радість  від успіху, бо проектна робота-це мистецтво творчості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4560" y="304560"/>
            <a:ext cx="883908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роект – це робота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яку самостійно планують і самостійно виконують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роектна робота-це вид роботи в групах, або індивідуально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межею якої є підготовка кінцевого результату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ідсумку роботи іноземною мовою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28600" y="13712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700" spc="-1" strike="noStrike">
                <a:solidFill>
                  <a:srgbClr val="000099"/>
                </a:solidFill>
                <a:latin typeface="Tahoma"/>
              </a:rPr>
              <a:t>Кінцевим результатом проекту може бути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план-схем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альбом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інформація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ребус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твори-опис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літературні перекази</a:t>
            </a:r>
            <a:r>
              <a:rPr b="0" lang="uk-UA" sz="37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9080" y="268200"/>
            <a:ext cx="6819840" cy="162108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6" descr=""/>
          <p:cNvPicPr/>
          <p:nvPr/>
        </p:nvPicPr>
        <p:blipFill>
          <a:blip r:embed="rId2"/>
          <a:stretch/>
        </p:blipFill>
        <p:spPr>
          <a:xfrm>
            <a:off x="371520" y="1828800"/>
            <a:ext cx="8242200" cy="3724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9c5e0">
                  <a:alpha val="57254"/>
                </a:srgbClr>
              </a:gs>
              <a:gs pos="100000">
                <a:srgbClr val="0101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4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b050"/>
                </a:solidFill>
                <a:latin typeface="Tahoma"/>
              </a:rPr>
              <a:t>          </a:t>
            </a:r>
            <a:r>
              <a:rPr b="1" i="1" lang="ru-RU" sz="3400" spc="-1" strike="noStrike">
                <a:solidFill>
                  <a:srgbClr val="00b050"/>
                </a:solidFill>
                <a:latin typeface="Tahoma"/>
              </a:rPr>
              <a:t>Алгоритм роботи над проектом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Схема 10" descr=""/>
          <p:cNvPicPr/>
          <p:nvPr/>
        </p:nvPicPr>
        <p:blipFill>
          <a:blip r:embed="rId2"/>
          <a:stretch/>
        </p:blipFill>
        <p:spPr>
          <a:xfrm>
            <a:off x="219240" y="371520"/>
            <a:ext cx="8924760" cy="648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-360"/>
            <a:ext cx="9067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a1ec0"/>
                </a:solidFill>
                <a:latin typeface="Tahoma"/>
              </a:rPr>
              <a:t> 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2a1ec0"/>
                </a:solidFill>
                <a:latin typeface="Tahoma"/>
              </a:rPr>
              <a:t>Основні принципи   проектної діяльності :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Варіатив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Особистісний фактор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Навчання із захопленням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Комплекс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Результатив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Рефлексі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5440" y="1599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облематизації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Цілевстановлення і планування змісту діяльності учні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рефлексії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езентації у різних форм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ошуку и вибору актуальної інформації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актичного застосування знань ,актуалізації знан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оведення досліджень(аналіз,синтез,висування гіпотез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ychenik</cp:lastModifiedBy>
  <dcterms:modified xsi:type="dcterms:W3CDTF">2013-04-08T09:55:46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