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B05-073C-436B-B2CA-006B282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F67-8383-46FA-8C7E-6A791FE6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9CB-8931-4E54-B232-DE2DDB4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45D-7AE0-4110-BFFD-307EF088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DA22-4F86-4BDC-8E7A-9018366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F08E-4A61-4112-8644-FC1985FF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37CF-0342-49A4-BBDC-2EBA8B5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4149-B5E3-4550-B222-8F2C3AEC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438-BDCF-4EF4-9859-1E4AD859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DF51-CA08-4BE2-8183-75A5810E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9837-C1E4-4935-AB98-8227567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4F7-EAF8-43CD-9944-4E249BD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E610-F6F9-4941-9CCB-0380379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692E-DBBC-4F0C-AC82-0521FF6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BBF2-86AA-4F11-8D58-C4DFFDB7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71F7-EF53-4107-BDC4-268E8CE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37A7-5046-4E88-ABB7-0AAE62F5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6E2C-B8A1-4377-903C-6D744D79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6157-4C2D-438A-A86A-05A9934A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DC56-AC79-4E6B-91FD-7979404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A700-9966-4736-BF90-1D66535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1D0E-54D7-4E6D-BC01-9B05FE35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697-B27D-4D2A-B549-1AB4EE83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A348-CA81-484B-B1E4-CF32965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72DD-6323-4FD2-99AD-A8186CF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4498-F5B1-4AE5-88CA-A075022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5F33-6898-4F24-B85C-4BBBCF2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516A-9D69-4827-8656-8354EFA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7940-5FED-4A23-B8F3-457FD30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DE4E-E005-49ED-8290-76EFEC59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A82B-63B1-406A-90F0-38A0D9BA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C90C-0D39-45EF-AD06-DC6F8AF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47CB-7C1E-4EA6-9E85-C98DAF40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989-B23D-402A-9A2A-CC53962E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78C6-D6A2-4244-8CA9-5AF802C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AA2B-F7B2-44D2-B676-AAD21D70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9610-F86B-4746-B544-82FA328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5886-EE1A-4007-9AE6-D5E028B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4DA9-9BEE-485A-A734-59BEA89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17EF-5FBF-4AE6-80ED-31FB81C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F7C8-443A-4DA4-A00E-6C88754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EB51B-92C6-4401-AC72-EB8F10B2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783E-E9C8-4C30-B860-172EF9E4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BF89-B122-4A1E-AEBC-AEC0C510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F03-5869-4DD8-BD56-1653293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F0C9-643B-4F0A-9E6C-179AE15C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AD44-5391-4F5A-BEDE-8FB73C64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4012-1EC3-47B2-A66F-3E65FB8D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7984-A5BC-4BCC-BA16-C5BA59D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B9F8-C3B1-4101-93B9-B3C4196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8D19-7864-4653-8A39-EE00750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53AD-0467-4C9A-9731-C523CB5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FCC6-7B60-4555-A0F1-F828CE2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71058-3F8A-41B5-BD07-7666875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2433-6F10-4BC7-9630-1094DCF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BD1-6D07-499A-8425-C7B3718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228D-1DF6-4B2B-9168-F8565EA8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4783-30F8-4904-9EEC-263BEC1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8812-F176-4654-900E-5BB022B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1F82-CEA9-45EC-B62D-7C8EF1A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DA6B-799E-4B15-8BB2-80B9CAD4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72E7-19CC-45D7-9517-FAF2873B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A7F0-2669-4C3F-856F-31DF80A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ACC0-C9DA-4FDF-A04E-C392196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B531-CFF1-4FB8-B5E3-5C9DD8B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7FB0-570A-459A-A138-D020990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E3C-DEB6-4F35-8A7B-438B15C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2FB6-D261-476B-B666-16600578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A5A4-3449-4C3F-AE4C-D390023C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9A74-89CD-4F28-8C09-F620FE0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D64BE-CC8C-4F9B-94D5-3E899E02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71FC-AAF0-40B0-9108-56BE26C4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94B5-BE67-4471-85A7-CE573A9C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EC02E-074C-434E-9374-051DAAA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A96A-D4DB-49B3-8A8B-122BF9D0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450BC-3A7C-477D-A5FF-C2B0790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BE88-7973-4889-AF86-BDBAB55C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13D-D6B2-4BC8-89EB-4861356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B053-1F17-46C2-8EE2-D41E0D52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85FA-540C-4757-AE88-8690D18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B9E4E-AC44-4917-8BC4-4BBD4AFF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3EC5-326F-419D-AE57-5D7D9C45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F36E-9671-4F8F-B588-2146238C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3D1E5-755E-4AC5-BB43-19CFDA3A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7EA58-EB14-4B52-ACC4-0DFF975C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DF75A-E7B1-4A40-BCC5-3F4C914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B0619-9CA0-4084-B9AA-D2FCCD3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45DC3-5D8E-45F6-8190-776F7FA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9E1-E013-4FD5-8764-24FB3F9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00798-0D78-4E41-83B1-2F108F9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CFE44-BEF7-4D5C-A579-B6AD095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CDC0C-E8A8-4531-A635-3201872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AD38D-049D-4596-94A2-B018E0D7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4C067-4DC3-423F-A4F5-1C7B6F7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567EA-ABC9-4784-9CE4-84D6720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EEAFA-E273-44FD-9480-678C020D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9AC-0EDA-47D9-8D94-E0AD6AC0CA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782A-0E82-450C-B104-07051D4BC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240" y="60134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E61-3EFA-4B4C-A5C3-881898AF8F2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2EAB-D86D-4B5A-927D-B45A7D7F42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3F99-32F6-4510-A184-EB6966F4B9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DA6-92C1-46EC-8FAF-203934943DA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0AF-FBA1-4A01-866B-B51A639B086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C115-3C23-491F-A2BB-61F3431901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5"/>
          <p:cNvSpPr txBox="1"/>
          <p:nvPr/>
        </p:nvSpPr>
        <p:spPr>
          <a:xfrm>
            <a:off x="3727440" y="2819520"/>
            <a:ext cx="4986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ff"/>
                    </a:gs>
                    <a:gs pos="50000">
                      <a:srgbClr val="ff99ff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а лабораторі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ff"/>
                  </a:gs>
                  <a:gs pos="50000">
                    <a:srgbClr val="ff99ff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1905120" y="4724280"/>
            <a:ext cx="4419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Вчителя англійської м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Подвірського НВ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«ЗОШ 1-3 ступенів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дошкільний закла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ff"/>
                </a:solidFill>
                <a:latin typeface="Century Gothic"/>
              </a:rPr>
              <a:t>Глущенко Тамари Олександрі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Параметри оцінювання проект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Значущість і актуальність пробле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Активність кожного учасн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Характер спілкування, взаємодопомог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Залучення знань з інших предмет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8ff38"/>
                </a:solidFill>
                <a:latin typeface="Tahoma"/>
              </a:rPr>
              <a:t>Лаконічність, аргументованість кожного висновк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Місце для вмісту 3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E:\уроки проекти\P2140359.JPG"/>
          <p:cNvPicPr/>
          <p:nvPr/>
        </p:nvPicPr>
        <p:blipFill>
          <a:blip r:embed="rId1"/>
          <a:stretch/>
        </p:blipFill>
        <p:spPr>
          <a:xfrm>
            <a:off x="0" y="22320"/>
            <a:ext cx="4394160" cy="3295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E:\уроки проекти\P2140362.JPG"/>
          <p:cNvPicPr/>
          <p:nvPr/>
        </p:nvPicPr>
        <p:blipFill>
          <a:blip r:embed="rId2"/>
          <a:stretch/>
        </p:blipFill>
        <p:spPr>
          <a:xfrm>
            <a:off x="4394160" y="34920"/>
            <a:ext cx="4749840" cy="32828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E:\уроки проекти\P2140368.JPG"/>
          <p:cNvPicPr/>
          <p:nvPr/>
        </p:nvPicPr>
        <p:blipFill>
          <a:blip r:embed="rId3"/>
          <a:stretch/>
        </p:blipFill>
        <p:spPr>
          <a:xfrm>
            <a:off x="0" y="3317760"/>
            <a:ext cx="4719600" cy="3540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E:\уроки проекти\P2140373.JPG"/>
          <p:cNvPicPr/>
          <p:nvPr/>
        </p:nvPicPr>
        <p:blipFill>
          <a:blip r:embed="rId4"/>
          <a:stretch/>
        </p:blipFill>
        <p:spPr>
          <a:xfrm>
            <a:off x="4572000" y="3317760"/>
            <a:ext cx="4572000" cy="35402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кутник 1" descr=""/>
          <p:cNvPicPr/>
          <p:nvPr/>
        </p:nvPicPr>
        <p:blipFill>
          <a:blip r:embed="rId5"/>
          <a:stretch/>
        </p:blipFill>
        <p:spPr>
          <a:xfrm>
            <a:off x="-274680" y="-195120"/>
            <a:ext cx="97426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E:\уроки проекти\P2140365.JPG"/>
          <p:cNvPicPr/>
          <p:nvPr/>
        </p:nvPicPr>
        <p:blipFill>
          <a:blip r:embed="rId1"/>
          <a:stretch/>
        </p:blipFill>
        <p:spPr>
          <a:xfrm>
            <a:off x="9360" y="12600"/>
            <a:ext cx="4714920" cy="3359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E:\уроки проекти\P2140382.JPG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E:\уроки проекти\P2140383.JPG"/>
          <p:cNvPicPr/>
          <p:nvPr/>
        </p:nvPicPr>
        <p:blipFill>
          <a:blip r:embed="rId3"/>
          <a:stretch/>
        </p:blipFill>
        <p:spPr>
          <a:xfrm>
            <a:off x="0" y="3371760"/>
            <a:ext cx="4495680" cy="3468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E:\уроки проекти\P2180394.JPG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upload.wikimedia.org/wikipedia/commons/thumb/8/85/Smiley.svg/200px-Smiley.svg.png"/>
          <p:cNvPicPr/>
          <p:nvPr/>
        </p:nvPicPr>
        <p:blipFill>
          <a:blip r:embed="rId1"/>
          <a:stretch/>
        </p:blipFill>
        <p:spPr>
          <a:xfrm>
            <a:off x="5373720" y="3048120"/>
            <a:ext cx="3465360" cy="3465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кутник 1" descr=""/>
          <p:cNvPicPr/>
          <p:nvPr/>
        </p:nvPicPr>
        <p:blipFill>
          <a:blip r:embed="rId2"/>
          <a:stretch/>
        </p:blipFill>
        <p:spPr>
          <a:xfrm>
            <a:off x="-152280" y="1689120"/>
            <a:ext cx="7089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267080" y="4038480"/>
            <a:ext cx="4724640" cy="24940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ffccff">
                  <a:alpha val="18039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4"/>
          <p:cNvSpPr txBox="1"/>
          <p:nvPr/>
        </p:nvSpPr>
        <p:spPr>
          <a:xfrm>
            <a:off x="3809880" y="228600"/>
            <a:ext cx="5038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блема над якою працюва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309560" y="4141800"/>
            <a:ext cx="4681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« Впровадж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проектної технологі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000099"/>
                </a:solidFill>
                <a:latin typeface="Tahoma"/>
              </a:rPr>
              <a:t>на уроках               англійської мо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33520" y="380880"/>
            <a:ext cx="8305560" cy="594360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ffccff">
                  <a:alpha val="47058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9480" y="457200"/>
            <a:ext cx="8229600" cy="586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ahoma"/>
              </a:rPr>
              <a:t>Мое кредо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« Все творчо-інакше навіщо.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i="1" lang="uk-UA" sz="3000" spc="-1" strike="noStrike">
                <a:solidFill>
                  <a:srgbClr val="000099"/>
                </a:solidFill>
                <a:latin typeface="Tahoma"/>
              </a:rPr>
              <a:t>Чому звернулась до цієї теми?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i="1" lang="uk-UA" sz="2600" spc="-1" strike="noStrike">
                <a:solidFill>
                  <a:srgbClr val="ffff00"/>
                </a:solidFill>
                <a:latin typeface="Tahoma"/>
              </a:rPr>
              <a:t>Хочу щоб мої учні  були творчими, талановитими, щоб у них був стимул і мотивація до  навчання, радість  від успіху, бо проектна робота-це мистецтво творчості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4560" y="304560"/>
            <a:ext cx="883908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роект – це робота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яку самостійно планують і самостійно виконують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роектна робота-це вид роботи в групах, або індивідуально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межею якої є підготовка кінцевого результату,</a:t>
            </a: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700" spc="-1" strike="noStrike">
                <a:solidFill>
                  <a:srgbClr val="ff0000"/>
                </a:solidFill>
                <a:latin typeface="Tahoma"/>
              </a:rPr>
              <a:t>підсумку роботи іноземною мовою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336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28600" y="13712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700" spc="-1" strike="noStrike">
                <a:solidFill>
                  <a:srgbClr val="000099"/>
                </a:solidFill>
                <a:latin typeface="Tahoma"/>
              </a:rPr>
              <a:t>Кінцевим результатом проекту може бути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план-схем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альбом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інформація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ребус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твори-опис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11120" indent="-382680">
              <a:lnSpc>
                <a:spcPct val="70000"/>
              </a:lnSpc>
              <a:spcBef>
                <a:spcPts val="924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99"/>
                </a:solidFill>
                <a:latin typeface="Tahoma"/>
              </a:rPr>
              <a:t>літературні перекази</a:t>
            </a:r>
            <a:r>
              <a:rPr b="0" lang="uk-UA" sz="37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9080" y="268200"/>
            <a:ext cx="6819840" cy="162108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6" descr=""/>
          <p:cNvPicPr/>
          <p:nvPr/>
        </p:nvPicPr>
        <p:blipFill>
          <a:blip r:embed="rId2"/>
          <a:stretch/>
        </p:blipFill>
        <p:spPr>
          <a:xfrm>
            <a:off x="371520" y="1828800"/>
            <a:ext cx="8242200" cy="3724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9c5e0">
                  <a:alpha val="57254"/>
                </a:srgbClr>
              </a:gs>
              <a:gs pos="100000">
                <a:srgbClr val="0101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4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b050"/>
                </a:solidFill>
                <a:latin typeface="Tahoma"/>
              </a:rPr>
              <a:t>          </a:t>
            </a:r>
            <a:r>
              <a:rPr b="1" i="1" lang="ru-RU" sz="3400" spc="-1" strike="noStrike">
                <a:solidFill>
                  <a:srgbClr val="00b050"/>
                </a:solidFill>
                <a:latin typeface="Tahoma"/>
              </a:rPr>
              <a:t>Алгоритм роботи над проектом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Схема 10" descr=""/>
          <p:cNvPicPr/>
          <p:nvPr/>
        </p:nvPicPr>
        <p:blipFill>
          <a:blip r:embed="rId2"/>
          <a:stretch/>
        </p:blipFill>
        <p:spPr>
          <a:xfrm>
            <a:off x="219240" y="371520"/>
            <a:ext cx="8924760" cy="648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-360"/>
            <a:ext cx="9067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a1ec0"/>
                </a:solidFill>
                <a:latin typeface="Tahoma"/>
              </a:rPr>
              <a:t> 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2a1ec0"/>
                </a:solidFill>
                <a:latin typeface="Tahoma"/>
              </a:rPr>
              <a:t>Основні принципи   проектної діяльності :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Варіатив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Особистісний фактор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Навчання із захопленням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Комплекс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Результативні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2a1ec0"/>
                </a:solidFill>
                <a:latin typeface="Tahoma"/>
              </a:rPr>
              <a:t>Рефлексі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5440" y="1599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облематизації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Цілевстановлення і планування змісту діяльності учні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рефлексії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езентації у різних форм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ошуку и вибору актуальної інформації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актичного застосування знань ,актуалізації знан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ahoma"/>
              </a:rPr>
              <a:t>Проведення досліджень(аналіз,синтез,висування гіпотез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ychenik</cp:lastModifiedBy>
  <dcterms:modified xsi:type="dcterms:W3CDTF">2013-04-08T09:55:46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