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D48-97AC-4FBC-A308-1BE75878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C4A-2FE1-4DE1-A271-1EE5F193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10A-D644-4634-9A61-7EAECF66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E0E-CAE6-4895-96AD-2D3D0434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366-181D-4B92-8C68-2D7A6E42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A5C-9818-43EA-AD1A-DEBA168A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9A6-56F1-4255-8C7F-FEDA52B7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6D1-138E-4925-9475-C7831712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143-8CAA-413D-8E49-A1A08611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7D8-9FC5-441F-9255-47C5214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D4F-7067-4A9C-9DA7-CB8AAC59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062-52A2-4171-AF7E-F1F012B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95C1-4A9B-4126-ADCB-88B8BE25B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692360" y="1125360"/>
            <a:ext cx="7165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2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9"/>
          <p:cNvSpPr/>
          <p:nvPr/>
        </p:nvSpPr>
        <p:spPr>
          <a:xfrm>
            <a:off x="1908000" y="1844640"/>
            <a:ext cx="6985080" cy="396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ОФОРМИТИ ЗАЯВУ-РЕЄСТРАЦІЙНУ КАР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шлях – самостійне оформ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(сайт ХРЦОЯО </a:t>
            </a: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zno-kharkiv.org.ua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айт УЦОЯО </a:t>
            </a: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testportal.gov.ua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І шлях - оформлення з допомог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ункту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3"/>
          <p:cNvGrpSpPr/>
          <p:nvPr/>
        </p:nvGrpSpPr>
        <p:grpSpPr>
          <a:xfrm>
            <a:off x="3995640" y="260280"/>
            <a:ext cx="2286000" cy="1224000"/>
            <a:chOff x="3995640" y="260280"/>
            <a:chExt cx="2286000" cy="1224000"/>
          </a:xfrm>
        </p:grpSpPr>
        <p:pic>
          <p:nvPicPr>
            <p:cNvPr id="96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572000" y="26028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7"/>
            <p:cNvSpPr/>
            <p:nvPr/>
          </p:nvSpPr>
          <p:spPr>
            <a:xfrm>
              <a:off x="3995640" y="69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9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5"/>
          <p:cNvSpPr/>
          <p:nvPr/>
        </p:nvSpPr>
        <p:spPr>
          <a:xfrm>
            <a:off x="1835280" y="1413000"/>
            <a:ext cx="6769080" cy="5184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ДОДАТ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ю паспорт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перша сторі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бо свідоцтва про народження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особам, яким ста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 1 вересня 20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року не виповнилось 16 років) </a:t>
            </a:r>
            <a:r>
              <a:rPr b="0" lang="uk-UA" sz="20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ідку з місця навчання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за визначеним зразк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Tahoma"/>
              </a:rPr>
              <a:t>* копії завіряються самостійно (на кожній сторінц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Tahoma"/>
              </a:rPr>
              <a:t>напис З оригіналом згідно (без лапок), дата, підпи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Tahoma"/>
              </a:rPr>
              <a:t>прізвище та ініціа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995640" y="115920"/>
            <a:ext cx="2286000" cy="1224000"/>
            <a:chOff x="3995640" y="115920"/>
            <a:chExt cx="2286000" cy="1224000"/>
          </a:xfrm>
        </p:grpSpPr>
        <p:pic>
          <p:nvPicPr>
            <p:cNvPr id="104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572000" y="11592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7"/>
            <p:cNvSpPr/>
            <p:nvPr/>
          </p:nvSpPr>
          <p:spPr>
            <a:xfrm>
              <a:off x="3995640" y="5493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07" name="Picture 3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11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lang="uk-UA" sz="14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400"/>
              </a:br>
              <a:r>
                <a:rPr b="0" lang="uk-UA" sz="14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"/>
          <p:cNvSpPr/>
          <p:nvPr/>
        </p:nvSpPr>
        <p:spPr>
          <a:xfrm>
            <a:off x="1405080" y="260280"/>
            <a:ext cx="77389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ФОРМА ДОВІДКИ                                                   (видає навчальний закла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3348000" y="1052640"/>
            <a:ext cx="403560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9"/>
          <p:cNvSpPr/>
          <p:nvPr/>
        </p:nvSpPr>
        <p:spPr>
          <a:xfrm>
            <a:off x="1908000" y="2060640"/>
            <a:ext cx="6912000" cy="2881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АДІСЛАТИ ДО ХРЦОЯО ПОШТ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КОМПЛЕКТ ДОКУМЕ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3"/>
          <p:cNvGrpSpPr/>
          <p:nvPr/>
        </p:nvGrpSpPr>
        <p:grpSpPr>
          <a:xfrm>
            <a:off x="3995640" y="260280"/>
            <a:ext cx="2286000" cy="1224000"/>
            <a:chOff x="3995640" y="260280"/>
            <a:chExt cx="2286000" cy="1224000"/>
          </a:xfrm>
        </p:grpSpPr>
        <p:pic>
          <p:nvPicPr>
            <p:cNvPr id="118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572000" y="26028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17"/>
            <p:cNvSpPr/>
            <p:nvPr/>
          </p:nvSpPr>
          <p:spPr>
            <a:xfrm>
              <a:off x="3995640" y="69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21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3"/>
          <p:cNvSpPr/>
          <p:nvPr/>
        </p:nvSpPr>
        <p:spPr>
          <a:xfrm>
            <a:off x="2050920" y="1989000"/>
            <a:ext cx="6913800" cy="3240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ОТРИМАТИ ПОШТОЮ ВІД ХР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3300"/>
                </a:solidFill>
                <a:latin typeface="Arial"/>
              </a:rPr>
              <a:t>Сертифікат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ормаційний бюле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3"/>
          <p:cNvGrpSpPr/>
          <p:nvPr/>
        </p:nvGrpSpPr>
        <p:grpSpPr>
          <a:xfrm>
            <a:off x="4284720" y="333360"/>
            <a:ext cx="2286000" cy="1224000"/>
            <a:chOff x="4284720" y="333360"/>
            <a:chExt cx="2286000" cy="1224000"/>
          </a:xfrm>
        </p:grpSpPr>
        <p:pic>
          <p:nvPicPr>
            <p:cNvPr id="126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861080" y="33336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7"/>
            <p:cNvSpPr/>
            <p:nvPr/>
          </p:nvSpPr>
          <p:spPr>
            <a:xfrm>
              <a:off x="4284720" y="766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29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41400" y="5432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979640" y="806400"/>
            <a:ext cx="6873840" cy="47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Rectangle 4"/>
          <p:cNvSpPr/>
          <p:nvPr/>
        </p:nvSpPr>
        <p:spPr>
          <a:xfrm>
            <a:off x="2184480" y="907920"/>
            <a:ext cx="1235160" cy="154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827440" y="2092320"/>
            <a:ext cx="1106280" cy="615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630760" y="1523880"/>
            <a:ext cx="893880" cy="295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924680" y="1512720"/>
            <a:ext cx="878040" cy="31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547640" y="0"/>
            <a:ext cx="7417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ЕРТИФІКАТ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40" name="Picture 10" descr="logo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9"/>
          <p:cNvSpPr/>
          <p:nvPr/>
        </p:nvSpPr>
        <p:spPr>
          <a:xfrm>
            <a:off x="2195640" y="1844640"/>
            <a:ext cx="6696000" cy="2808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ЕРЕВІРИТИ НАЯВНІ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ЕЛЕКТРОННО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ЕРСОНАЛЬНОЇ СТОРІ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А САЙТІ У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3300"/>
                </a:solidFill>
                <a:uFillTx/>
                <a:latin typeface="Arial"/>
              </a:rPr>
              <a:t>testportal.gov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3"/>
          <p:cNvGrpSpPr/>
          <p:nvPr/>
        </p:nvGrpSpPr>
        <p:grpSpPr>
          <a:xfrm>
            <a:off x="4067280" y="260280"/>
            <a:ext cx="2286000" cy="1224000"/>
            <a:chOff x="4067280" y="260280"/>
            <a:chExt cx="2286000" cy="1224000"/>
          </a:xfrm>
        </p:grpSpPr>
        <p:pic>
          <p:nvPicPr>
            <p:cNvPr id="145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643640" y="26028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7"/>
            <p:cNvSpPr/>
            <p:nvPr/>
          </p:nvSpPr>
          <p:spPr>
            <a:xfrm>
              <a:off x="4067280" y="69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48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417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СОНАЛЬ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0"/>
          <p:cNvSpPr/>
          <p:nvPr/>
        </p:nvSpPr>
        <p:spPr>
          <a:xfrm>
            <a:off x="1835280" y="1577880"/>
            <a:ext cx="6984720" cy="199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ворюється на сайті УЦОЯ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туп здійснюється за номером Сертифіката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pin-кодом, указаним у нь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0"/>
          <p:cNvSpPr/>
          <p:nvPr/>
        </p:nvSpPr>
        <p:spPr>
          <a:xfrm>
            <a:off x="1846440" y="3943440"/>
            <a:ext cx="7046640" cy="2438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я щодо реєстраційних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Запрошення-перепуску із зазнач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ісця розташування пункту тестування та часу почат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можна роздрукувати самостій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у картку із результа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необхідно роздрукувати самостій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55" name="Picture 6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ОВТОРНА РЕЄСТРАЦІЯ             (до 05.03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60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20"/>
          <p:cNvSpPr/>
          <p:nvPr/>
        </p:nvSpPr>
        <p:spPr>
          <a:xfrm>
            <a:off x="1908000" y="4005360"/>
            <a:ext cx="6985080" cy="2592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відмови в реєстрації (за ріш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гламентної комісії – подання не всіх документів а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належне оформлення комплекту документів тощ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документів, усунувши причини, що с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ставою для від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1908000" y="170028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і внесення змін до реєстраційних да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діслати крім комплекту документів Сертифіка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риманий ран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66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Заголовок 1"/>
          <p:cNvSpPr/>
          <p:nvPr/>
        </p:nvSpPr>
        <p:spPr>
          <a:xfrm>
            <a:off x="1692360" y="62064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УНКТИ РЕЄСТРАЦІЇ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979640" y="1413000"/>
            <a:ext cx="662472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Харківській області створено 23 пункти реєстрації на базі вищих навчальних закладів І-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.а. (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ерелік пунктів реєстрації на сайті ХРЦОЯО з 01.01.2012 р.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ункти реєстрації працюють 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01.201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ку д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.02.201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жим роботи пункту реєстрації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неділок – п’ятниця з 9:00 до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ЗНО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34920" y="126792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переліку предметів, які необхідні для вступу у ВНЗ (за вибором абітурієнта) додано ЗНО з всесвітньої історії за напрям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іжнародні відносини: всі спеціальності, крім міжнародних економічних відно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іально-політичні науки: спеціальність - політологі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уманітарні науки: спеціальність - істор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ання можливості складання тестів не більше як із 4-х предме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ідвищення мінімальної кількості балів з профільних предметів до 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ня тестувань з української мови та літератури, математики та історії України у 2 сес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чення терміну реєстр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72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6-56,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КАЛЕНДАР ПРОВЕДЕ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34920" y="119664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дання реєстраційних документів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1.01. - 20.02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пробного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З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ім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5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сійська мов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7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1.05, 22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сесвітня істор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оземні мов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6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раїнська мова і літератур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8.05, 2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сторія Україн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5, 01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5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7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голошення результатів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0.05 – 01.07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додаткової сесії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8.06 - 23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5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КОМЕНДАЦІЇ ЩОДО ПІДГОТОВКИ       ДО ЗНО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АЙТ ХРЦОЯ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знайомлення із предметними програмами та характеристиками (специфікаціям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зділ «Методична підтрим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тренувального тестування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зділ «Тренувальне тестуванн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бірка завдань з кожного предмета укладена з урахуванням технічних характеристик тестів 2012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 тестування нараховується одразу після завершення виконання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 тестування нараховується у «сирих» тестових балах без переведення у шкалу [100-20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енувальне тестування є безкоштов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6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КОНСУЛЬТАЦІЇ НАУКОВО-МЕТОДИЧНОГО ВІДДІЛУ ХРЦО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1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8"/>
          <p:cNvSpPr/>
          <p:nvPr/>
        </p:nvSpPr>
        <p:spPr>
          <a:xfrm>
            <a:off x="2050920" y="2133720"/>
            <a:ext cx="75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оземна мо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неділ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5.00-1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імія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втор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.00-13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іологія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втор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.00-13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ізик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втор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00-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еографія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00-17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сторія Украї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есвітня історі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етве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00-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країнська м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літера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'ятниц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.00-1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'ятниц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00-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ЄСТРАЦІ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7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81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Заголовок 1"/>
          <p:cNvSpPr/>
          <p:nvPr/>
        </p:nvSpPr>
        <p:spPr>
          <a:xfrm>
            <a:off x="1908000" y="189000"/>
            <a:ext cx="68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ЄСТРАЦІЯ НА ЗНО-2012 :</a:t>
            </a:r>
            <a:br>
              <a:rPr sz="2400"/>
            </a:b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орядок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979640" y="1341360"/>
            <a:ext cx="6624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штова реєстрація з використанням інформаційних технологі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рмін реєстрації –             з 01.0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.0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еререєстрація –                з 01.0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до 05.03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9"/>
          <p:cNvSpPr/>
          <p:nvPr/>
        </p:nvSpPr>
        <p:spPr>
          <a:xfrm>
            <a:off x="1908000" y="2060640"/>
            <a:ext cx="6912000" cy="2881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ВЕРНУТИСЬ ДО ПРИЙМАЛЬ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МІСІЙ ВН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ЛЯ ОЗНАЙОМЛЕННЯ З ПЕРЕЛІ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УРСНИХ ПРЕДМЕ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995640" y="260280"/>
            <a:ext cx="2286000" cy="1224000"/>
            <a:chOff x="3995640" y="260280"/>
            <a:chExt cx="2286000" cy="1224000"/>
          </a:xfrm>
        </p:grpSpPr>
        <p:pic>
          <p:nvPicPr>
            <p:cNvPr id="88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572000" y="26028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17"/>
            <p:cNvSpPr/>
            <p:nvPr/>
          </p:nvSpPr>
          <p:spPr>
            <a:xfrm>
              <a:off x="3995640" y="69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1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Zver</cp:lastModifiedBy>
  <dcterms:modified xsi:type="dcterms:W3CDTF">2011-12-15T12:13:23Z</dcterms:modified>
  <cp:revision>75</cp:revision>
  <dc:subject/>
  <dc:title>Слайд 1</dc:title>
</cp:coreProperties>
</file>