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3FCA-F0A7-4565-AC67-812CD54B1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25A1-667C-4B18-B0D3-E8009388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9304-67EB-4E64-B8A0-E5029EE7E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C549-4568-46BA-A0A9-C20C0823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BA03-3DF1-441B-96CF-0FA3CF86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D73C-B548-438C-B60D-906EF515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B037-E4EA-42CF-B210-C748FF43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18B3-BE4D-42FA-86DE-404A0BD9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D52F-8CF1-4F12-A454-955EAA99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4FBD-5AFE-46B3-B53F-5284BF2A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792D-B219-4C41-B770-8D9C12A1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AEA8-4EC8-4F00-BC92-825BE481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F336-217F-479B-A7FF-96F707441B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42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Заголовок 1"/>
          <p:cNvSpPr/>
          <p:nvPr/>
        </p:nvSpPr>
        <p:spPr>
          <a:xfrm>
            <a:off x="1692360" y="1125360"/>
            <a:ext cx="7165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ОВНІШНЄ НЕЗАЛЕЖНЕ ОЦІНЮВАННЯ  </a:t>
            </a:r>
            <a:r>
              <a:rPr b="0" lang="en-US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012</a:t>
            </a: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рок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19"/>
          <p:cNvSpPr/>
          <p:nvPr/>
        </p:nvSpPr>
        <p:spPr>
          <a:xfrm>
            <a:off x="1908000" y="1844640"/>
            <a:ext cx="6985080" cy="396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ОФОРМИТИ ЗАЯВУ-РЕЄСТРАЦІЙНУ КАРТ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І шлях – самостійне оформл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(сайт ХРЦОЯО </a:t>
            </a:r>
            <a:r>
              <a:rPr b="0" lang="uk-UA" sz="2400" spc="-1" strike="noStrike">
                <a:solidFill>
                  <a:srgbClr val="ff3300"/>
                </a:solidFill>
                <a:latin typeface="Tahoma"/>
              </a:rPr>
              <a:t>zno-kharkiv.org.ua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сайт УЦОЯО </a:t>
            </a:r>
            <a:r>
              <a:rPr b="0" lang="uk-UA" sz="2400" spc="-1" strike="noStrike">
                <a:solidFill>
                  <a:srgbClr val="ff3300"/>
                </a:solidFill>
                <a:latin typeface="Tahoma"/>
              </a:rPr>
              <a:t>testportal.gov.ua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ІІ шлях - оформлення з допомого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пункту реєстра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3"/>
          <p:cNvGrpSpPr/>
          <p:nvPr/>
        </p:nvGrpSpPr>
        <p:grpSpPr>
          <a:xfrm>
            <a:off x="3995640" y="260280"/>
            <a:ext cx="2286000" cy="1224000"/>
            <a:chOff x="3995640" y="260280"/>
            <a:chExt cx="2286000" cy="1224000"/>
          </a:xfrm>
        </p:grpSpPr>
        <p:pic>
          <p:nvPicPr>
            <p:cNvPr id="96" name="Picture 16" descr="MMj02545000000[1]"/>
            <p:cNvPicPr/>
            <p:nvPr/>
          </p:nvPicPr>
          <p:blipFill>
            <a:blip r:embed="rId2"/>
            <a:stretch/>
          </p:blipFill>
          <p:spPr>
            <a:xfrm>
              <a:off x="4572000" y="260280"/>
              <a:ext cx="12952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Rectangle 17"/>
            <p:cNvSpPr/>
            <p:nvPr/>
          </p:nvSpPr>
          <p:spPr>
            <a:xfrm>
              <a:off x="3995640" y="6937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uk-UA" sz="2400" spc="-1" strike="noStrike">
                  <a:solidFill>
                    <a:srgbClr val="808080"/>
                  </a:solidFill>
                  <a:latin typeface="Tahoma"/>
                </a:rPr>
                <a:t>  </a:t>
              </a: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КРОК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6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99" name="Picture 7" descr="logo"/>
            <p:cNvPicPr/>
            <p:nvPr/>
          </p:nvPicPr>
          <p:blipFill>
            <a:blip r:embed="rId3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9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25"/>
          <p:cNvSpPr/>
          <p:nvPr/>
        </p:nvSpPr>
        <p:spPr>
          <a:xfrm>
            <a:off x="1835280" y="1413000"/>
            <a:ext cx="6769080" cy="5184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ДОДАТИ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опію паспорта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(перша сторін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бо свідоцтва про народження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(особам, яким ста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на 1 вересня 20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року не виповнилось 16 років) </a:t>
            </a:r>
            <a:r>
              <a:rPr b="0" lang="uk-UA" sz="20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відку з місця навчання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(за визначеним зразк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3300"/>
                </a:solidFill>
                <a:latin typeface="Tahoma"/>
              </a:rPr>
              <a:t>* копії завіряються самостійно (на кожній сторінц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3300"/>
                </a:solidFill>
                <a:latin typeface="Tahoma"/>
              </a:rPr>
              <a:t>напис З оригіналом згідно (без лапок), дата, підпис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3300"/>
                </a:solidFill>
                <a:latin typeface="Tahoma"/>
              </a:rPr>
              <a:t>прізвище та ініціал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5"/>
          <p:cNvGrpSpPr/>
          <p:nvPr/>
        </p:nvGrpSpPr>
        <p:grpSpPr>
          <a:xfrm>
            <a:off x="3995640" y="115920"/>
            <a:ext cx="2286000" cy="1224000"/>
            <a:chOff x="3995640" y="115920"/>
            <a:chExt cx="2286000" cy="1224000"/>
          </a:xfrm>
        </p:grpSpPr>
        <p:pic>
          <p:nvPicPr>
            <p:cNvPr id="104" name="Picture 16" descr="MMj02545000000[1]"/>
            <p:cNvPicPr/>
            <p:nvPr/>
          </p:nvPicPr>
          <p:blipFill>
            <a:blip r:embed="rId2"/>
            <a:stretch/>
          </p:blipFill>
          <p:spPr>
            <a:xfrm>
              <a:off x="4572000" y="115920"/>
              <a:ext cx="12952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17"/>
            <p:cNvSpPr/>
            <p:nvPr/>
          </p:nvSpPr>
          <p:spPr>
            <a:xfrm>
              <a:off x="3995640" y="54936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uk-UA" sz="2400" spc="-1" strike="noStrike">
                  <a:solidFill>
                    <a:srgbClr val="808080"/>
                  </a:solidFill>
                  <a:latin typeface="Tahoma"/>
                </a:rPr>
                <a:t>  </a:t>
              </a: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КРОК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07" name="Picture 3" descr="logo"/>
            <p:cNvPicPr/>
            <p:nvPr/>
          </p:nvPicPr>
          <p:blipFill>
            <a:blip r:embed="rId3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11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4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400"/>
              </a:br>
              <a:r>
                <a:rPr b="0" lang="uk-UA" sz="14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400"/>
              </a:br>
              <a:r>
                <a:rPr b="0" lang="uk-UA" sz="14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"/>
          <p:cNvSpPr/>
          <p:nvPr/>
        </p:nvSpPr>
        <p:spPr>
          <a:xfrm>
            <a:off x="1405080" y="260280"/>
            <a:ext cx="773892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ФОРМА ДОВІДКИ                                                   (видає навчальний закла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2"/>
          <a:stretch/>
        </p:blipFill>
        <p:spPr>
          <a:xfrm>
            <a:off x="3348000" y="1052640"/>
            <a:ext cx="4035600" cy="554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19"/>
          <p:cNvSpPr/>
          <p:nvPr/>
        </p:nvSpPr>
        <p:spPr>
          <a:xfrm>
            <a:off x="1908000" y="2060640"/>
            <a:ext cx="6912000" cy="28810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НАДІСЛАТИ ДО ХРЦОЯО ПОШТ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КОМПЛЕКТ ДОКУМЕНТ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3"/>
          <p:cNvGrpSpPr/>
          <p:nvPr/>
        </p:nvGrpSpPr>
        <p:grpSpPr>
          <a:xfrm>
            <a:off x="3995640" y="260280"/>
            <a:ext cx="2286000" cy="1224000"/>
            <a:chOff x="3995640" y="260280"/>
            <a:chExt cx="2286000" cy="1224000"/>
          </a:xfrm>
        </p:grpSpPr>
        <p:pic>
          <p:nvPicPr>
            <p:cNvPr id="118" name="Picture 16" descr="MMj02545000000[1]"/>
            <p:cNvPicPr/>
            <p:nvPr/>
          </p:nvPicPr>
          <p:blipFill>
            <a:blip r:embed="rId2"/>
            <a:stretch/>
          </p:blipFill>
          <p:spPr>
            <a:xfrm>
              <a:off x="4572000" y="260280"/>
              <a:ext cx="12952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17"/>
            <p:cNvSpPr/>
            <p:nvPr/>
          </p:nvSpPr>
          <p:spPr>
            <a:xfrm>
              <a:off x="3995640" y="6937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uk-UA" sz="2400" spc="-1" strike="noStrike">
                  <a:solidFill>
                    <a:srgbClr val="808080"/>
                  </a:solidFill>
                  <a:latin typeface="Tahoma"/>
                </a:rPr>
                <a:t>  </a:t>
              </a: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КРОК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6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21" name="Picture 7" descr="logo"/>
            <p:cNvPicPr/>
            <p:nvPr/>
          </p:nvPicPr>
          <p:blipFill>
            <a:blip r:embed="rId3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9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3"/>
          <p:cNvSpPr/>
          <p:nvPr/>
        </p:nvSpPr>
        <p:spPr>
          <a:xfrm>
            <a:off x="2050920" y="1989000"/>
            <a:ext cx="6913800" cy="32403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ОТРИМАТИ ПОШТОЮ ВІД ХРЦОЯ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3300"/>
                </a:solidFill>
                <a:latin typeface="Arial"/>
              </a:rPr>
              <a:t>Сертифікат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формаційний бюлет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13"/>
          <p:cNvGrpSpPr/>
          <p:nvPr/>
        </p:nvGrpSpPr>
        <p:grpSpPr>
          <a:xfrm>
            <a:off x="4284720" y="333360"/>
            <a:ext cx="2286000" cy="1224000"/>
            <a:chOff x="4284720" y="333360"/>
            <a:chExt cx="2286000" cy="1224000"/>
          </a:xfrm>
        </p:grpSpPr>
        <p:pic>
          <p:nvPicPr>
            <p:cNvPr id="126" name="Picture 16" descr="MMj02545000000[1]"/>
            <p:cNvPicPr/>
            <p:nvPr/>
          </p:nvPicPr>
          <p:blipFill>
            <a:blip r:embed="rId2"/>
            <a:stretch/>
          </p:blipFill>
          <p:spPr>
            <a:xfrm>
              <a:off x="4861080" y="333360"/>
              <a:ext cx="12952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ctangle 17"/>
            <p:cNvSpPr/>
            <p:nvPr/>
          </p:nvSpPr>
          <p:spPr>
            <a:xfrm>
              <a:off x="4284720" y="7668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uk-UA" sz="2400" spc="-1" strike="noStrike">
                  <a:solidFill>
                    <a:srgbClr val="808080"/>
                  </a:solidFill>
                  <a:latin typeface="Tahoma"/>
                </a:rPr>
                <a:t>  </a:t>
              </a: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КРОК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6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29" name="Picture 7" descr="logo"/>
            <p:cNvPicPr/>
            <p:nvPr/>
          </p:nvPicPr>
          <p:blipFill>
            <a:blip r:embed="rId3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9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4541400" y="54324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1979640" y="806400"/>
            <a:ext cx="6873840" cy="478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4" name="Rectangle 4"/>
          <p:cNvSpPr/>
          <p:nvPr/>
        </p:nvSpPr>
        <p:spPr>
          <a:xfrm>
            <a:off x="2184480" y="907920"/>
            <a:ext cx="1235160" cy="1543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827440" y="2092320"/>
            <a:ext cx="1106280" cy="615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630760" y="1523880"/>
            <a:ext cx="893880" cy="295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7924680" y="1512720"/>
            <a:ext cx="878040" cy="314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1547640" y="0"/>
            <a:ext cx="7417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СЕРТИФІКАТ З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9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40" name="Picture 10" descr="logo"/>
            <p:cNvPicPr/>
            <p:nvPr/>
          </p:nvPicPr>
          <p:blipFill>
            <a:blip r:embed="rId2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2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19"/>
          <p:cNvSpPr/>
          <p:nvPr/>
        </p:nvSpPr>
        <p:spPr>
          <a:xfrm>
            <a:off x="2195640" y="1844640"/>
            <a:ext cx="6696000" cy="28083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ПЕРЕВІРИТИ НАЯВНІ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ЕЛЕКТРОННО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ПЕРСОНАЛЬНОЇ СТОРІ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НА САЙТІ УЦОЯ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3300"/>
                </a:solidFill>
                <a:uFillTx/>
                <a:latin typeface="Arial"/>
              </a:rPr>
              <a:t>testportal.gov.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3"/>
          <p:cNvGrpSpPr/>
          <p:nvPr/>
        </p:nvGrpSpPr>
        <p:grpSpPr>
          <a:xfrm>
            <a:off x="4067280" y="260280"/>
            <a:ext cx="2286000" cy="1224000"/>
            <a:chOff x="4067280" y="260280"/>
            <a:chExt cx="2286000" cy="1224000"/>
          </a:xfrm>
        </p:grpSpPr>
        <p:pic>
          <p:nvPicPr>
            <p:cNvPr id="145" name="Picture 16" descr="MMj02545000000[1]"/>
            <p:cNvPicPr/>
            <p:nvPr/>
          </p:nvPicPr>
          <p:blipFill>
            <a:blip r:embed="rId2"/>
            <a:stretch/>
          </p:blipFill>
          <p:spPr>
            <a:xfrm>
              <a:off x="4643640" y="260280"/>
              <a:ext cx="12952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17"/>
            <p:cNvSpPr/>
            <p:nvPr/>
          </p:nvSpPr>
          <p:spPr>
            <a:xfrm>
              <a:off x="4067280" y="6937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uk-UA" sz="2400" spc="-1" strike="noStrike">
                  <a:solidFill>
                    <a:srgbClr val="808080"/>
                  </a:solidFill>
                  <a:latin typeface="Tahoma"/>
                </a:rPr>
                <a:t>  </a:t>
              </a: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КРОК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6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48" name="Picture 7" descr="logo"/>
            <p:cNvPicPr/>
            <p:nvPr/>
          </p:nvPicPr>
          <p:blipFill>
            <a:blip r:embed="rId3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41708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ПЕРСОНАЛЬНА СТОРІ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0"/>
          <p:cNvSpPr/>
          <p:nvPr/>
        </p:nvSpPr>
        <p:spPr>
          <a:xfrm>
            <a:off x="1835280" y="1577880"/>
            <a:ext cx="6984720" cy="1994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ворюється на сайті УЦОЯ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ступ здійснюється за номером Сертифіката 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pin-кодом, указаним у нь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0"/>
          <p:cNvSpPr/>
          <p:nvPr/>
        </p:nvSpPr>
        <p:spPr>
          <a:xfrm>
            <a:off x="1846440" y="3943440"/>
            <a:ext cx="7046640" cy="24382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озміщується інформація щодо реєстраційних да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озміщується Запрошення-перепуску із зазначення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ісця розташування пункту тестування та часу почат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НО, яку можна роздрукувати самостій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озміщується Інформаційну картку із результат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НО, яку необхідно роздрукувати самостій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55" name="Picture 6" descr="logo"/>
            <p:cNvPicPr/>
            <p:nvPr/>
          </p:nvPicPr>
          <p:blipFill>
            <a:blip r:embed="rId3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8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ПОВТОРНА РЕЄСТРАЦІЯ             (до 05.03.20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60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AutoShape 20"/>
          <p:cNvSpPr/>
          <p:nvPr/>
        </p:nvSpPr>
        <p:spPr>
          <a:xfrm>
            <a:off x="1908000" y="4005360"/>
            <a:ext cx="6985080" cy="25923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 разі відмови в реєстрації (за рішення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егламентної комісії – подання не всіх документів аб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належне оформлення комплекту документів тощ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обхідно повторно пройти реєстрацію та надісла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омплект документів, усунувши причини, що ста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ідставою для відм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0"/>
          <p:cNvSpPr/>
          <p:nvPr/>
        </p:nvSpPr>
        <p:spPr>
          <a:xfrm>
            <a:off x="1908000" y="1700280"/>
            <a:ext cx="6985080" cy="18716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разі внесення змін до реєстраційних дан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обхідно повторно пройти реєстрацію 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діслати крім комплекту документів Сертифіка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триманий рані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66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Заголовок 1"/>
          <p:cNvSpPr/>
          <p:nvPr/>
        </p:nvSpPr>
        <p:spPr>
          <a:xfrm>
            <a:off x="1692360" y="620640"/>
            <a:ext cx="734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ПУНКТИ РЕЄСТРАЦІЇ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979640" y="1413000"/>
            <a:ext cx="6624720" cy="49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 Харківській області створено 23 пункти реєстрації на базі вищих навчальних закладів І-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р.а. (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перелік пунктів реєстрації на сайті ХРЦОЯО з 01.01.2012 р.)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ункти реєстрації працюють з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3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.01.2012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року до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0.02.2012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ро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жим роботи пункту реєстрації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понеділок – п’ятниця з 9:00 до 17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ОСОБЛИВОСТІ ЗНО-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34920" y="1267920"/>
            <a:ext cx="7019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 переліку предметів, які необхідні для вступу у ВНЗ (за вибором абітурієнта) додано ЗНО з всесвітньої історії за напрям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іжнародні відносини: всі спеціальності, крім міжнародних економічних відноси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ціально-політичні науки: спеціальність - політологі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уманітарні науки: спеціальність - історі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дання можливості складання тестів не більше як із 4-х предмет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ідвищення мінімальної кількості балів з профільних предметів до 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дення тестувань з української мови та літератури, математики та історії України у 2 сес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чення терміну реєстра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4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49" name="Picture 5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7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72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8"/>
          <p:cNvSpPr/>
          <p:nvPr/>
        </p:nvSpPr>
        <p:spPr>
          <a:xfrm>
            <a:off x="1908000" y="765000"/>
            <a:ext cx="723600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елефон інформаційної служб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(057)705-06-56, 705-07-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ак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(057)705-15-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Електронна пош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office@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ай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орум: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ww.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Адре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майдан Свободи, 6, офіс 463, м. Харків, 61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КАЛЕНДАР ПРОВЕДЕНН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34920" y="1196640"/>
            <a:ext cx="7019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одання реєстраційних документів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01.01. - 20.02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ведення пробного ЗНО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4.03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31.03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ведення З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хімія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5.05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російська мова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7.05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географія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9.05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математика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1.05, 22.05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сесвітня історія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4.05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іноземні мови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6.05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українська мова і література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8.05, 29.05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історія України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31.05, 01.06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фізика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05.06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біологія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07.06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голошення результатів ЗНО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30.05 – 01.07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ведення додаткової сесії ЗНО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8.06 - 23.06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4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55" name="Picture 5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7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ЕКОМЕНДАЦІЇ ЩОДО ПІДГОТОВКИ       ДО ЗНО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60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САЙТ ХРЦОЯ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79640" y="1483920"/>
            <a:ext cx="702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12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знайомлення із предметними програмами та характеристиками (специфікаціями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зділ «Методична підтрим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2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ведення тренувального тестування -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зділ «Тренувальне тестуванн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125"/>
              </a:spcBef>
              <a:buClr>
                <a:srgbClr val="ff505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бірка завдань з кожного предмета укладена з урахуванням технічних характеристик тестів 2012 ро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125"/>
              </a:spcBef>
              <a:buClr>
                <a:srgbClr val="ff505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зультат тестування нараховується одразу після завершення виконання завд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125"/>
              </a:spcBef>
              <a:buClr>
                <a:srgbClr val="ff505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зультат тестування нараховується у «сирих» тестових балах без переведення у шкалу [100-20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ренувальне тестування є безкоштовн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66" name="Picture 5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7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КОНСУЛЬТАЦІЇ НАУКОВО-МЕТОДИЧНОГО ВІДДІЛУ ХРЦОЯ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4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71" name="Picture 5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7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8"/>
          <p:cNvSpPr/>
          <p:nvPr/>
        </p:nvSpPr>
        <p:spPr>
          <a:xfrm>
            <a:off x="2050920" y="2133720"/>
            <a:ext cx="752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оземна мов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неділо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5.00-18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Хімія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второ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0.00-13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іологія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второ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0.00-13.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Фізика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второ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4.00-17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еографія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ере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4.00-17.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сторія Україн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сесвітня історі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четве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4.00-17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країнська м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 літерату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'ятниц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9.00-12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атемати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'ятниц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4.00-17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ЕЄСТРАЦІ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77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81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Заголовок 1"/>
          <p:cNvSpPr/>
          <p:nvPr/>
        </p:nvSpPr>
        <p:spPr>
          <a:xfrm>
            <a:off x="1908000" y="189000"/>
            <a:ext cx="684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РЕЄСТРАЦІЯ НА ЗНО-2012 :</a:t>
            </a:r>
            <a:br>
              <a:rPr sz="2400"/>
            </a:b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порядок реєстра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979640" y="1341360"/>
            <a:ext cx="66247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Поштова реєстрація з використанням інформаційних технологі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Термін реєстрації –             з 01.01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до 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.02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Перереєстрація –                з 01.01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до 05.03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19"/>
          <p:cNvSpPr/>
          <p:nvPr/>
        </p:nvSpPr>
        <p:spPr>
          <a:xfrm>
            <a:off x="1908000" y="2060640"/>
            <a:ext cx="6912000" cy="28810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ЗВЕРНУТИСЬ ДО ПРИЙМАЛЬН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МІСІЙ ВНЗ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ЛЯ ОЗНАЙОМЛЕННЯ З ПЕРЕЛІ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КУРСНИХ ПРЕДМЕТ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13"/>
          <p:cNvGrpSpPr/>
          <p:nvPr/>
        </p:nvGrpSpPr>
        <p:grpSpPr>
          <a:xfrm>
            <a:off x="3995640" y="260280"/>
            <a:ext cx="2286000" cy="1224000"/>
            <a:chOff x="3995640" y="260280"/>
            <a:chExt cx="2286000" cy="1224000"/>
          </a:xfrm>
        </p:grpSpPr>
        <p:pic>
          <p:nvPicPr>
            <p:cNvPr id="88" name="Picture 16" descr="MMj02545000000[1]"/>
            <p:cNvPicPr/>
            <p:nvPr/>
          </p:nvPicPr>
          <p:blipFill>
            <a:blip r:embed="rId2"/>
            <a:stretch/>
          </p:blipFill>
          <p:spPr>
            <a:xfrm>
              <a:off x="4572000" y="260280"/>
              <a:ext cx="12952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Rectangle 17"/>
            <p:cNvSpPr/>
            <p:nvPr/>
          </p:nvSpPr>
          <p:spPr>
            <a:xfrm>
              <a:off x="3995640" y="6937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uk-UA" sz="2400" spc="-1" strike="noStrike">
                  <a:solidFill>
                    <a:srgbClr val="808080"/>
                  </a:solidFill>
                  <a:latin typeface="Tahoma"/>
                </a:rPr>
                <a:t>  </a:t>
              </a: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КРОК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6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91" name="Picture 7" descr="logo"/>
            <p:cNvPicPr/>
            <p:nvPr/>
          </p:nvPicPr>
          <p:blipFill>
            <a:blip r:embed="rId3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9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8:13:26Z</dcterms:created>
  <dc:creator>N.Rusanova</dc:creator>
  <dc:description/>
  <dc:language>en-US</dc:language>
  <cp:lastModifiedBy>Zver</cp:lastModifiedBy>
  <dcterms:modified xsi:type="dcterms:W3CDTF">2011-12-15T12:13:23Z</dcterms:modified>
  <cp:revision>75</cp:revision>
  <dc:subject/>
  <dc:title>Слайд 1</dc:title>
</cp:coreProperties>
</file>