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4927-3D0D-492A-9C94-211E22F7F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7783-6E67-4E8E-850F-58B2473E15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FD3-E580-45CD-8560-00828B79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C9E-A8DA-49D6-8E55-C65EFC65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957-0EBD-4AE8-A7FB-A48EDB63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100-6623-4BA5-A21D-9EDD5855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140-AE0B-4B11-94F1-0DB961E2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7FC-F97C-465D-B7AC-049A3CA0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586-50E0-4B9E-9922-3F2F8013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78D-D629-4BA0-AA4E-9BCF9D3E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ABC-0525-43D4-B135-661B45A6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E9F-4C96-47DD-B78E-E53EB617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762-CF69-4E30-8AEB-56094C81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D04-5953-4989-9778-22BA9F12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3C2F-B718-4960-8288-294D43FED6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хема 3" descr=""/>
          <p:cNvPicPr/>
          <p:nvPr/>
        </p:nvPicPr>
        <p:blipFill>
          <a:blip r:embed="rId1"/>
          <a:stretch/>
        </p:blipFill>
        <p:spPr>
          <a:xfrm>
            <a:off x="487440" y="622440"/>
            <a:ext cx="8454960" cy="622908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2"/>
          <p:cNvSpPr/>
          <p:nvPr/>
        </p:nvSpPr>
        <p:spPr>
          <a:xfrm>
            <a:off x="395280" y="189000"/>
            <a:ext cx="81374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ЗНО - 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хема 3" descr=""/>
          <p:cNvPicPr/>
          <p:nvPr/>
        </p:nvPicPr>
        <p:blipFill>
          <a:blip r:embed="rId1"/>
          <a:stretch/>
        </p:blipFill>
        <p:spPr>
          <a:xfrm>
            <a:off x="-517680" y="152280"/>
            <a:ext cx="9850680" cy="67057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5"/>
          <p:cNvSpPr/>
          <p:nvPr/>
        </p:nvSpPr>
        <p:spPr>
          <a:xfrm flipH="1">
            <a:off x="6877080" y="1989000"/>
            <a:ext cx="1992240" cy="1252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6881760" y="2205000"/>
            <a:ext cx="2262240" cy="132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Группа 1"/>
          <p:cNvGrpSpPr/>
          <p:nvPr/>
        </p:nvGrpSpPr>
        <p:grpSpPr>
          <a:xfrm>
            <a:off x="401760" y="1557360"/>
            <a:ext cx="8742240" cy="4680000"/>
            <a:chOff x="401760" y="1557360"/>
            <a:chExt cx="8742240" cy="4680000"/>
          </a:xfrm>
        </p:grpSpPr>
        <p:grpSp>
          <p:nvGrpSpPr>
            <p:cNvPr id="54" name="Фигура, имеющая форму буквы L 13"/>
            <p:cNvGrpSpPr/>
            <p:nvPr/>
          </p:nvGrpSpPr>
          <p:grpSpPr>
            <a:xfrm>
              <a:off x="401760" y="2656080"/>
              <a:ext cx="4211640" cy="2511720"/>
              <a:chOff x="401760" y="2656080"/>
              <a:chExt cx="4211640" cy="2511720"/>
            </a:xfrm>
          </p:grpSpPr>
          <p:pic>
            <p:nvPicPr>
              <p:cNvPr id="55" name="Фигура, имеющая форму буквы L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01760" y="2656080"/>
                <a:ext cx="4211640" cy="251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5400000">
                <a:off x="2315160" y="837000"/>
                <a:ext cx="385200" cy="40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Полилиния 14"/>
            <p:cNvSpPr/>
            <p:nvPr/>
          </p:nvSpPr>
          <p:spPr>
            <a:xfrm>
              <a:off x="866880" y="3086640"/>
              <a:ext cx="3697560" cy="315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Колегія Міністерства освіти і науки України ухвалила провести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пробаційне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НО з іноземних мов з використанням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ворівневих (рівень В1 і рівень В2) предметних тестів та аудіюванн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Равнобедренный треугольник 15"/>
            <p:cNvGrpSpPr/>
            <p:nvPr/>
          </p:nvGrpSpPr>
          <p:grpSpPr>
            <a:xfrm>
              <a:off x="3795120" y="1557360"/>
              <a:ext cx="830160" cy="808920"/>
              <a:chOff x="3795120" y="1557360"/>
              <a:chExt cx="830160" cy="808920"/>
            </a:xfrm>
          </p:grpSpPr>
          <p:pic>
            <p:nvPicPr>
              <p:cNvPr id="59" name="Равнобедренный треугольник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3795120" y="1557360"/>
                <a:ext cx="830160" cy="80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4215240" y="1942920"/>
                <a:ext cx="34920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Фигура, имеющая форму буквы L 16"/>
            <p:cNvGrpSpPr/>
            <p:nvPr/>
          </p:nvGrpSpPr>
          <p:grpSpPr>
            <a:xfrm>
              <a:off x="4926240" y="1563120"/>
              <a:ext cx="4217760" cy="2517480"/>
              <a:chOff x="4926240" y="1563120"/>
              <a:chExt cx="4217760" cy="2517480"/>
            </a:xfrm>
          </p:grpSpPr>
          <p:pic>
            <p:nvPicPr>
              <p:cNvPr id="62" name="Фигура, имеющая форму буквы L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4926240" y="1563120"/>
                <a:ext cx="4217760" cy="25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5400000">
                <a:off x="6841440" y="-253440"/>
                <a:ext cx="385200" cy="40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Полилиния 17"/>
            <p:cNvSpPr/>
            <p:nvPr/>
          </p:nvSpPr>
          <p:spPr>
            <a:xfrm>
              <a:off x="5393520" y="1996920"/>
              <a:ext cx="3696120" cy="315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провадження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НО з іноземних мов з використанням дворівневих предметних тестів та аудіюванн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Прямоугольник 6"/>
          <p:cNvSpPr/>
          <p:nvPr/>
        </p:nvSpPr>
        <p:spPr>
          <a:xfrm>
            <a:off x="0" y="530064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ст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стів визначено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ми ЗНО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англійської, іспанської, німецької та французької мов, затвердженими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ом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іністерства освіти і науки України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03 лютого 2016 року № 77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 затвердження програм зовнішнього незалежного оцінювання для осіб, які бажають здобувати вищу освіту на основі повної загальної середньої освіт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2"/>
          <p:cNvSpPr/>
          <p:nvPr/>
        </p:nvSpPr>
        <p:spPr>
          <a:xfrm>
            <a:off x="255600" y="349200"/>
            <a:ext cx="8277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Century Schoolbook"/>
              </a:rPr>
              <a:t>ЗНО з іноземних 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6-09-26T06:10:03Z</dcterms:modified>
  <cp:revision>748</cp:revision>
  <dc:subject/>
  <dc:title>Diapositiva 1</dc:title>
</cp:coreProperties>
</file>